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FE6B-278C-47D3-BB29-C062E45E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D9E3-278D-4A51-BE0B-ACAC6103F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EC2D-55A9-451D-B1C1-21040988A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43D3-8418-43B7-897D-49D02F915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B074-DBAD-425E-8B86-56AE7C95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389D-8EB5-404C-B0EB-38F4B135A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AA34-FC42-402A-86B5-7E705B042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D34F-4763-46DF-B220-7B6EAC76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69C4-2D6E-45E6-90AE-7F3AF7CC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7A2C-A136-4447-84B3-21B0EF047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F399-F219-4263-AA85-C4455686B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234-88FF-4619-9961-2A2AE897F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4B4A-CAF6-44BC-9E14-C6FAC0EE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EAAB-5229-499A-9AF4-CBE4609C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BD05-ACBE-4FE4-921C-121356443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0A9B-B86C-49B8-8644-358AE748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D413-E338-4E5F-B17E-D3EE80E82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0E91-EF2E-4D2B-8A60-5BAF7DB10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855D-0DC3-4537-9783-052727B8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17B1-12E5-49D7-9D72-5C8273F7A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177F-62CE-4F5B-B902-B50C1523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4C6F-06E8-405C-AA6C-A77093BE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4B83-B778-4E44-BC14-EF6B13242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E906-C332-4EA8-83C1-1D2BFEE0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462F-9149-4400-83B2-ABEE3C1B6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07BC-972F-43E1-810E-9072EE206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F68-BE9C-4B4C-8291-81262B4B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5DB-464E-44EB-B064-6FAF5057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D80-9D86-4257-B5DD-EA44DC68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A43-30D6-46DF-A238-3DDD57E5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038-6982-4293-AB99-56B701EA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000-299C-4C34-9CA0-B0F22DAE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272-696C-441E-97F8-A618D836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696-52AD-4CE9-B967-419B72F1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EE8-2F7F-45A7-B366-778D2680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4D3-A3AC-4AD5-A9BE-F00ED5D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48A-79C2-4D96-8F02-6BF26A93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CB6-7241-4C1C-8425-6AAF566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34F6-DD91-4402-B629-9726EA82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21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Dale made a cak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Who ate the ca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344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yster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hat Dale Di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hat Dale Fou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</a:tr>
              <a:tr h="30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The Missing Cake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practice identifying problems and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Does Your Pet Love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7" descr="MCj04381270000[1]"/>
          <p:cNvPicPr/>
          <p:nvPr/>
        </p:nvPicPr>
        <p:blipFill>
          <a:blip r:embed="rId1"/>
          <a:stretch/>
        </p:blipFill>
        <p:spPr>
          <a:xfrm>
            <a:off x="1905120" y="2743200"/>
            <a:ext cx="5479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at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o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ympat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34120" y="1828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let others know you are sorry they feel bad, you are showing sympath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sympathetic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4310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57200" y="58672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irl show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mpath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her friend that was up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nsit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334120" y="182880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sensitive, you care about other people’s feeling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n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er daugh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sensitive"/>
          <p:cNvPicPr/>
          <p:nvPr/>
        </p:nvPicPr>
        <p:blipFill>
          <a:blip r:embed="rId1"/>
          <a:stretch/>
        </p:blipFill>
        <p:spPr>
          <a:xfrm>
            <a:off x="457200" y="1771560"/>
            <a:ext cx="4800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vo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952880" y="18288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devoted to someone, you love and want to take care of that pers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is child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devoted"/>
          <p:cNvPicPr/>
          <p:nvPr/>
        </p:nvPicPr>
        <p:blipFill>
          <a:blip r:embed="rId1"/>
          <a:stretch/>
        </p:blipFill>
        <p:spPr>
          <a:xfrm>
            <a:off x="1066680" y="1676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show how you would look if you felt sympathy for a sick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ad.  On my signal, turn to your partner tell them what you would say that shows you ar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tell them about someone that you are devoted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Plan a party for a friend who has been away. What foods would you ser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games would you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make ______ to 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e would pla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152280" y="1523880"/>
            <a:ext cx="8991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itlyn bottle-fed the calf four times a 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eph has one dog named Yo-Y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n has two cats named Boo Boo and Neo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0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3" descr="lesson21"/>
          <p:cNvPicPr/>
          <p:nvPr/>
        </p:nvPicPr>
        <p:blipFill>
          <a:blip r:embed="rId1"/>
          <a:stretch/>
        </p:blipFill>
        <p:spPr>
          <a:xfrm>
            <a:off x="1066680" y="0"/>
            <a:ext cx="630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how to write a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la42"/>
          <p:cNvPicPr/>
          <p:nvPr/>
        </p:nvPicPr>
        <p:blipFill>
          <a:blip r:embed="rId1"/>
          <a:stretch/>
        </p:blipFill>
        <p:spPr>
          <a:xfrm>
            <a:off x="2004840" y="0"/>
            <a:ext cx="51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7620120" y="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how to write a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28600" y="304920"/>
            <a:ext cx="80773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setting and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e starts with a character’s name and a c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acters tell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ctate a 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rs. Babcock: We will have fun to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how to write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for a 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alliteration in lit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Bear Wants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Pj04066830000[1]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MPj04228180000[1]"/>
          <p:cNvPicPr/>
          <p:nvPr/>
        </p:nvPicPr>
        <p:blipFill>
          <a:blip r:embed="rId1"/>
          <a:stretch/>
        </p:blipFill>
        <p:spPr>
          <a:xfrm>
            <a:off x="4724280" y="990720"/>
            <a:ext cx="374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a/ a-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a/ sound, make an a with you fingers.  When I say a word that does not have /a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a/ sound in the middle, make an /a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533520" y="1600200"/>
            <a:ext cx="4038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21932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2193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182880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18288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572000" y="12193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200400" y="274320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34340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457200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3429000" y="3352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4038480" y="3352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4572000" y="3352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5"/>
          <p:cNvSpPr/>
          <p:nvPr/>
        </p:nvSpPr>
        <p:spPr>
          <a:xfrm>
            <a:off x="3505320" y="41911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6"/>
          <p:cNvSpPr/>
          <p:nvPr/>
        </p:nvSpPr>
        <p:spPr>
          <a:xfrm>
            <a:off x="411480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4648320" y="41911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3352680" y="4800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0"/>
          <p:cNvSpPr/>
          <p:nvPr/>
        </p:nvSpPr>
        <p:spPr>
          <a:xfrm>
            <a:off x="44197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3"/>
          <p:cNvSpPr/>
          <p:nvPr/>
        </p:nvSpPr>
        <p:spPr>
          <a:xfrm>
            <a:off x="4343400" y="5638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3429000" y="5638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733920" y="2743200"/>
            <a:ext cx="2133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657600" y="480060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657600" y="5638680"/>
            <a:ext cx="2133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88620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800600" y="12952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396252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4876920" y="2133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4876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886200" y="3048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800600" y="56386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191120" y="1295280"/>
            <a:ext cx="2133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191120" y="2133720"/>
            <a:ext cx="2133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038480" y="304812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22T05:44:03Z</dcterms:modified>
  <cp:revision>142</cp:revision>
  <dc:subject/>
  <dc:title>Slide 1</dc:title>
</cp:coreProperties>
</file>