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F08C-AB2B-4073-8842-6FDB25BB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18A-0B0A-4D58-992D-63C327EB8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562-F61B-408B-8C7F-86BC3112F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E97-1B69-46BA-9DB1-D218F9FD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3929-BD79-4151-ABFB-D03E78DA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DA0-4BB4-4A10-8810-633AA6D61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BDB-B8CA-473F-960E-CD2E84056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4B11-ED6C-4A4C-868D-B703BC94A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904B-DA73-4B93-97E0-511E22A13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12A-CA90-40D3-90B1-9478C8248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8FE9-D3BA-444C-A63C-E77E9C85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D82-E568-484B-A23B-33AEACB6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EAE-E34F-4782-AC53-DABCF212B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61F3-DE96-49AB-805A-373D7C8A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7033-5782-4F6F-8560-A9A08866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455F-EC81-44AA-B89A-D605C895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C33-0867-473F-AB59-E3FA5121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64AF-0DB7-48C1-88C0-ACBA18229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106A-7DDA-4EF3-BD68-6C9B8F9FB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6C17-A9FE-422D-88BD-FE13F6D0D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0739-ADE5-42E8-BD17-5DCA59EEF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C3E-7909-4A1C-95D8-3C0D52BE4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711-A925-4F37-BA68-C4803A4B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C81-4118-45AA-9401-9AA4B539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B4B-DB13-494E-BFF7-4A7B2FD1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B79A-3668-4DED-AA82-05656C7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239-4F3D-4C05-9EA9-5728069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04D-EDA2-4E75-BF67-25F32214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4706-96B2-4DEC-85E0-5C31326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9AE-9102-4CCC-8F7E-A9FC484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01B-C654-4123-B879-B750BCF0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ACE-CDA2-4F56-8356-719D7A0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5DB-3F5B-4536-8FF6-E7F6425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431-7B69-455C-B7EA-01345A6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7995-D347-4775-AAA9-D6068C302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awley\My Documents\chalkboa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80880" y="129528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ebruary 11</a:t>
            </a:r>
            <a:r>
              <a:rPr b="1" lang="en-US" sz="5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esson 21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2057400" y="457200"/>
            <a:ext cx="5486400" cy="42670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"/>
          <p:cNvSpPr/>
          <p:nvPr/>
        </p:nvSpPr>
        <p:spPr>
          <a:xfrm>
            <a:off x="2070000" y="0"/>
            <a:ext cx="28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with Fl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286000" y="457200"/>
            <a:ext cx="510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rator:  One day Lionel went to feed Flake.  Flake was the class hamster.  He lived near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onel:  Oh, 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 Sanchez:  What’s wrong, Lion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172200" y="0"/>
            <a:ext cx="311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Objective:  To read fluently in a manner that soun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ike natural speech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1405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E page T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86600" y="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identify the problem and solution in a stor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0"/>
            <a:ext cx="67816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/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Many stories begin with a problem that the characters have to solve.  The rest of the story tells how the characters find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514600"/>
          <a:ext cx="7848720" cy="39704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es Your Pet Lov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ke, the Missing 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133720" y="1066680"/>
            <a:ext cx="533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acher Read Alo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Student Edition p. 134-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egoe Script"/>
              </a:rPr>
              <a:t>TE page T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C:\Documents and Settings\pawley\My Documents\sympathetic.jpg"/>
          <p:cNvPicPr/>
          <p:nvPr/>
        </p:nvPicPr>
        <p:blipFill>
          <a:blip r:embed="rId1"/>
          <a:stretch/>
        </p:blipFill>
        <p:spPr>
          <a:xfrm>
            <a:off x="1066680" y="1143000"/>
            <a:ext cx="3554640" cy="4309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648320" y="18288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feel scared or worri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62120" y="51814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ild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arm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saw the scary mov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85800" y="228600"/>
            <a:ext cx="784872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one voice answer with “crash”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ow” to the following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Which sound would cause you to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– a loud crash or a soft me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 my signal turn and talk with your partner to complete this 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 would be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alarmed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if a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alked through the door right no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914400" y="228600"/>
            <a:ext cx="5334120" cy="1295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:\Documents and Settings\pawley\My Documents\sensitive.jpg"/>
          <p:cNvPicPr/>
          <p:nvPr/>
        </p:nvPicPr>
        <p:blipFill>
          <a:blip r:embed="rId1"/>
          <a:stretch/>
        </p:blipFill>
        <p:spPr>
          <a:xfrm>
            <a:off x="914400" y="1523880"/>
            <a:ext cx="7389720" cy="512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19320" y="457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800600" y="38862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something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ysteriou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it is strange or puzz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011600" y="62485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steriou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man hid in the shadow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609480"/>
            <a:ext cx="84582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will name three events.  If you think the eve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tap your chin and say “hmmmm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 the event is not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mysterio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sit still as a stat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a magician make someone disapp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eeing Mrs. Cochran in the lunch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earing a lion roar in your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943600" y="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152280"/>
            <a:ext cx="533376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35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952880" y="18288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you ar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you are very, very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5800" y="5715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n w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verjoy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he won the tennis mat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:\Documents and Settings\pawley\My Documents\devoted.jpg"/>
          <p:cNvPicPr/>
          <p:nvPr/>
        </p:nvPicPr>
        <p:blipFill>
          <a:blip r:embed="rId1"/>
          <a:stretch/>
        </p:blipFill>
        <p:spPr>
          <a:xfrm>
            <a:off x="1447920" y="1447920"/>
            <a:ext cx="3351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view robust vocabulary through discussing idea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1040760" y="7621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f my friend threw a surprise party for me, I 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In one voice, answer “yes” or “no” to this 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Would you be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 if you had to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your entire ho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853560" y="3809880"/>
            <a:ext cx="71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, show me what your face looks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when you are </a:t>
            </a:r>
            <a:r>
              <a:rPr b="0" lang="en-US" sz="2400" spc="-1" strike="noStrike">
                <a:solidFill>
                  <a:srgbClr val="262699"/>
                </a:solidFill>
                <a:latin typeface="Comic Sans MS"/>
              </a:rPr>
              <a:t>overjoyed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Horizontal Scroll 7"/>
          <p:cNvSpPr/>
          <p:nvPr/>
        </p:nvSpPr>
        <p:spPr>
          <a:xfrm>
            <a:off x="838080" y="3429000"/>
            <a:ext cx="7620120" cy="2286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609480" y="2133720"/>
            <a:ext cx="8188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It took us four hours to get to the mountains.  We took two cars.  When we stopped for a rest, we each ate one apple.  Just five minutes after entering the park, we saw five brown bears and one red fox!  I took eight photographs.  When we finally got to the cabin, I ate three cookies and drank one glass of milk.  At last, I crawled into the soft bed and slept for ten hou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378800" y="129528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Let’s find the words that tell </a:t>
            </a:r>
            <a:r>
              <a:rPr b="0" i="1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how many</a:t>
            </a:r>
            <a:r>
              <a:rPr b="0" lang="en-US" sz="2400" spc="-1" strike="noStrike">
                <a:solidFill>
                  <a:srgbClr val="22228b"/>
                </a:solidFill>
                <a:latin typeface="Comic Sans MS"/>
                <a:ea typeface="Sim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4871880" y="228600"/>
            <a:ext cx="409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To identify words that describe how man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20040" y="6094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Segoe UI"/>
                <a:ea typeface="Segoe UI"/>
              </a:rPr>
              <a:t>Grammar:  Describing Words:  How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8610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think people get pet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would a ham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make a good p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Hamsters make good p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nstantia"/>
              </a:rPr>
              <a:t>because 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838080"/>
            <a:ext cx="8534520" cy="45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l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line in the play includes both the actor’s name and the words the actor s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Gwen:  Hooray for Flake, the hungry hamst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rite a Play togeth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character should start the play?  What mark goes after the characters n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will speak next? How should I write i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I put the correct mark after? Did I remember to begin the names with capital lett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should talk next? What do I write fir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should the play en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t’s read our play toge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181480" y="6094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181480" y="48769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81480" y="274320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5181480" y="3809880"/>
            <a:ext cx="358164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181480" y="1676520"/>
            <a:ext cx="3581640" cy="99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334120" y="762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341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334120" y="29718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5334120" y="40384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57800" y="5105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715000" y="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select a focus when writing. To write a dialogu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477120" y="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do a choral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f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143000" y="0"/>
            <a:ext cx="220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43000" y="0"/>
            <a:ext cx="6705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Hamster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ur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u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hurr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oly-p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wn the hal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b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he go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med with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his n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Documents and Settings\pawley\My Documents\hamsters.jpg"/>
          <p:cNvPicPr/>
          <p:nvPr/>
        </p:nvPicPr>
        <p:blipFill>
          <a:blip r:embed="rId1"/>
          <a:stretch/>
        </p:blipFill>
        <p:spPr>
          <a:xfrm>
            <a:off x="5791320" y="1523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pawley\My Documents\hamster.jpg"/>
          <p:cNvPicPr/>
          <p:nvPr/>
        </p:nvPicPr>
        <p:blipFill>
          <a:blip r:embed="rId2"/>
          <a:stretch/>
        </p:blipFill>
        <p:spPr>
          <a:xfrm>
            <a:off x="380880" y="1600200"/>
            <a:ext cx="27432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666880" y="15228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Wal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685800"/>
            <a:ext cx="91440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e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i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igh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phonemes to say new word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22860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12193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honeme Dele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:\Documents and Settings\pawley\My Documents\waking up.jpg"/>
          <p:cNvPicPr/>
          <p:nvPr/>
        </p:nvPicPr>
        <p:blipFill>
          <a:blip r:embed="rId1"/>
          <a:stretch/>
        </p:blipFill>
        <p:spPr>
          <a:xfrm>
            <a:off x="3581280" y="2133720"/>
            <a:ext cx="2392560" cy="2903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3740760" y="5105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 page T2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533520" y="228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vi-VN" sz="48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477120" y="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discriminate between the letter-sound associations /</a:t>
            </a:r>
            <a:r>
              <a:rPr b="0" lang="vi-VN" sz="1400" spc="-1" strike="noStrike">
                <a:solidFill>
                  <a:srgbClr val="3333cc"/>
                </a:solidFill>
                <a:latin typeface="Times New Roman"/>
              </a:rPr>
              <a:t>ă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/a and /ā/a_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14600" y="1600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352680" y="1600200"/>
            <a:ext cx="60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362320" y="2438280"/>
            <a:ext cx="5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23623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vowel /a/ a-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477120" y="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build spelling words. To spell three-, four-, and five- letter long-vowel words and high frequency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90920" y="8380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97180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352680" y="838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514600" y="16002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97180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352680" y="16002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514600" y="243828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97180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352680" y="243828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2590920" y="3352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2895480" y="33526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276720" y="335268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590920" y="4343400"/>
            <a:ext cx="3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2819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276720" y="43434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2590920" y="5334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289548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  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3276720" y="5334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5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33520" y="30492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477120" y="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-21600" y="228600"/>
            <a:ext cx="35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You read the words in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1756440" y="914400"/>
            <a:ext cx="5594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had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cut up som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aper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ape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wings 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mad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the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plan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f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Yes, it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Sam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glad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753920" y="5181480"/>
            <a:ext cx="451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Volunteers:  Underline words with 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Circle words with </a:t>
            </a:r>
            <a:r>
              <a:rPr b="0" lang="vi-VN" sz="2000" spc="-1" strike="noStrike">
                <a:solidFill>
                  <a:srgbClr val="cc3399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cc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955160" y="457200"/>
            <a:ext cx="2422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c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m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g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Penmanship Print"/>
              </a:rPr>
              <a:t>la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5087880" y="533520"/>
            <a:ext cx="207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tak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d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Penmanship Print"/>
              </a:rPr>
              <a:t>pl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Penmanship Print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Penmanship Print"/>
              </a:rPr>
              <a:t>pla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3636000" y="152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en Light"/>
              </a:rPr>
              <a:t>Spell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546200" y="5410080"/>
            <a:ext cx="623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red words have in common? 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do the blue words have in common?  </a:t>
            </a:r>
            <a:r>
              <a:rPr b="0" lang="en-US" sz="1400" spc="-1" strike="noStrike">
                <a:solidFill>
                  <a:srgbClr val="000000"/>
                </a:solidFill>
                <a:latin typeface="Segoe Print"/>
              </a:rPr>
              <a:t>(volunte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Print"/>
              </a:rPr>
              <a:t>What color is the number word?  </a:t>
            </a:r>
            <a:r>
              <a:rPr b="0" lang="en-US" sz="1600" spc="-1" strike="noStrike">
                <a:solidFill>
                  <a:srgbClr val="000000"/>
                </a:solidFill>
                <a:latin typeface="Segoe Print"/>
              </a:rPr>
              <a:t>(one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477120" y="0"/>
            <a:ext cx="2971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Times New Roman"/>
              </a:rPr>
              <a:t>Objective:  To use common vowel spelling patterns to read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0:29:55Z</dcterms:created>
  <dc:creator>Janice Wagnon</dc:creator>
  <dc:description/>
  <dc:language>en-US</dc:language>
  <cp:lastModifiedBy>Janice Wagnon</cp:lastModifiedBy>
  <dcterms:modified xsi:type="dcterms:W3CDTF">2009-02-10T07:07:44Z</dcterms:modified>
  <cp:revision>48</cp:revision>
  <dc:subject/>
  <dc:title>PowerPoint Presentation</dc:title>
</cp:coreProperties>
</file>