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F63-0813-45FD-89C9-DD3FF1A7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BA4-75B0-40FD-B95A-8D5CBE7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4A7-D781-4B9C-9128-2E25336F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562-9896-4DCB-BEBA-64886FD8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438-06CC-45E7-B2C1-DF7359B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276-CAD8-4A76-B279-D5A95BCC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572-E757-482A-BBFB-F7FD2961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B5B-2038-49A4-B184-F9919F3C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C3E-DE39-417C-8F23-53B4E16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CDA-64FD-4BF2-A737-D89FF8E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61F-0212-433C-93CD-249B85B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5FC-FAFB-471F-AB01-6ABB6A8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8006-FE63-46C1-A706-F6FFD0326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1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h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1828800"/>
            <a:ext cx="36576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of these words rhy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tells 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means the opposite of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means the opposite of cl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 problem and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763120" cy="5373720"/>
        </p:xfrm>
        <a:graphic>
          <a:graphicData uri="http://schemas.openxmlformats.org/drawingml/2006/table">
            <a:tbl>
              <a:tblPr/>
              <a:tblGrid>
                <a:gridCol w="1643040"/>
                <a:gridCol w="2503440"/>
                <a:gridCol w="2268720"/>
                <a:gridCol w="2347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Your Pet Really Love You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ke, the Missing 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r Wants 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verjo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would you run away if you saw someth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ster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 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5715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to be sensitive and show sympathy to a friend who lost a pet, what could you d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nsitive, I woul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56080" y="1523880"/>
            <a:ext cx="363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 someone you are devoted to?  Why are you devoted to this per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devoted to _____ because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was dark and stormy night.  Jen was in bed  She heard a tree crash outside her window. Jen was ______ by the s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 rushed to the window.  The tree outside her window was fine.  It had not crashed at all.  Jen was puzzled by this _______ ev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n went back to her bed.  All of a sudden, she woke up!  She was ________ to realize that she had been dreaming and everything was f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joy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alarm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myste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instorm Words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ctate Sentences tha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How 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how ma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have any pet you want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ge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______ make the best pets becaus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0120" y="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a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04920"/>
            <a:ext cx="807732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etting and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e starts with a character’s name and a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s tell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Hamst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7520" y="1371600"/>
            <a:ext cx="5216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0"/>
            <a:ext cx="49528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92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ad words with phonograms –a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-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1981080"/>
          <a:ext cx="8229600" cy="391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eginning S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Phon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ane, -ad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2-13T03:40:23Z</dcterms:modified>
  <cp:revision>130</cp:revision>
  <dc:subject/>
  <dc:title>Slide 1</dc:title>
</cp:coreProperties>
</file>