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D172-43AA-4F7A-AA9D-1039C90F9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BB57-18A9-4EE2-9B9D-8BEEFF14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600D-B70A-4EF7-99E7-03F1FA03F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34D7-3796-4488-A46A-AE33B79B1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DC86-9EA2-4821-8E7C-F6E232FA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11A8-588A-4870-8809-BCBF361D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FC56-AF29-4187-9776-92B460B7D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A134-C431-42FA-889D-E6CC8B998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BC9-D8F3-4E74-BDB5-0CDD0B431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846D-0908-411E-A884-749EDBA7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F99D-7ABE-4B48-A461-36FE8845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C28-8F4F-470D-826A-EC931F4F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4DB1-4E93-43D0-A6CB-25B0C71E0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9D68-9AC5-4FBC-86F3-E275D3252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C27C-823A-469F-ADF2-0429708F5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5E55-C95E-4665-A6E7-8F0C0039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D169-3C48-48E6-9BA8-E4B26F943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95C4-CC79-4F09-A055-241C3761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BEF4-33C0-4618-AB40-2397F1ED0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B714-9C8B-45B1-ABF0-043BE0C1A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4B5-3782-47AD-84B9-37240D93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5BF6-36C4-49FA-A024-3F474A46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90A-9BAA-4E5E-8959-FE3BA892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E4B-61D3-476F-8D7E-CFC6779B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C1E-5695-4BB4-B26B-9678B447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30D-9BCA-4AAC-B8FB-5FB70F22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E19-625D-410F-B02A-E093A959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466-833C-4753-AD09-E4D78DFF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942-C77E-4AF3-BDD5-8E85667E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BC0-DF1F-439B-ADA4-7B41A646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BF7-97BA-47BB-9460-90975133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566-C1B2-4C36-AB8D-E0929176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415-0FF1-4D8F-B9F3-E6A4A969C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Mike has a ki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pike likes to bik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nd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4176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fbba"/>
                    </a:solidFill>
                  </a:tcPr>
                </a:tc>
              </a:tr>
              <a:tr h="30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Mike and Spike Hike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practice identifying problems and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Cloudy with a Chance of Meatba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8" descr="CLOUDY-739978"/>
          <p:cNvPicPr/>
          <p:nvPr/>
        </p:nvPicPr>
        <p:blipFill>
          <a:blip r:embed="rId1"/>
          <a:stretch/>
        </p:blipFill>
        <p:spPr>
          <a:xfrm>
            <a:off x="2438280" y="2743200"/>
            <a:ext cx="42958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p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744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incident is something unusual that happens and often is an accid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cid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572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uck had to be turned upright after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ide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8" descr="incident_mgmt"/>
          <p:cNvPicPr/>
          <p:nvPr/>
        </p:nvPicPr>
        <p:blipFill>
          <a:blip r:embed="rId1"/>
          <a:stretch/>
        </p:blipFill>
        <p:spPr>
          <a:xfrm>
            <a:off x="304920" y="2286000"/>
            <a:ext cx="4995720" cy="3336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adu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happens in a gradual way, it happens slowly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28600" y="6172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s gradually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7" descr="COLOURlovers"/>
          <p:cNvPicPr/>
          <p:nvPr/>
        </p:nvPicPr>
        <p:blipFill>
          <a:blip r:embed="rId1"/>
          <a:stretch/>
        </p:blipFill>
        <p:spPr>
          <a:xfrm>
            <a:off x="152280" y="1981080"/>
            <a:ext cx="5486400" cy="41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downpour is a large amount of rain that falls in a short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wnpou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7621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caught in the downp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7" descr="Downpour"/>
          <p:cNvPicPr/>
          <p:nvPr/>
        </p:nvPicPr>
        <p:blipFill>
          <a:blip r:embed="rId1"/>
          <a:stretch/>
        </p:blipFill>
        <p:spPr>
          <a:xfrm>
            <a:off x="228600" y="2514600"/>
            <a:ext cx="541008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and talk to your partner about a funny incident that happened at a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 are a seed that is growing into a tree.  Show a partner the gradual changes you would go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tell them about a downpour of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things do you see on the way to the market?  What do you see when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get to the mark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On the way to the market, I see 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hen I get to the market, I se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152280" y="1523880"/>
            <a:ext cx="8991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eople were getti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righten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ere to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frai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0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3" descr="la43"/>
          <p:cNvPicPr/>
          <p:nvPr/>
        </p:nvPicPr>
        <p:blipFill>
          <a:blip r:embed="rId1"/>
          <a:stretch/>
        </p:blipFill>
        <p:spPr>
          <a:xfrm>
            <a:off x="1371600" y="0"/>
            <a:ext cx="57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322"/>
          <p:cNvPicPr/>
          <p:nvPr/>
        </p:nvPicPr>
        <p:blipFill>
          <a:blip r:embed="rId1"/>
          <a:stretch/>
        </p:blipFill>
        <p:spPr>
          <a:xfrm>
            <a:off x="914400" y="1371600"/>
            <a:ext cx="78487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6" descr="la44"/>
          <p:cNvPicPr/>
          <p:nvPr/>
        </p:nvPicPr>
        <p:blipFill>
          <a:blip r:embed="rId1"/>
          <a:stretch/>
        </p:blipFill>
        <p:spPr>
          <a:xfrm>
            <a:off x="1996920" y="0"/>
            <a:ext cx="515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323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 A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971800" y="1828800"/>
            <a:ext cx="32004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733920" y="21337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1981080" y="1219320"/>
            <a:ext cx="518184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5105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6477120" y="7621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H="1">
            <a:off x="1295280" y="525780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H="1" flipV="1">
            <a:off x="838080" y="1219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Market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Pj04392920000[1]"/>
          <p:cNvPicPr/>
          <p:nvPr/>
        </p:nvPicPr>
        <p:blipFill>
          <a:blip r:embed="rId1"/>
          <a:stretch/>
        </p:blipFill>
        <p:spPr>
          <a:xfrm>
            <a:off x="1219320" y="1905120"/>
            <a:ext cx="6400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MCj04174380000[1]"/>
          <p:cNvPicPr/>
          <p:nvPr/>
        </p:nvPicPr>
        <p:blipFill>
          <a:blip r:embed="rId1"/>
          <a:stretch/>
        </p:blipFill>
        <p:spPr>
          <a:xfrm>
            <a:off x="4724280" y="2057400"/>
            <a:ext cx="35816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i/ i-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i/ sound, make an a with you fingers.  When I say a word that does not have /i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i/ sound in the middle, make an /i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533520" y="1600200"/>
            <a:ext cx="4038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2193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18288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505320" y="18288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419720" y="12193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276720" y="274320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11480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4038480" y="27432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26708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3505320" y="34290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3"/>
          <p:cNvSpPr/>
          <p:nvPr/>
        </p:nvSpPr>
        <p:spPr>
          <a:xfrm>
            <a:off x="403848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43434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3505320" y="4191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388620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4343400" y="4191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4495680" y="4191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4267080" y="502920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3809880" y="5029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3429000" y="5029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495680" y="5029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495680" y="12952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4191120" y="1295280"/>
            <a:ext cx="1676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388620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4114800" y="21337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4343400" y="2133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4572000" y="3200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3809880" y="3200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4343400" y="3200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4800600" y="56386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28T23:17:38Z</dcterms:modified>
  <cp:revision>143</cp:revision>
  <dc:subject/>
  <dc:title>Slide 1</dc:title>
</cp:coreProperties>
</file>