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5D9E0-B51C-434A-A7DE-7CFF0879B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CF63E-46CF-43CA-9DED-E6B5E1BB5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91427-77C5-404A-AE56-83E404DA9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E8233-DDC8-4082-8827-948F56F96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36CF5-8A0E-4DA1-97EC-43685808E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BF514-E020-4DD2-B25E-F6A786F36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6EE8D-2B22-4F1A-956A-A8A693FDD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3CCF1-4489-4707-8157-257A6FC37C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4BA11-51C8-4ED7-AFCC-F4606028C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A9324-B22F-43D5-9735-6B6C8C55F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97BC5-6866-4E6C-B364-5F1532C0D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55BEB-4ED9-4240-9D7B-A0F882F1D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B223D-BAB9-4C5E-ABA7-780FCBE726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1453C-D786-42D1-B3A7-D4FD490C3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6B144-9D8E-4942-9A95-826608751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B5D81-2942-491A-A39E-298F91D0D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B9F49-8E1C-419A-B6DF-EBC0E0AE0B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02ECF-0DD6-4034-A38D-11AB655BA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539E1-B223-4CF1-A300-311E38650E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E50CD-C103-44FC-AC4E-6CE6BAE7B2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7D398-9B1B-46DE-B303-18CB9027E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EA6F8-D387-4B29-96CA-84F7842F2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8BD3-9472-43D7-9EC1-E91623F5C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30FE-46F5-41E5-B992-FECC2D6A8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E1C9-8B79-43A9-B6CE-79990713D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0A74-03E6-4D20-9DCC-43D045EBD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3816-6AA4-4AC7-991F-475C6F34E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149F-2064-408A-A60E-223DCA331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84B2-604C-4E0D-B935-B6851D241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5D70-7F2B-4E2B-9A23-BE458604B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7A4C-D7F3-4787-B536-9CCED9356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480C-9F04-421B-81F1-DD22550FE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A210-2C31-4A01-9BC5-E1B6423C8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3375-A96D-499E-B253-5874C33CE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A4AB8-0BD1-4517-A281-4231008481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MPj04394500000[1]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ednesd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February 22, Day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294920" y="16765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haroni"/>
                <a:ea typeface="Aharoni"/>
              </a:rPr>
              <a:t>bec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haroni"/>
                <a:ea typeface="Aharoni"/>
              </a:rPr>
              <a:t>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haroni"/>
                <a:ea typeface="Aharoni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haroni"/>
                <a:ea typeface="Aharoni"/>
              </a:rPr>
              <a:t>th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haroni"/>
                <a:ea typeface="Aharoni"/>
              </a:rPr>
              <a:t>walk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b6bcf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b6bcf"/>
                </a:solidFill>
                <a:latin typeface="Aharoni"/>
                <a:ea typeface="Aharoni"/>
              </a:rPr>
              <a:t>ber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b6bcf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b6bcf"/>
                </a:solidFill>
                <a:latin typeface="Aharoni"/>
                <a:ea typeface="Aharoni"/>
              </a:rPr>
              <a:t>emp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b6bcf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b6bcf"/>
                </a:solidFill>
                <a:latin typeface="Aharoni"/>
                <a:ea typeface="Aharoni"/>
              </a:rPr>
              <a:t>ni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b6bcf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b6bcf"/>
                </a:solidFill>
                <a:latin typeface="Aharoni"/>
                <a:ea typeface="Aharoni"/>
              </a:rPr>
              <a:t>p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b6bcf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b6bcf"/>
                </a:solidFill>
                <a:latin typeface="Aharoni"/>
                <a:ea typeface="Aharoni"/>
              </a:rPr>
              <a:t>sha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b6bcf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b6bcf"/>
                </a:solidFill>
                <a:latin typeface="Aharoni"/>
                <a:ea typeface="Aharoni"/>
              </a:rPr>
              <a:t>win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9"/>
          <p:cNvSpPr/>
          <p:nvPr/>
        </p:nvSpPr>
        <p:spPr>
          <a:xfrm>
            <a:off x="854640" y="990720"/>
            <a:ext cx="32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igh Frequency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0"/>
          <p:cNvSpPr/>
          <p:nvPr/>
        </p:nvSpPr>
        <p:spPr>
          <a:xfrm>
            <a:off x="4655160" y="762120"/>
            <a:ext cx="241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6bcf"/>
                </a:solidFill>
                <a:latin typeface="Arial"/>
              </a:rPr>
              <a:t>Story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id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d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wnpo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257440" y="1523880"/>
            <a:ext cx="3886200" cy="47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incident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is something unusual that happens and often is an acciden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3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incident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4"/>
          <p:cNvSpPr/>
          <p:nvPr/>
        </p:nvSpPr>
        <p:spPr>
          <a:xfrm>
            <a:off x="457200" y="57913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uck had to be turned upright after the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incident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8" descr="incident_mgmt"/>
          <p:cNvPicPr/>
          <p:nvPr/>
        </p:nvPicPr>
        <p:blipFill>
          <a:blip r:embed="rId1"/>
          <a:stretch/>
        </p:blipFill>
        <p:spPr>
          <a:xfrm>
            <a:off x="304920" y="2286000"/>
            <a:ext cx="4995720" cy="3336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3"/>
          <p:cNvSpPr/>
          <p:nvPr/>
        </p:nvSpPr>
        <p:spPr>
          <a:xfrm>
            <a:off x="6874200" y="0"/>
            <a:ext cx="2103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haroni"/>
                <a:ea typeface="Aharoni"/>
              </a:rPr>
              <a:t>Objective:  To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haroni"/>
                <a:ea typeface="Aharoni"/>
              </a:rPr>
              <a:t>robust vocabulary thr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haroni"/>
                <a:ea typeface="Aharoni"/>
              </a:rPr>
              <a:t>discussing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862560" y="1066680"/>
            <a:ext cx="8107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On my signal, answer these questions in one voice with “yes” or “no.”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Is sleeping in your bed an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ncident</a:t>
            </a: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Is falling out of your bed in the middle of the night an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ncident</a:t>
            </a: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570960" y="2971800"/>
            <a:ext cx="780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n my signal, answer in one voice with “tell” or “forget.”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f a funny </a:t>
            </a: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incident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happened at your house, wou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you tell someone about it or just forget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AutoShape 2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gradual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5638680" y="1981080"/>
            <a:ext cx="3256200" cy="42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f something happens in a </a:t>
            </a:r>
            <a:r>
              <a:rPr b="0" lang="en-US" sz="3800" spc="-1" strike="noStrike">
                <a:solidFill>
                  <a:srgbClr val="ff0000"/>
                </a:solidFill>
                <a:latin typeface="Comic Sans MS"/>
              </a:rPr>
              <a:t>gradual</a:t>
            </a: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 way, it happens slowly. 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2"/>
          <p:cNvSpPr/>
          <p:nvPr/>
        </p:nvSpPr>
        <p:spPr>
          <a:xfrm>
            <a:off x="228600" y="617220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lors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graduall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7" descr="COLOURlovers"/>
          <p:cNvPicPr/>
          <p:nvPr/>
        </p:nvPicPr>
        <p:blipFill>
          <a:blip r:embed="rId1"/>
          <a:stretch/>
        </p:blipFill>
        <p:spPr>
          <a:xfrm>
            <a:off x="152280" y="1981080"/>
            <a:ext cx="5486400" cy="41133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3"/>
          <p:cNvSpPr/>
          <p:nvPr/>
        </p:nvSpPr>
        <p:spPr>
          <a:xfrm>
            <a:off x="6874200" y="0"/>
            <a:ext cx="2103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haroni"/>
                <a:ea typeface="Aharoni"/>
              </a:rPr>
              <a:t>Objective:  To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haroni"/>
                <a:ea typeface="Aharoni"/>
              </a:rPr>
              <a:t>robust vocabulary thr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haroni"/>
                <a:ea typeface="Aharoni"/>
              </a:rPr>
              <a:t>discussing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"/>
          <p:cNvSpPr/>
          <p:nvPr/>
        </p:nvSpPr>
        <p:spPr>
          <a:xfrm>
            <a:off x="965880" y="990720"/>
            <a:ext cx="7767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If I wanted to fill a bucket with water </a:t>
            </a:r>
            <a:r>
              <a:rPr b="0" lang="en-US" sz="2400" spc="-1" strike="noStrike">
                <a:solidFill>
                  <a:srgbClr val="00b0f0"/>
                </a:solidFill>
                <a:latin typeface="Comic Sans MS"/>
              </a:rPr>
              <a:t>gradually</a:t>
            </a: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should I use a water hose or a little cup of wa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to put water in the bucke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On my signal turn and talk to your partner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complete this 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If I wanted to fill a bucket with water </a:t>
            </a:r>
            <a:r>
              <a:rPr b="0" lang="en-US" sz="2400" spc="-1" strike="noStrike">
                <a:solidFill>
                  <a:srgbClr val="00b0f0"/>
                </a:solidFill>
                <a:latin typeface="Comic Sans MS"/>
              </a:rPr>
              <a:t>gradually</a:t>
            </a: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I would use a _____________ to put water in the bucket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5867280" y="1981080"/>
            <a:ext cx="30337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downpour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is a large amount of rain that falls in a short ti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3"/>
          <p:cNvSpPr/>
          <p:nvPr/>
        </p:nvSpPr>
        <p:spPr>
          <a:xfrm>
            <a:off x="1600200" y="228600"/>
            <a:ext cx="617220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1828800" y="304920"/>
            <a:ext cx="57150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downpour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1"/>
          <p:cNvSpPr/>
          <p:nvPr/>
        </p:nvSpPr>
        <p:spPr>
          <a:xfrm>
            <a:off x="762120" y="5791320"/>
            <a:ext cx="48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n was caught in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ownpou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7" descr="Downpour"/>
          <p:cNvPicPr/>
          <p:nvPr/>
        </p:nvPicPr>
        <p:blipFill>
          <a:blip r:embed="rId1"/>
          <a:stretch/>
        </p:blipFill>
        <p:spPr>
          <a:xfrm>
            <a:off x="228600" y="2514600"/>
            <a:ext cx="5410080" cy="3267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3"/>
          <p:cNvSpPr/>
          <p:nvPr/>
        </p:nvSpPr>
        <p:spPr>
          <a:xfrm>
            <a:off x="6874200" y="0"/>
            <a:ext cx="2103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haroni"/>
                <a:ea typeface="Aharoni"/>
              </a:rPr>
              <a:t>Objective:  To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haroni"/>
                <a:ea typeface="Aharoni"/>
              </a:rPr>
              <a:t>robust vocabulary thr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haroni"/>
                <a:ea typeface="Aharoni"/>
              </a:rPr>
              <a:t>discussing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"/>
          <p:cNvSpPr/>
          <p:nvPr/>
        </p:nvSpPr>
        <p:spPr>
          <a:xfrm>
            <a:off x="630000" y="838080"/>
            <a:ext cx="7973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ould you rather be caught in 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downpour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f flowers or a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downp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f pinecon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n my signal, answer in one vo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ith “flowers” or “pinecones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7238880" y="0"/>
            <a:ext cx="1905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identify and use describing words for feel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782640" y="2133720"/>
            <a:ext cx="7948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 feel _______ when I hear a song that I li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 feel _______ when I’m all alone in a dark 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I think about _______, I feel 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I go to _________ I feel 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6"/>
          <p:cNvSpPr/>
          <p:nvPr/>
        </p:nvSpPr>
        <p:spPr>
          <a:xfrm>
            <a:off x="990000" y="914400"/>
            <a:ext cx="753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ammar:  Describing Words: Fee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8001000" y="0"/>
            <a:ext cx="1143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describing words that tell about feel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323"/>
          <p:cNvPicPr/>
          <p:nvPr/>
        </p:nvPicPr>
        <p:blipFill>
          <a:blip r:embed="rId1"/>
          <a:stretch/>
        </p:blipFill>
        <p:spPr>
          <a:xfrm>
            <a:off x="380880" y="1600200"/>
            <a:ext cx="8382240" cy="39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here would you like to have a picn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hy would you choose this pla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rn and talk with your partner using the stem 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 would have a picnic at ________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 would have it here because 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Make A We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8001000" y="0"/>
            <a:ext cx="1143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describing words that tell about feel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2971800" y="1828800"/>
            <a:ext cx="3200400" cy="3352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3733920" y="2133720"/>
            <a:ext cx="198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aw a Pi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9"/>
          <p:cNvSpPr/>
          <p:nvPr/>
        </p:nvSpPr>
        <p:spPr>
          <a:xfrm>
            <a:off x="1981080" y="1219320"/>
            <a:ext cx="5181840" cy="4724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0"/>
          <p:cNvSpPr/>
          <p:nvPr/>
        </p:nvSpPr>
        <p:spPr>
          <a:xfrm>
            <a:off x="6553080" y="5105520"/>
            <a:ext cx="16765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1"/>
          <p:cNvSpPr/>
          <p:nvPr/>
        </p:nvSpPr>
        <p:spPr>
          <a:xfrm flipV="1">
            <a:off x="6477120" y="762120"/>
            <a:ext cx="99036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2"/>
          <p:cNvSpPr/>
          <p:nvPr/>
        </p:nvSpPr>
        <p:spPr>
          <a:xfrm flipH="1">
            <a:off x="1295280" y="5257800"/>
            <a:ext cx="144792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3"/>
          <p:cNvSpPr/>
          <p:nvPr/>
        </p:nvSpPr>
        <p:spPr>
          <a:xfrm flipH="1" flipV="1">
            <a:off x="838080" y="1219320"/>
            <a:ext cx="13716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-by-Step Writing I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533520" y="762120"/>
          <a:ext cx="8229600" cy="6035400"/>
        </p:xfrm>
        <a:graphic>
          <a:graphicData uri="http://schemas.openxmlformats.org/drawingml/2006/table">
            <a:tbl>
              <a:tblPr/>
              <a:tblGrid>
                <a:gridCol w="5257800"/>
                <a:gridCol w="29718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y a sentence that tells about a memory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ite a sentence that tells how you fel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 the sentence.  What kind of end mark 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need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else can we say about this wonderf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ory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d choice is very important.  It helps peo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have a clear picture of the memory.  Can w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 more words to the last sentenc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’s read this description of a memor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gethe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develop the ability to listen for a purp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2209680" y="228600"/>
            <a:ext cx="4800600" cy="25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1" i="1" lang="en-US" sz="4400" spc="-1" strike="noStrike">
                <a:solidFill>
                  <a:srgbClr val="000000"/>
                </a:solidFill>
                <a:latin typeface="Constantia"/>
              </a:rPr>
              <a:t>The Picn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8" descr="MPj04392920000[1]"/>
          <p:cNvPicPr/>
          <p:nvPr/>
        </p:nvPicPr>
        <p:blipFill>
          <a:blip r:embed="rId1"/>
          <a:stretch/>
        </p:blipFill>
        <p:spPr>
          <a:xfrm>
            <a:off x="1219320" y="1914480"/>
            <a:ext cx="6400800" cy="4267080"/>
          </a:xfrm>
          <a:prstGeom prst="rect">
            <a:avLst/>
          </a:prstGeom>
          <a:ln w="0">
            <a:noFill/>
          </a:ln>
        </p:spPr>
      </p:pic>
      <p:sp>
        <p:nvSpPr>
          <p:cNvPr id="55" name="TextBox 6"/>
          <p:cNvSpPr/>
          <p:nvPr/>
        </p:nvSpPr>
        <p:spPr>
          <a:xfrm>
            <a:off x="2209680" y="1523880"/>
            <a:ext cx="49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ook of Rhymes and Poems, page 4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r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ar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ar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p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i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086240" y="15228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add phonemes to make new wor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5181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ddition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5" descr="MCj04174380000[1]"/>
          <p:cNvPicPr/>
          <p:nvPr/>
        </p:nvPicPr>
        <p:blipFill>
          <a:blip r:embed="rId1"/>
          <a:stretch/>
        </p:blipFill>
        <p:spPr>
          <a:xfrm>
            <a:off x="4724280" y="2184480"/>
            <a:ext cx="3581640" cy="3249360"/>
          </a:xfrm>
          <a:prstGeom prst="rect">
            <a:avLst/>
          </a:prstGeom>
          <a:ln w="0">
            <a:noFill/>
          </a:ln>
        </p:spPr>
      </p:pic>
      <p:sp>
        <p:nvSpPr>
          <p:cNvPr id="61" name="TextBox 6"/>
          <p:cNvSpPr/>
          <p:nvPr/>
        </p:nvSpPr>
        <p:spPr>
          <a:xfrm>
            <a:off x="5722560" y="5486400"/>
            <a:ext cx="16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: page T3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uil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716292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i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3809880" y="12952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0"/>
          <p:cNvSpPr/>
          <p:nvPr/>
        </p:nvSpPr>
        <p:spPr>
          <a:xfrm>
            <a:off x="4495680" y="1295280"/>
            <a:ext cx="914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1"/>
          <p:cNvSpPr/>
          <p:nvPr/>
        </p:nvSpPr>
        <p:spPr>
          <a:xfrm>
            <a:off x="4191120" y="1295280"/>
            <a:ext cx="1676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3886200" y="21337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5"/>
          <p:cNvSpPr/>
          <p:nvPr/>
        </p:nvSpPr>
        <p:spPr>
          <a:xfrm>
            <a:off x="4114800" y="2133720"/>
            <a:ext cx="2133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6"/>
          <p:cNvSpPr/>
          <p:nvPr/>
        </p:nvSpPr>
        <p:spPr>
          <a:xfrm>
            <a:off x="4343400" y="213372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4572000" y="320040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3809880" y="32004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2"/>
          <p:cNvSpPr/>
          <p:nvPr/>
        </p:nvSpPr>
        <p:spPr>
          <a:xfrm>
            <a:off x="4343400" y="32004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5"/>
          <p:cNvSpPr/>
          <p:nvPr/>
        </p:nvSpPr>
        <p:spPr>
          <a:xfrm>
            <a:off x="4800600" y="5638680"/>
            <a:ext cx="838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5"/>
          <p:cNvSpPr/>
          <p:nvPr/>
        </p:nvSpPr>
        <p:spPr>
          <a:xfrm>
            <a:off x="3966840" y="4648320"/>
            <a:ext cx="68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6"/>
          <p:cNvSpPr/>
          <p:nvPr/>
        </p:nvSpPr>
        <p:spPr>
          <a:xfrm>
            <a:off x="4656240" y="4724280"/>
            <a:ext cx="139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    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9"/>
          <p:cNvSpPr/>
          <p:nvPr/>
        </p:nvSpPr>
        <p:spPr>
          <a:xfrm>
            <a:off x="4956840" y="464832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Read Words in Con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onstantia"/>
              </a:rPr>
              <a:t>I made a </a:t>
            </a:r>
            <a:r>
              <a:rPr b="0" lang="en-US" sz="3600" spc="-1" strike="noStrike">
                <a:solidFill>
                  <a:srgbClr val="ff0000"/>
                </a:solidFill>
                <a:latin typeface="Constantia"/>
              </a:rPr>
              <a:t>line</a:t>
            </a:r>
            <a:r>
              <a:rPr b="0" lang="en-US" sz="3600" spc="-1" strike="noStrike">
                <a:solidFill>
                  <a:srgbClr val="333399"/>
                </a:solidFill>
                <a:latin typeface="Constantia"/>
              </a:rPr>
              <a:t> near my na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onstantia"/>
              </a:rPr>
              <a:t>I </a:t>
            </a:r>
            <a:r>
              <a:rPr b="0" lang="en-US" sz="3600" spc="-1" strike="noStrike">
                <a:solidFill>
                  <a:srgbClr val="ff0000"/>
                </a:solidFill>
                <a:latin typeface="Constantia"/>
              </a:rPr>
              <a:t>like</a:t>
            </a:r>
            <a:r>
              <a:rPr b="0" lang="en-US" sz="3600" spc="-1" strike="noStrike">
                <a:solidFill>
                  <a:srgbClr val="333399"/>
                </a:solidFill>
                <a:latin typeface="Constantia"/>
              </a:rPr>
              <a:t> this </a:t>
            </a:r>
            <a:r>
              <a:rPr b="0" lang="en-US" sz="3600" spc="-1" strike="noStrike">
                <a:solidFill>
                  <a:srgbClr val="ff0000"/>
                </a:solidFill>
                <a:latin typeface="Constantia"/>
              </a:rPr>
              <a:t>line</a:t>
            </a:r>
            <a:r>
              <a:rPr b="0" lang="en-US" sz="3600" spc="-1" strike="noStrike">
                <a:solidFill>
                  <a:srgbClr val="333399"/>
                </a:solidFill>
                <a:latin typeface="Constantia"/>
              </a:rPr>
              <a:t>.  It’s </a:t>
            </a:r>
            <a:r>
              <a:rPr b="0" lang="en-US" sz="3600" spc="-1" strike="noStrike">
                <a:solidFill>
                  <a:srgbClr val="ff0000"/>
                </a:solidFill>
                <a:latin typeface="Constantia"/>
              </a:rPr>
              <a:t>mine</a:t>
            </a:r>
            <a:r>
              <a:rPr b="0" lang="en-US" sz="3600" spc="-1" strike="noStrike">
                <a:solidFill>
                  <a:srgbClr val="333399"/>
                </a:solidFill>
                <a:latin typeface="Constantia"/>
              </a:rPr>
              <a:t> and you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onstantia"/>
              </a:rPr>
              <a:t>This </a:t>
            </a:r>
            <a:r>
              <a:rPr b="0" lang="en-US" sz="3600" spc="-1" strike="noStrike">
                <a:solidFill>
                  <a:srgbClr val="ff0000"/>
                </a:solidFill>
                <a:latin typeface="Constantia"/>
              </a:rPr>
              <a:t>line</a:t>
            </a:r>
            <a:r>
              <a:rPr b="0" lang="en-US" sz="3600" spc="-1" strike="noStrike">
                <a:solidFill>
                  <a:srgbClr val="333399"/>
                </a:solidFill>
                <a:latin typeface="Constantia"/>
              </a:rPr>
              <a:t> is </a:t>
            </a:r>
            <a:r>
              <a:rPr b="0" lang="en-US" sz="3600" spc="-1" strike="noStrike">
                <a:solidFill>
                  <a:srgbClr val="ff0000"/>
                </a:solidFill>
                <a:latin typeface="Constantia"/>
              </a:rPr>
              <a:t>nine</a:t>
            </a:r>
            <a:r>
              <a:rPr b="0" lang="en-US" sz="3600" spc="-1" strike="noStrike">
                <a:solidFill>
                  <a:srgbClr val="333399"/>
                </a:solidFill>
                <a:latin typeface="Constantia"/>
              </a:rPr>
              <a:t> feet lo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onstantia"/>
              </a:rPr>
              <a:t>I can make it a </a:t>
            </a:r>
            <a:r>
              <a:rPr b="0" lang="en-US" sz="3600" spc="-1" strike="noStrike">
                <a:solidFill>
                  <a:srgbClr val="ff0000"/>
                </a:solidFill>
                <a:latin typeface="Constantia"/>
              </a:rPr>
              <a:t>mile</a:t>
            </a:r>
            <a:r>
              <a:rPr b="0" lang="en-US" sz="3600" spc="-1" strike="noStrike">
                <a:solidFill>
                  <a:srgbClr val="333399"/>
                </a:solidFill>
                <a:latin typeface="Constantia"/>
              </a:rPr>
              <a:t> lo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onstantia"/>
              </a:rPr>
              <a:t>It may take a </a:t>
            </a:r>
            <a:r>
              <a:rPr b="0" lang="en-US" sz="3600" spc="-1" strike="noStrike">
                <a:solidFill>
                  <a:srgbClr val="ff0000"/>
                </a:solidFill>
                <a:latin typeface="Constantia"/>
              </a:rPr>
              <a:t>while</a:t>
            </a:r>
            <a:r>
              <a:rPr b="0" lang="en-US" sz="3600" spc="-1" strike="noStrike">
                <a:solidFill>
                  <a:srgbClr val="333399"/>
                </a:solidFill>
                <a:latin typeface="Constanti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onstantia"/>
              </a:rPr>
              <a:t>Mom came to see the </a:t>
            </a:r>
            <a:r>
              <a:rPr b="0" lang="en-US" sz="3600" spc="-1" strike="noStrike">
                <a:solidFill>
                  <a:srgbClr val="ff0000"/>
                </a:solidFill>
                <a:latin typeface="Constantia"/>
              </a:rPr>
              <a:t>line</a:t>
            </a:r>
            <a:r>
              <a:rPr b="0" lang="en-US" sz="3600" spc="-1" strike="noStrike">
                <a:solidFill>
                  <a:srgbClr val="333399"/>
                </a:solidFill>
                <a:latin typeface="Constanti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onstantia"/>
              </a:rPr>
              <a:t>It is </a:t>
            </a:r>
            <a:r>
              <a:rPr b="0" lang="en-US" sz="3600" spc="-1" strike="noStrike">
                <a:solidFill>
                  <a:srgbClr val="ff0000"/>
                </a:solidFill>
                <a:latin typeface="Constantia"/>
              </a:rPr>
              <a:t>time</a:t>
            </a:r>
            <a:r>
              <a:rPr b="0" lang="en-US" sz="3600" spc="-1" strike="noStrike">
                <a:solidFill>
                  <a:srgbClr val="333399"/>
                </a:solidFill>
                <a:latin typeface="Constantia"/>
              </a:rPr>
              <a:t> to g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-267480" y="990720"/>
            <a:ext cx="854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 Hand ITC"/>
              </a:rPr>
              <a:t>You will read the red words.  I will read the blue wo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dime_front_40207_md.gif"/>
          <p:cNvPicPr/>
          <p:nvPr/>
        </p:nvPicPr>
        <p:blipFill>
          <a:blip r:embed="rId1"/>
          <a:stretch/>
        </p:blipFill>
        <p:spPr>
          <a:xfrm>
            <a:off x="2895480" y="2895480"/>
            <a:ext cx="3333960" cy="33339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Limes2.jpg"/>
          <p:cNvPicPr/>
          <p:nvPr/>
        </p:nvPicPr>
        <p:blipFill>
          <a:blip r:embed="rId2"/>
          <a:stretch/>
        </p:blipFill>
        <p:spPr>
          <a:xfrm>
            <a:off x="5867280" y="990720"/>
            <a:ext cx="2675160" cy="2377800"/>
          </a:xfrm>
          <a:prstGeom prst="rect">
            <a:avLst/>
          </a:prstGeom>
          <a:ln w="0">
            <a:noFill/>
          </a:ln>
        </p:spPr>
      </p:pic>
      <p:sp>
        <p:nvSpPr>
          <p:cNvPr id="83" name="TextBox 3"/>
          <p:cNvSpPr/>
          <p:nvPr/>
        </p:nvSpPr>
        <p:spPr>
          <a:xfrm>
            <a:off x="733680" y="0"/>
            <a:ext cx="78602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Words With i_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haroni"/>
                <a:ea typeface="Aharoni"/>
              </a:rPr>
              <a:t>The letter “i” can stand for the long “i” sound in the middle of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haroni"/>
                <a:ea typeface="Aharoni"/>
              </a:rPr>
              <a:t>words vine, dime, and l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grape-vine_1_lg.gif"/>
          <p:cNvPicPr/>
          <p:nvPr/>
        </p:nvPicPr>
        <p:blipFill>
          <a:blip r:embed="rId3"/>
          <a:stretch/>
        </p:blipFill>
        <p:spPr>
          <a:xfrm>
            <a:off x="380880" y="1143000"/>
            <a:ext cx="3546720" cy="1828800"/>
          </a:xfrm>
          <a:prstGeom prst="rect">
            <a:avLst/>
          </a:prstGeom>
          <a:ln w="0">
            <a:noFill/>
          </a:ln>
        </p:spPr>
      </p:pic>
      <p:sp>
        <p:nvSpPr>
          <p:cNvPr id="85" name="TextBox 7"/>
          <p:cNvSpPr/>
          <p:nvPr/>
        </p:nvSpPr>
        <p:spPr>
          <a:xfrm>
            <a:off x="1452600" y="304812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8"/>
          <p:cNvSpPr/>
          <p:nvPr/>
        </p:nvSpPr>
        <p:spPr>
          <a:xfrm>
            <a:off x="4348080" y="62485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9"/>
          <p:cNvSpPr/>
          <p:nvPr/>
        </p:nvSpPr>
        <p:spPr>
          <a:xfrm>
            <a:off x="6634080" y="358128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0"/>
          <p:cNvSpPr/>
          <p:nvPr/>
        </p:nvSpPr>
        <p:spPr>
          <a:xfrm>
            <a:off x="6781680" y="617220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build and blend words with  /i/ and other known letter-sou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2"/>
          <p:cNvSpPr/>
          <p:nvPr/>
        </p:nvSpPr>
        <p:spPr>
          <a:xfrm>
            <a:off x="1178640" y="0"/>
            <a:ext cx="7076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/Solu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n many stories, characters have problems which need sol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isten to this selection from “Cloudy With a Chance of Meatballs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veryone feared for their lives.  They couldn’t go outside most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he time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o a decision was made to abandon the town of Chewandswallow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b6bcf"/>
                </a:solidFill>
                <a:latin typeface="Arial"/>
              </a:rPr>
              <a:t>What was the problem that the townspeople ha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b6bcf"/>
                </a:solidFill>
                <a:latin typeface="Arial"/>
              </a:rPr>
              <a:t>How did they solve the probl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676520" y="3657600"/>
          <a:ext cx="6095880" cy="275904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3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bl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Three Pi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big bad wolf kept blowing down hous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bigs went in the strongest house, the brick on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ake, the Miss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ms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ake was missin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children found Flake when they got their snack ou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91" name="TextBox 4"/>
          <p:cNvSpPr/>
          <p:nvPr/>
        </p:nvSpPr>
        <p:spPr>
          <a:xfrm>
            <a:off x="6828480" y="152280"/>
            <a:ext cx="2309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:  To identify the proble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d solution of a stor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Janice Wagnon</dc:creator>
  <dc:description/>
  <dc:language>en-US</dc:language>
  <cp:lastModifiedBy>mworsham</cp:lastModifiedBy>
  <dcterms:modified xsi:type="dcterms:W3CDTF">2010-02-28T23:19:20Z</dcterms:modified>
  <cp:revision>182</cp:revision>
  <dc:subject/>
  <dc:title>Slide 1</dc:title>
</cp:coreProperties>
</file>