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A8CB-8B4C-4B54-B3EA-F74378961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35B5-C35A-4A76-B936-5F5B2242F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9DB4-C3C4-4862-9681-DD962CDBF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5297-8B7C-4D28-A354-F38B01D93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BE29-911D-4B66-A729-FC37EC25D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9C80-D78E-448E-8EEB-AE0B72108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CB8A-6D2F-473C-90E3-14AC4269B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6D54-C0F2-421D-BAE0-423BE87BF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7299-9C72-4AA6-BB49-FB2C400D3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FF4C-D315-4AA8-9938-F8EFDD55F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D0CB-BBB2-420D-9BDA-4B46C1AAD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83F8-69C9-4208-B91B-F7C9CBCE6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7CF3-6C9B-454C-93FA-23643AEC8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837B-2122-48B6-94B2-40C9052C4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B02F-27E0-45CA-BFE0-E7BE49218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0F82-177F-440E-B7E2-673241DFF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E15E-C7B9-45A9-8975-95DA1D9F1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8019-7637-453B-8E63-C054CB2D3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7C15-5CB3-424D-850A-210EFEAC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761-EAB2-416C-9686-B590E013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8FE-93A4-4D53-AA9F-EE849EBA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AB5-FFDE-4393-9014-87B3A162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B08-8954-4A6B-A21C-7C60A42D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C5B-B381-45FC-B163-1182F51D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4AE-5A6D-4241-8A5C-7BBFD056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491-8C56-40CE-AE37-8FEF767D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273-B92F-4317-B78A-482106B7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118-74A8-4A38-BBF1-D7B424B3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EF5-0102-40F6-BD74-F127AE0C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53C-EEA7-412B-B54C-B9AB56EA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FBD3-96F2-4E4D-8B66-56523EB91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halk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1219320" y="990720"/>
            <a:ext cx="79246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esson 22,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Day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We’re Going on a Picnic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ad with a partner a page from “We’re Going on a Picnic” with expres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uency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162920" y="228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with fluency in a manner that sounds like natural spe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MPj04394930000[1]"/>
          <p:cNvPicPr/>
          <p:nvPr/>
        </p:nvPicPr>
        <p:blipFill>
          <a:blip r:embed="rId1"/>
          <a:stretch/>
        </p:blipFill>
        <p:spPr>
          <a:xfrm>
            <a:off x="2438280" y="3352680"/>
            <a:ext cx="41911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ff"/>
                </a:solidFill>
                <a:latin typeface="Arial"/>
              </a:rPr>
              <a:t>Most stories have a problem and solu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urn and talk with your partner abou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oblem in “We’re Going on a Picnic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The problem was 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Turn and talk with your partner abou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olution in “We’re Going on a Picnic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00"/>
                </a:solidFill>
                <a:latin typeface="Arial"/>
              </a:rPr>
              <a:t>The solution was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57200" y="228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Problem/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324480" y="30492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problem and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v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ci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eek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you seek something, you look for or try to find it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PogDiggingDogBayardFeb06"/>
          <p:cNvPicPr/>
          <p:nvPr/>
        </p:nvPicPr>
        <p:blipFill>
          <a:blip r:embed="rId1"/>
          <a:stretch/>
        </p:blipFill>
        <p:spPr>
          <a:xfrm>
            <a:off x="228600" y="20574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1"/>
          <p:cNvSpPr/>
          <p:nvPr/>
        </p:nvSpPr>
        <p:spPr>
          <a:xfrm>
            <a:off x="304920" y="6172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 w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 the bone that he had bur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04920" y="1143000"/>
            <a:ext cx="822960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In one voice, answer this question with “pencil” or “toy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During a game of hide-and-seek, players hide and one person seeks them. At school do you usually seek a pencil or a favorite to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talk with your partner to complete this st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When I get ready for school, I seek __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obliviou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oblivious to something, you do not see it or realize it is happening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457200" y="5638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vi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her friend fell down on the gr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8" descr="C:\Documents and Settings\pawley\My Documents\My Pictures\oblivious.jpg"/>
          <p:cNvPicPr/>
          <p:nvPr/>
        </p:nvPicPr>
        <p:blipFill>
          <a:blip r:embed="rId1"/>
          <a:stretch/>
        </p:blipFill>
        <p:spPr>
          <a:xfrm>
            <a:off x="533520" y="2286000"/>
            <a:ext cx="4876560" cy="3260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04920" y="914400"/>
            <a:ext cx="84582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In one voice, answer with “ant” or “frog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If someone took my keys from my pocket and I did not notice, I would be oblivious to what happened. Would you be oblivious if you did not see an ant on your shirt or a frog on your shi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urn to your partner and show how you would act if you were oblivious to a gori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you are indecisive, you cannot make up your mind about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indecisi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533520" y="5029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deci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out what to 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8" descr="C:\Documents and Settings\pawley\My Documents\My Pictures\indecisive.jpg"/>
          <p:cNvPicPr/>
          <p:nvPr/>
        </p:nvPicPr>
        <p:blipFill>
          <a:blip r:embed="rId1"/>
          <a:stretch/>
        </p:blipFill>
        <p:spPr>
          <a:xfrm>
            <a:off x="838080" y="2286000"/>
            <a:ext cx="399600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52280" y="990720"/>
            <a:ext cx="876312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In one voice, answer with “restaurant” or “pencil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When I cannot decide what to eat for lunch, I am being indecisive. Would you be indecisive about what to choose at a restaurant or about which pencil to us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Turn to your partner and show how you could pretend to be indecisive about which toy to bu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fo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762120" y="762120"/>
            <a:ext cx="761976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Puppet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ere very excited to see a pup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. We felt okay when the pup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started. the puppet show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gly Duckling.” we felt sad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uckling was all alone. We fel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duckling grew into a swan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11"/>
          <p:cNvSpPr/>
          <p:nvPr/>
        </p:nvSpPr>
        <p:spPr>
          <a:xfrm>
            <a:off x="152280" y="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would you do at a picnic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like to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like to do this because 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990720" y="137160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I got a cute, little puppy when I was 3 years old.  I felt so happy! The puppy was little, brown, and fuzzy. He kept licking my hands.  I named him Brownie. He was so ni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553080" y="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33520" y="15228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cription of a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323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Make A We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describing words that tell about feel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971800" y="1828800"/>
            <a:ext cx="320040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733920" y="213372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 a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1981080" y="1219320"/>
            <a:ext cx="5181840" cy="472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553080" y="5105520"/>
            <a:ext cx="1676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6477120" y="762120"/>
            <a:ext cx="9903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1295280" y="5257800"/>
            <a:ext cx="1447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H="1" flipV="1">
            <a:off x="838080" y="1219320"/>
            <a:ext cx="1371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listen to poetry read alo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09680" y="22860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The Pic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MPj04392920000[1]"/>
          <p:cNvPicPr/>
          <p:nvPr/>
        </p:nvPicPr>
        <p:blipFill>
          <a:blip r:embed="rId1"/>
          <a:stretch/>
        </p:blipFill>
        <p:spPr>
          <a:xfrm>
            <a:off x="1219320" y="191448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v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ar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to say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i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6" descr="C:\Documents and Settings\pawley\My Documents\My Pictures\sheep.jpg"/>
          <p:cNvPicPr/>
          <p:nvPr/>
        </p:nvPicPr>
        <p:blipFill>
          <a:blip r:embed="rId1"/>
          <a:stretch/>
        </p:blipFill>
        <p:spPr>
          <a:xfrm>
            <a:off x="4648320" y="23623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57200" y="0"/>
            <a:ext cx="7315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Long vowel /i/ i-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6"/>
          <p:cNvSpPr/>
          <p:nvPr/>
        </p:nvSpPr>
        <p:spPr>
          <a:xfrm>
            <a:off x="990720" y="1066680"/>
            <a:ext cx="716256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k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has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ite bik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k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id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t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ui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e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dog runs by his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ke rid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7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9"/>
          <p:cNvSpPr/>
          <p:nvPr/>
        </p:nvSpPr>
        <p:spPr>
          <a:xfrm>
            <a:off x="3124080" y="129528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0"/>
          <p:cNvSpPr/>
          <p:nvPr/>
        </p:nvSpPr>
        <p:spPr>
          <a:xfrm>
            <a:off x="3581280" y="129528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1"/>
          <p:cNvSpPr/>
          <p:nvPr/>
        </p:nvSpPr>
        <p:spPr>
          <a:xfrm>
            <a:off x="3809880" y="12952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2"/>
          <p:cNvSpPr/>
          <p:nvPr/>
        </p:nvSpPr>
        <p:spPr>
          <a:xfrm>
            <a:off x="3276720" y="2362320"/>
            <a:ext cx="54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3"/>
          <p:cNvSpPr/>
          <p:nvPr/>
        </p:nvSpPr>
        <p:spPr>
          <a:xfrm>
            <a:off x="3581280" y="236232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4"/>
          <p:cNvSpPr/>
          <p:nvPr/>
        </p:nvSpPr>
        <p:spPr>
          <a:xfrm>
            <a:off x="3809880" y="2362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3200400" y="342900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6"/>
          <p:cNvSpPr/>
          <p:nvPr/>
        </p:nvSpPr>
        <p:spPr>
          <a:xfrm>
            <a:off x="3505320" y="34290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7"/>
          <p:cNvSpPr/>
          <p:nvPr/>
        </p:nvSpPr>
        <p:spPr>
          <a:xfrm>
            <a:off x="3886200" y="3429000"/>
            <a:ext cx="53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8"/>
          <p:cNvSpPr/>
          <p:nvPr/>
        </p:nvSpPr>
        <p:spPr>
          <a:xfrm>
            <a:off x="3200400" y="44197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9"/>
          <p:cNvSpPr/>
          <p:nvPr/>
        </p:nvSpPr>
        <p:spPr>
          <a:xfrm>
            <a:off x="3505320" y="441972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0"/>
          <p:cNvSpPr/>
          <p:nvPr/>
        </p:nvSpPr>
        <p:spPr>
          <a:xfrm>
            <a:off x="3809880" y="4419720"/>
            <a:ext cx="68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7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8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l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w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9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t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c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g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n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beca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l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r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thos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walk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3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3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3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3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3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28T23:20:53Z</dcterms:modified>
  <cp:revision>147</cp:revision>
  <dc:subject/>
  <dc:title>Slide 1</dc:title>
</cp:coreProperties>
</file>