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526-944B-4F36-9CF9-3F6B6A6D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99E-A25F-40EC-8628-3FCE49EC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D60-AF65-4EF2-9845-7F7CE80D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0F8B-03C0-410A-AEB7-B47B959BD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EDE7-3350-43CF-AF6A-B4BCF48D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DB8-4323-4415-9A52-EF00BB57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FB74-371D-40DB-8E3F-35F819193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BEB0-11AF-4995-9CB2-31EC7E5A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177D-C408-41B5-A064-CF49EC6D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CB9-B540-46E1-B1C3-25633053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4A1-02C2-47EE-9AF8-A6F499B47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83CB-45EB-41DE-8146-CC40B1EB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111-CE5C-41D7-8A4B-E8FF088C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27E5-1B25-43AF-9070-31C65B50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ACB-137D-4412-9B42-22C54B8C2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3047-A239-4B75-965A-ABE2965C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5630-3005-433B-96C6-89D0D4C8E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5DE2-0970-43EC-B2AF-1C7C8EF4C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7A7D-BB4B-4762-97F0-3E11F0C4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E9A1-2A00-48C0-A461-95868DB0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C3C-94C4-4229-8B57-E9FE917F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68B-A111-430E-9800-A20DC6DE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5DD2-E243-4CC4-8D10-89281B7C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11A-2562-411E-B2BE-D4E1839C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D15F-20E0-4242-9899-310482A5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BC8-5A94-4EC1-9BBF-E1A18225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094-EFAA-4482-9D95-6E6B9FB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CD5-2D5B-4DB5-A1F8-7F027994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4FE-0295-4D93-A94C-991FD9ED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025-608F-4B95-B392-B07543F0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EF7-6591-47A3-B0C2-50B182C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B7E-5EE0-4C87-8AF3-E9AD3A56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A68-2B39-42EA-9B3A-9E7A7157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26E-B73C-455D-AF57-1DDE4006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6C0-08DA-4CC7-B81D-C3A539B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3BB-3EF7-4E74-AE3E-C9DCCF5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A1B-4B99-4A3D-9B2A-51852CB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8337-6A13-452E-B183-A72D7DE0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loud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00"/>
                </a:solidFill>
                <a:latin typeface="Comic Sans MS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19816.jpg"/>
          <p:cNvPicPr/>
          <p:nvPr/>
        </p:nvPicPr>
        <p:blipFill>
          <a:blip r:embed="rId1"/>
          <a:stretch/>
        </p:blipFill>
        <p:spPr>
          <a:xfrm>
            <a:off x="1676520" y="36576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767160" y="228600"/>
            <a:ext cx="2219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bl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of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mic Sans MS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mic Sans MS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africa_abroad.jpg"/>
          <p:cNvPicPr/>
          <p:nvPr/>
        </p:nvPicPr>
        <p:blipFill>
          <a:blip r:embed="rId2"/>
          <a:stretch/>
        </p:blipFill>
        <p:spPr>
          <a:xfrm>
            <a:off x="4645080" y="-6480"/>
            <a:ext cx="4297320" cy="4091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47242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 flipV="1">
            <a:off x="5485320" y="2514240"/>
            <a:ext cx="754920" cy="8388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7"/>
          <p:cNvSpPr/>
          <p:nvPr/>
        </p:nvSpPr>
        <p:spPr>
          <a:xfrm>
            <a:off x="5867280" y="6248520"/>
            <a:ext cx="3124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build schema before reading 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w exposure to stor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184400" y="152280"/>
            <a:ext cx="68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you will read a story called “On Saturday,” by Nina C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ory is a nonfiction story.  Authors often use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information in nonfiction s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is a little boy who meets people in his neighborhood and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some activity.  As you read, be looking for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lete 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2590920"/>
          <a:ext cx="6096240" cy="3809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3"/>
          <p:cNvSpPr/>
          <p:nvPr/>
        </p:nvSpPr>
        <p:spPr>
          <a:xfrm>
            <a:off x="5547240" y="6427800"/>
            <a:ext cx="3589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genre:  nonfiction; to answ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stions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7" descr="IMG_1132"/>
          <p:cNvPicPr/>
          <p:nvPr/>
        </p:nvPicPr>
        <p:blipFill>
          <a:blip r:embed="rId1"/>
          <a:stretch/>
        </p:blipFill>
        <p:spPr>
          <a:xfrm>
            <a:off x="1905120" y="3772080"/>
            <a:ext cx="571500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9220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On Satur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,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4d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00200" y="609480"/>
          <a:ext cx="6095880" cy="38102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Jack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Jack 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5"/>
          <p:cNvSpPr/>
          <p:nvPr/>
        </p:nvSpPr>
        <p:spPr>
          <a:xfrm>
            <a:off x="2462760" y="152280"/>
            <a:ext cx="427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are ready to complete the cha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559160" y="4419720"/>
            <a:ext cx="62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can you tell about the people in Jack’s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What helped you draw this conc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6324480" y="6172200"/>
            <a:ext cx="2819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nswer questions to improve comprehension; To use dra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clusions as a comprehension too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en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sser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omething, you said in a strong way what you belie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e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28600" y="5791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e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s belief to his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0" descr="d18_large"/>
          <p:cNvPicPr/>
          <p:nvPr/>
        </p:nvPicPr>
        <p:blipFill>
          <a:blip r:embed="rId1"/>
          <a:stretch/>
        </p:blipFill>
        <p:spPr>
          <a:xfrm>
            <a:off x="838080" y="1752480"/>
            <a:ext cx="3233880" cy="403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1295280" y="838080"/>
            <a:ext cx="6705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On my signal turn and talk to your partner to discuss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You want to make your bedtime 10 minutes later.  How would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rt</a:t>
            </a: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 that this is a good id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I think I should be able to stay up 10 minutes later because 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039000" y="304920"/>
            <a:ext cx="277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ffen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feel </a:t>
            </a: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hurt or upset by something someone did or said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ffe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nasty sm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9" descr="smell-bad-holding-nose"/>
          <p:cNvPicPr/>
          <p:nvPr/>
        </p:nvPicPr>
        <p:blipFill>
          <a:blip r:embed="rId1"/>
          <a:stretch/>
        </p:blipFill>
        <p:spPr>
          <a:xfrm>
            <a:off x="304920" y="2133720"/>
            <a:ext cx="4410000" cy="391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11496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685800" y="8380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n one voice, answer this question with “yes” or “no: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If I gave you a reward for good behavior, would you feel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ffended</a:t>
            </a:r>
            <a:r>
              <a:rPr b="0" lang="en-US" sz="4400" spc="-1" strike="noStrike">
                <a:solidFill>
                  <a:srgbClr val="7030a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objects can you kick and ro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kick and roll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answered in an angry way to something someone else s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tor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533520" y="594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or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nger when his friend accused him of playing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9" descr="14685319_rocked-IPL_6_500x375"/>
          <p:cNvPicPr/>
          <p:nvPr/>
        </p:nvPicPr>
        <p:blipFill>
          <a:blip r:embed="rId1"/>
          <a:stretch/>
        </p:blipFill>
        <p:spPr>
          <a:xfrm>
            <a:off x="533520" y="2286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10065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my signal, turn and talk with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ner to discuss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 friend just said he is go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at you at your favorite ga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ould you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reto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6351480" y="152280"/>
            <a:ext cx="2773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review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rough discussing ide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words with –er, -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152280" y="380880"/>
            <a:ext cx="8991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ladybug is sm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flea is sm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 hill is t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a mountain is t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Rain and snow are co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But ice is the col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d a dinosaur by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s surely the old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788840" y="480060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describing words.  Remember that –er compare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nd –est compares more than two th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772400" y="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select  a topic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a descriptive po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762120" y="762120"/>
            <a:ext cx="8076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Let’s use the ideas from 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to choose a topic for a descrip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po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840240" y="3505320"/>
            <a:ext cx="74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Let’s also start a collection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Comic Sans MS"/>
              </a:rPr>
              <a:t>rhyming words that we could 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ght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6" descr="MCj04124860000[1]"/>
          <p:cNvPicPr/>
          <p:nvPr/>
        </p:nvPicPr>
        <p:blipFill>
          <a:blip r:embed="rId1"/>
          <a:stretch/>
        </p:blipFill>
        <p:spPr>
          <a:xfrm>
            <a:off x="4952880" y="2131920"/>
            <a:ext cx="3587760" cy="3489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6100200" y="5638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I am going 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Comic Sans MS"/>
              </a:rPr>
              <a:t>home</a:t>
            </a: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 at n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h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Jane can play.  We can jump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rop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e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rode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our bikes to the park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oday we can </a:t>
            </a:r>
            <a:r>
              <a:rPr b="0" lang="en-US" sz="3200" spc="-1" strike="noStrike" u="sng">
                <a:solidFill>
                  <a:srgbClr val="7030a0"/>
                </a:solidFill>
                <a:uFillTx/>
                <a:latin typeface="Comic Sans MS"/>
              </a:rPr>
              <a:t>close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is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There is Kate.  She is smelling a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Comic Sans MS"/>
              </a:rPr>
              <a:t>rose</a:t>
            </a:r>
            <a:r>
              <a:rPr b="0" lang="en-US" sz="32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d0d0d"/>
                </a:solidFill>
                <a:uFillTx/>
                <a:latin typeface="Comic Sans MS"/>
              </a:rPr>
              <a:t>Those</a:t>
            </a: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 two are my best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73280" y="2743200"/>
            <a:ext cx="766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ese passages from “The Red and Blue Coat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y could both see clearly that the coat was blue on the left and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on the rig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he two friends stared for a moment and then screamed at hi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Trickster!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464080" y="46483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100_8995.JPG"/>
          <p:cNvPicPr/>
          <p:nvPr/>
        </p:nvPicPr>
        <p:blipFill>
          <a:blip r:embed="rId1"/>
          <a:stretch/>
        </p:blipFill>
        <p:spPr>
          <a:xfrm>
            <a:off x="457200" y="457200"/>
            <a:ext cx="4532400" cy="6043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5257800" y="685800"/>
            <a:ext cx="35053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5346360" y="4800600"/>
            <a:ext cx="308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Is it a swimming par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a birthday par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  <a:ea typeface="Courier New"/>
              </a:rPr>
              <a:t>or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9-02-24T03:58:06Z</dcterms:modified>
  <cp:revision>187</cp:revision>
  <dc:subject/>
  <dc:title>Slide 1</dc:title>
</cp:coreProperties>
</file>