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D07-FC57-407B-898D-CEFAC158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2EB-E09D-4554-BBBF-84B7CCE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4AA-69BD-4F0F-9E12-E02A57CE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2BF-1611-467E-8CA5-6DAD174B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492-F792-4F41-941E-5545EAD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FA1-94B8-4D2A-B7F2-993DD50D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0E8-8417-4D6D-B3D1-387E2CE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708-2303-4C63-BAB4-90E82FF8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DF5-7D8A-43D8-B59F-28C8CA61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7FE-6217-452A-9870-1EF39FF5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9C5-C541-46CA-ACCB-95A61E9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96F-C0AB-4339-AB8A-0D848973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6A1-2DE4-4045-BC56-2E30B2E6B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February 25</a:t>
            </a:r>
            <a:r>
              <a:rPr b="1" lang="en-US" sz="5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3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On Saturday” (Page 1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ad with a partner the second page from “On Saturday” (Page 2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ency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2920" y="2286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ith fluency in a manner that sounds like natural spe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19112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You can use information in a selection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your own personal experiences to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Arial"/>
              </a:rPr>
              <a:t>conclusio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aturday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Use equity sti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at season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re the neighbors friend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Does the author and photographer, Nina Crews, like her neighborh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ow can you te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492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raw conclusions as a strategy for monitoring comprehe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The River Ci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flamingo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737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n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ngenial person is very nice and frien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eni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ighbors are friendly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e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genial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143000"/>
            <a:ext cx="87631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n one voice, answer this question with “yes” or “no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uld you be congenial to your friends if you shared your toys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Would you be congenial to your friends if you told them that you didn’t want to talk to the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show your partner how a congenial person would act if someone accidentally bumped into him or her.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reg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people congregate at a place, they gather there and spend time there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re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farmer’s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gregate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8952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914400"/>
            <a:ext cx="84582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n one voice, answer with “yes” or “no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Do you and your friends congregate on the playgr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Do you and your friends congregate at the doctor’s o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places where children like to congreg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9933"/>
                </a:solidFill>
                <a:latin typeface="Arial"/>
              </a:rPr>
              <a:t>Children like to congregate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happy and smiling, people say you are chee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eer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rmer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er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he says, “See you next Saturday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armer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989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90720"/>
            <a:ext cx="87631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n one voice, answer with “yes” or “no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cheerful if you laughed a lo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cheerful if you frowned all of the ti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to your partner and show what a cheerful face looks li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Now turn to your partner and show what a grumpy face looks li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kinds of sports do you like to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play 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are things using –er and –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762120"/>
            <a:ext cx="761976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ega T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ga Truck is a very good truck.  It is fast__ than a Peep Truck.  It rides smooth__ than a Peep Truck, too. the mega Truck is the big___ truck of all! buy on today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–er,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7242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ct the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v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952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Guess Wh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words did the poet use to describe the soccer 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phrases helped you form a picture in your m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352680"/>
            <a:ext cx="8458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ntinue working on your poem from yesterday. Draw a picture to go with your po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Make sure your poem 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Words that r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Describing words with –er and -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Guess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MPj04064900000[1]"/>
          <p:cNvPicPr/>
          <p:nvPr/>
        </p:nvPicPr>
        <p:blipFill>
          <a:blip r:embed="rId1"/>
          <a:stretch/>
        </p:blipFill>
        <p:spPr>
          <a:xfrm>
            <a:off x="1828800" y="1752480"/>
            <a:ext cx="5861160" cy="4395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755100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ar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Phoneme Addi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9907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190512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905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905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8954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895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733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572000"/>
            <a:ext cx="85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54100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o/ o-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685800"/>
            <a:ext cx="71625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ok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up at six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went to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Stone Co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sun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shon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ll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dug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l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sa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n mom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o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u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told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jok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ca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p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we go back again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h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l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r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oudl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pull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2-25T03:16:25Z</dcterms:modified>
  <cp:revision>147</cp:revision>
  <dc:subject/>
  <dc:title>Slide 1</dc:title>
</cp:coreProperties>
</file>