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74E2-ABAB-4FFA-8777-866FFD166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497B-D7B4-4116-96B2-5A704A21C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368-0613-4891-B33B-A1BA05B5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B6B-E221-4EEE-8F09-9FCB5BAF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884-6520-4ED5-A182-84111118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5B9-8BB1-4BCB-919D-B0756856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46D-B6C3-4857-A266-8293C283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A9E-5DC6-4061-8C16-5529A6BD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16B-08E6-41AB-845A-7771BF35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358-EAE1-4520-A00F-845357FB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4DC-C2C8-4C8D-8FC3-A60A26CB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DDA-5B78-46A9-BFBB-BF38CB07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778-C304-49FC-8704-AFDC2280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A19-F5FE-440F-8E6C-EA34B977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6557-C573-4929-AA83-008FEE085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80880"/>
            <a:ext cx="838188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bruary 26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3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0532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352680" y="1219320"/>
            <a:ext cx="2819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182880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505320" y="18288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419720" y="12193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276720" y="2514600"/>
            <a:ext cx="1218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267080" y="18288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4038480" y="25146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7"/>
          <p:cNvSpPr/>
          <p:nvPr/>
        </p:nvSpPr>
        <p:spPr>
          <a:xfrm>
            <a:off x="449568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2"/>
          <p:cNvSpPr/>
          <p:nvPr/>
        </p:nvSpPr>
        <p:spPr>
          <a:xfrm>
            <a:off x="3505320" y="3124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3"/>
          <p:cNvSpPr/>
          <p:nvPr/>
        </p:nvSpPr>
        <p:spPr>
          <a:xfrm>
            <a:off x="3886200" y="31240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4267080" y="31240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3505320" y="3733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7"/>
          <p:cNvSpPr/>
          <p:nvPr/>
        </p:nvSpPr>
        <p:spPr>
          <a:xfrm>
            <a:off x="4114800" y="37339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8"/>
          <p:cNvSpPr/>
          <p:nvPr/>
        </p:nvSpPr>
        <p:spPr>
          <a:xfrm>
            <a:off x="4572000" y="3733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4"/>
          <p:cNvSpPr/>
          <p:nvPr/>
        </p:nvSpPr>
        <p:spPr>
          <a:xfrm>
            <a:off x="4572000" y="1905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99072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990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990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905120"/>
            <a:ext cx="5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1905120"/>
            <a:ext cx="221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1905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289548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895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2895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7339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572000"/>
            <a:ext cx="85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4572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4572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541008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4100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3520" y="30492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990720"/>
            <a:ext cx="8305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77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0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880" y="60948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52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447920"/>
            <a:ext cx="8382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r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ou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u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draw conclusions about characters and events in a s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143000"/>
            <a:ext cx="72388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awing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clus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9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t’s remember that the author does not always list every detail of a story.  He leaves some questions unanswered so we can draw conclusions of our own.  Let’s revisit the story “Bear Wants Mo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t’s draw conclusions about the answers to thes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How do you know that Bear and Mouse are frie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What makes you think that Bear’s friends did not get enough to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n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g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er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ngenial person is very nice and frien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eni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105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ighbors are friendly an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en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87692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If I say something that you think a congenial person would say then I want you to say “You are so congenial!”  If not say nothing at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ou are such a big hel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do not like anyone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am so glad I got to meet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ke the best piece of cake.  I’ll have the other pie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4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gregat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people congregate at a place, they gather there and spend time there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gre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farmer’s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89520" cy="3899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0880" y="533520"/>
            <a:ext cx="807732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estion of the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3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Arial"/>
              </a:rPr>
              <a:t>I want you to say “People congregate there” if I say a place that is a good place for people to gather.  If not say nothing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9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happy and smiling, people say you are cheerfu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eer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rmer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eer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he says, “See you next Saturday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98944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I want you to say “I feel cheerful” if I say something that would make you happy. If not say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day is your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 have a lot of work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 are going on a field 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broke your favorite t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have brand new sh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get to go to the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0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describe animals using words that end in –er and -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80880"/>
            <a:ext cx="86868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’s see if we can find what is wrong with the following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rabbit’s ears are the biggest than a dog’s ea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one voice tell me the word that needs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seal is small than an eleph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one voice tell me the word that needs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giraffe is the taller of all the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one voice tell me the word that needs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 chan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03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descriptive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8" descr="des"/>
          <p:cNvPicPr/>
          <p:nvPr/>
        </p:nvPicPr>
        <p:blipFill>
          <a:blip r:embed="rId1"/>
          <a:stretch/>
        </p:blipFill>
        <p:spPr>
          <a:xfrm>
            <a:off x="228600" y="1308240"/>
            <a:ext cx="89154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533520"/>
            <a:ext cx="8001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Green tree, green t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Stretching high above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Like a tower very t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Your leaves flutt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"/>
              </a:rPr>
              <a:t>As they f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Who are some people who live on your stre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On my signal, turn and talk with your partner to complete this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Arial"/>
              </a:rPr>
              <a:t>_______ and _____ live on my stre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228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Objective: To appreciate the rhythm and rhyme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838080"/>
            <a:ext cx="8001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oday we are going to read a poem called “All the People on our Street.”  I want you to listen to see if this poem is anything like the story we read yesterday, “On Saturday.”  As we read the poem I want you to see if you can pick out any words that are rhyming wor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800100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ll the People on our Str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ll the people on our str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re the people that I like to me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 take a walk and say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o all the people that I k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80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914400"/>
            <a:ext cx="8686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362320"/>
            <a:ext cx="769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752480"/>
            <a:ext cx="69339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pe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u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808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add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19320" y="838080"/>
            <a:ext cx="69339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onem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ddi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0492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Objective: To discriminate between words with different spell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To use common letter patterns to build and rea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14300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et’s add –ose and –oke to some words to make new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3880" y="2514600"/>
          <a:ext cx="6096240" cy="41068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-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r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p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p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w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mo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28600"/>
            <a:ext cx="807732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Look at tha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Put you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se cl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to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t smells g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Look a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thorns o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Don’t let them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k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thi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os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roke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it off to take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09:14Z</dcterms:created>
  <dc:creator>Valued Gateway Client</dc:creator>
  <dc:description/>
  <dc:language>en-US</dc:language>
  <cp:lastModifiedBy> </cp:lastModifiedBy>
  <dcterms:modified xsi:type="dcterms:W3CDTF">2009-02-26T04:19:14Z</dcterms:modified>
  <cp:revision>4</cp:revision>
  <dc:subject/>
  <dc:title>Slide 1</dc:title>
</cp:coreProperties>
</file>