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02F-D992-42AF-9224-D31BDDB5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EE6-2FEA-42A3-A6B5-C8B794C3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BAE-311E-43DB-A1DE-049E5B6C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06C2-50EE-4427-8EC0-7F7CD92E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691-14A0-4CDE-9075-A5AC5E85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BA1-C079-4250-B2B1-4C84821C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704-666B-4597-9E22-D26C1C98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80F-C159-4A87-8C77-83E14F04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945-B6E3-431C-939C-8DE4AFC5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6E0-FA27-4E7D-ACD5-DB15C0BB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8D7-BB56-4695-8B49-1EAF742A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FDC-07AB-491D-AD3C-065E9160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D69A-DD2F-4721-BBC9-DDC36D709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2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3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295280"/>
            <a:ext cx="1981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1295280"/>
            <a:ext cx="2590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l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1219320"/>
            <a:ext cx="41148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is the first letter in h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other word begins with the same l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s are plurals formed by adding 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 rhymes with s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ich word begins with the same letter as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blem/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raw conclu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990720"/>
          <a:ext cx="8534520" cy="5562360"/>
        </p:xfrm>
        <a:graphic>
          <a:graphicData uri="http://schemas.openxmlformats.org/drawingml/2006/table">
            <a:tbl>
              <a:tblPr/>
              <a:tblGrid>
                <a:gridCol w="2185920"/>
                <a:gridCol w="3330720"/>
                <a:gridCol w="301788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clu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ues/What I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Red and Blue Co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 Satur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ar Wants M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en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 usual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eer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mea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one voice answer this question with a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 n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7724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place where you woul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reg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your friends after school.  Where might yo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reg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warm summer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 to answer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uld congregate at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56080" y="1523880"/>
            <a:ext cx="3637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just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sser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at vanilla ice cream tastes the best.  How would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t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urn and talk with your partner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the stem below to answer this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ould retort by saying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37160" y="1219320"/>
            <a:ext cx="32036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rayon is smaller than the book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pler is bigger than the crayon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ook is the biggest of 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 a list of describing words…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could go anywhere on a Saturday, where would you go?  Tell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go to ______ because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dentify word pictures in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0"/>
            <a:ext cx="899172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All the People on Our Stree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7057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1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" dur="5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add phonemes to make new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26708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4952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one, -ol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0"/>
            <a:ext cx="167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read words with phonograms –on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-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0120" y="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phonograms –ai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1337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2004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ograms –one, -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920" y="1219320"/>
          <a:ext cx="8458200" cy="52578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9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-one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9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-ole</a:t>
                      </a:r>
                      <a:endParaRPr b="0" lang="en-US" sz="4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2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Phonograms –one, -ol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2-27T05:00:19Z</dcterms:modified>
  <cp:revision>135</cp:revision>
  <dc:subject/>
  <dc:title>Slide 1</dc:title>
</cp:coreProperties>
</file>