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7A9-3F81-4C25-970F-7F468397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5660-48A2-4356-9074-7CF29257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B04E-874E-4C9E-BB87-F11BAB1F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4DB5-2676-4E2D-AEF8-D763FB99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B6AF-95E9-4C71-98F5-72AAD1BC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6800-0A7A-42F1-871F-68663CE53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16B-CAD1-46E4-A264-FFB24159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DBEE-9CB0-4222-96A6-2951EA504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8C7E-60C7-4B68-8C66-1448F020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B292-F69E-40C8-8F3A-6F4A882B6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BCFA-5722-49CB-8A3A-6576FCE0A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C23A-CAF5-4707-BCD0-72AD7514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4A3-5CE9-47F0-AA16-4C969D05D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E930-0946-475E-88BD-0DA9FFC4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E5CA-1251-4A8F-8924-C8306B71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436C-BCF3-4E4E-A0F8-43CFFC55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884E-7BF9-40A9-89CB-AD40B5DA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7E0-FE58-4D9C-BAB1-F0BB427E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, busy, eyes, high, listen, remembered, talk, visitor, old, same, tell, following, show, also,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8611-4457-4886-B879-6D95FCA6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8FC-24B8-467B-A8FD-4CCB1FAF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D4B-94EF-47CB-AAD3-BCF0E0D6F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6A2-6CE0-4014-BA47-3A863A43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7704-E2E1-433B-A82A-750EAC14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21F6-299F-497E-9550-F3580C3F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E65-4EB0-499B-BE0F-13767629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9C6-2F20-4FA2-8BA3-FFDE574E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D0A-2DAE-433A-866A-3BA5D4B1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4AC-A871-41DD-80D2-271D632E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926-75E2-4220-B803-572DC6C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7EA-DE93-4202-A53B-0F3762AC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D21-1183-4FA0-897C-3F9650B8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D90-4730-4874-A1A1-BB48DF12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565-D7D2-49E8-B9CA-A5D85A0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646-1E42-45ED-883C-B030BF04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14C-E8B8-47E4-9A9D-DF12018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C0D0-2B92-4110-B015-958CEB9C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100_8995.JPG"/>
          <p:cNvPicPr/>
          <p:nvPr/>
        </p:nvPicPr>
        <p:blipFill>
          <a:blip r:embed="rId1"/>
          <a:stretch/>
        </p:blipFill>
        <p:spPr>
          <a:xfrm>
            <a:off x="380880" y="228600"/>
            <a:ext cx="5851800" cy="38908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295280" y="4038480"/>
            <a:ext cx="7391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Look at the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 conclusion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What clues helpe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183000" y="228600"/>
            <a:ext cx="2757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761760"/>
            <a:ext cx="4038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rom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o complet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419720" y="8377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haroni"/>
                <a:ea typeface="Aharoni"/>
              </a:rPr>
              <a:t>A seed will __________ a flower on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y are _____ getting ready for the par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Her _____ are b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A tall building reaches ______ in they s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Please ________ carefully to what I s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haroni"/>
                <a:ea typeface="Aharoni"/>
              </a:rPr>
              <a:t>I ______________ to bring my home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haroni"/>
                <a:ea typeface="Aharoni"/>
              </a:rPr>
              <a:t>Do you like to _______ on the ph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haroni"/>
                <a:ea typeface="Aharoni"/>
              </a:rPr>
              <a:t>A _________ is coming to our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488600" y="2209680"/>
            <a:ext cx="23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bu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omic Sans MS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rememb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6477120" y="0"/>
            <a:ext cx="2666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apply word knowledge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reading of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stery of the Night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71600" y="1600200"/>
          <a:ext cx="6705720" cy="5008680"/>
        </p:xfrm>
        <a:graphic>
          <a:graphicData uri="http://schemas.openxmlformats.org/drawingml/2006/table">
            <a:tbl>
              <a:tblPr/>
              <a:tblGrid>
                <a:gridCol w="2019240"/>
                <a:gridCol w="46864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 Th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e 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5"/>
          <p:cNvSpPr/>
          <p:nvPr/>
        </p:nvSpPr>
        <p:spPr>
          <a:xfrm>
            <a:off x="2085480" y="304920"/>
            <a:ext cx="56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return to this screen after stations to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788720" y="6595920"/>
            <a:ext cx="419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make inference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81120" y="914400"/>
            <a:ext cx="3581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ystery of the Night S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0" descr="C:\Users\Janice\AppData\Local\Microsoft\Windows\Temporary Internet Files\Content.IE5\AETH7CGB\MPj0438700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4545000" cy="30337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9"/>
          <p:cNvSpPr/>
          <p:nvPr/>
        </p:nvSpPr>
        <p:spPr>
          <a:xfrm>
            <a:off x="1161000" y="1676520"/>
            <a:ext cx="36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ystery stories often begi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omething unusual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hen characters follow c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o solve the myst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388080" y="5715000"/>
            <a:ext cx="2722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characteri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genre:  myste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m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2520" y="1599840"/>
            <a:ext cx="38862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pleased with something, you are happy with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lea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228600" y="57913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emaker was pleased with the shoes because they were so beautifully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2" descr="shoemaker-repairing-shoes_~CB025100"/>
          <p:cNvPicPr/>
          <p:nvPr/>
        </p:nvPicPr>
        <p:blipFill>
          <a:blip r:embed="rId1"/>
          <a:stretch/>
        </p:blipFill>
        <p:spPr>
          <a:xfrm>
            <a:off x="457200" y="1828800"/>
            <a:ext cx="378612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feel joy, you feel very happy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0" y="6095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ok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o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read across her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3" descr="joy"/>
          <p:cNvPicPr/>
          <p:nvPr/>
        </p:nvPicPr>
        <p:blipFill>
          <a:blip r:embed="rId1"/>
          <a:stretch/>
        </p:blipFill>
        <p:spPr>
          <a:xfrm>
            <a:off x="990720" y="1600200"/>
            <a:ext cx="2981160" cy="4476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tammered, I had a hard time speaking.  I kept stopping and repeating the same sounds without even knowing 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amme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m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mm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she spoke to the m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1" descr="fluntering"/>
          <p:cNvPicPr/>
          <p:nvPr/>
        </p:nvPicPr>
        <p:blipFill>
          <a:blip r:embed="rId1"/>
          <a:stretch/>
        </p:blipFill>
        <p:spPr>
          <a:xfrm>
            <a:off x="838080" y="1676520"/>
            <a:ext cx="414972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tell your partner what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ea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ore, something sour or something sw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my signal, answer in one voice with 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or “sadness.”  Would making a 100 on your test bring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sad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were nervous, I migh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On my signal, tell your partner what might make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mm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054680" y="6400800"/>
            <a:ext cx="487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mmar:  Multiple-Mean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the s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water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t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 up the le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Did you find Dad’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ak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Mom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Thos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eds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 look like f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something specia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like to do at your hou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.  This is special to me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85800" y="380880"/>
            <a:ext cx="800100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write a rhyming poem abou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3733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589000" y="990720"/>
            <a:ext cx="261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748960" y="38088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바탕"/>
                <a:ea typeface="바탕"/>
              </a:rPr>
              <a:t>Sight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7" descr="MPj04385490000[1]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995040" y="7621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:  T5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7696080" y="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/s/c; /j/g; 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228600"/>
            <a:ext cx="6553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sonants /s/c; /j/g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2666880" y="1828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3124080" y="1828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3581280" y="1828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3124080" y="2971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28195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25146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8"/>
          <p:cNvSpPr/>
          <p:nvPr/>
        </p:nvSpPr>
        <p:spPr>
          <a:xfrm>
            <a:off x="297180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9"/>
          <p:cNvSpPr/>
          <p:nvPr/>
        </p:nvSpPr>
        <p:spPr>
          <a:xfrm>
            <a:off x="3352680" y="4267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0"/>
          <p:cNvSpPr/>
          <p:nvPr/>
        </p:nvSpPr>
        <p:spPr>
          <a:xfrm>
            <a:off x="3581280" y="4267080"/>
            <a:ext cx="144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6369120" y="38088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 and /j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809880" y="121932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191120" y="19810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9625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657600" y="19810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27432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11480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37339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41911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6"/>
          <p:cNvSpPr/>
          <p:nvPr/>
        </p:nvSpPr>
        <p:spPr>
          <a:xfrm>
            <a:off x="4572000" y="3581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8"/>
          <p:cNvSpPr/>
          <p:nvPr/>
        </p:nvSpPr>
        <p:spPr>
          <a:xfrm>
            <a:off x="3657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4114800" y="4495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3581280" y="54100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733920" y="54100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495680" y="5410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r home looks</a:t>
            </a: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av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n my c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We can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ac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arge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t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My friend has a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badg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I hold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ed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of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ag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keep m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la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Add som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spice</a:t>
            </a: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o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ic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90600" y="53352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Draw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Sometimes an author won’t give every detail in a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An author can use clues in the story to help the r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draw conclusions and fill in missing piece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Comic Sans MS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630000" y="2743200"/>
            <a:ext cx="706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Remember this passage from “The Shoemaker and the Elves: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A woman walked by and saw the shoes.  She came in and did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ven ask the price.  She paid double the usual cost and le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</a:rPr>
              <a:t>expressing her pleasure.’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435280" y="4648320"/>
            <a:ext cx="28324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dwardian Script ITC"/>
              </a:rPr>
              <a:t>Think Alou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E:  T5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6375240" y="0"/>
            <a:ext cx="2757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To use drawing conclusions 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tool to improve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 Wagnon</cp:lastModifiedBy>
  <dcterms:modified xsi:type="dcterms:W3CDTF">2009-03-03T04:04:58Z</dcterms:modified>
  <cp:revision>189</cp:revision>
  <dc:subject/>
  <dc:title>Slide 1</dc:title>
</cp:coreProperties>
</file>