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353-F636-485A-9C84-61C286DF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715-432C-413F-BA5B-77E3972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1B9-298B-4E74-97A4-092353C5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6F8-4FF4-4880-BAA5-E8F283AF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7E5-41FA-4350-91BD-DA485DFF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FD5-7FA0-4776-A3B4-9605FA98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F0C-CB93-4ED8-8F39-364A10A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6C2-ABFC-42B8-9125-C7924420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5730-F154-4814-A025-17CDBDC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8C5-38DC-4184-AB0C-FBD686B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200-E377-45EA-8F1D-D1C4D9E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BF1-76A7-4666-802E-866E40F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A12B-AE94-4905-8A51-55EDE1E15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rch 4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4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ff"/>
                </a:solidFill>
                <a:latin typeface="Arial"/>
              </a:rPr>
              <a:t>You can use clues in a story to figure out something or draw a conclu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e Shoemaker and the Elves</a:t>
            </a: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The shoemaker and his wife made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or the elves. What conclusion can you d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rom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Mystery of the Night So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Draw a conclusion about the neighbo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Draw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49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raw conclusions about a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2520" y="1143000"/>
            <a:ext cx="4952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Make Some Musi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nstrument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9816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zz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l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uzzling, it is hard to understand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uzz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601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g barrel in the stree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uzz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uzzling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1143000"/>
            <a:ext cx="87631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I am always puzzling over what to wear. Do you puzzle over that, too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Turn and talk with your partner telling them something that puzzles you. Use the stem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thing puzzling to me is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show your partner the face you would make if something were puzzling yo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ob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you are probing, you are searching for answers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4864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b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r students for answ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robing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914400"/>
            <a:ext cx="84582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’ll be probing for answers about dinosaurs. Would you probe for answers about today’s weather, or about space tra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would probe for answers about a missing backpack. Use the stem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probe for answers by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you are unrelenting, you do not give up until you do what you wanted to 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lent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105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nner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len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rying to win the r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unrelenting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14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I was unrelenting in my search for my walle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unrelenting in your search for a lost puppy, or in your search for a paper cli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uppose you are unrelenting when you beg to stay up late. Turn and tell your partner what you would say and how you would s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words can have multiple meanings. To use context to find the meaning of multiple-meaning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981080"/>
            <a:ext cx="7620120" cy="37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THINGS WE DO A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urn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we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word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learn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Troublesome Words: Multiple- Mean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914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cut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shapes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swing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play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poem? Tell why you lik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vorite poe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it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95280" y="-141120"/>
            <a:ext cx="632484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hyming Po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me lines end with rhyming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rhy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is enjoyable to read and listen 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ft a Rhyming 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A Poem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ings that you would like to learn how to do. Use these ideas to write your poem.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001000" y="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 topics for a rhyming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523880" y="304920"/>
            <a:ext cx="58676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Something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MPj04387180000[1]"/>
          <p:cNvPicPr/>
          <p:nvPr/>
        </p:nvPicPr>
        <p:blipFill>
          <a:blip r:embed="rId1"/>
          <a:stretch/>
        </p:blipFill>
        <p:spPr>
          <a:xfrm>
            <a:off x="2386080" y="190512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2120" y="380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RP: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2120" y="1066680"/>
            <a:ext cx="37335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emb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586480" y="990720"/>
            <a:ext cx="2387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152160" y="380880"/>
            <a:ext cx="277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바탕"/>
              </a:rPr>
              <a:t>Word 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Seg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nd 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oat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38800" cy="37465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 into phone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s/c; /j/ g,dg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54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914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7524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1752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7432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6576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3657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46483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6483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5638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5638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onsonant /s/ c, /j/ g, 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143000"/>
            <a:ext cx="716256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laces r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ca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like 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ra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get i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adg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feed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ce tw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da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to her pet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ar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th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l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he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3124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523880"/>
            <a:ext cx="579132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like to ________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see with my 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_________ is coming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_________ her birthd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 are so ___________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birds ____________ quiet at nigh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plane is _______ up in the sk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04T03:18:14Z</dcterms:modified>
  <cp:revision>148</cp:revision>
  <dc:subject/>
  <dc:title>Slide 1</dc:title>
</cp:coreProperties>
</file>