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B281-8250-451A-BCD5-490B13F8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2FB-D945-477C-872A-D114AABE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8C7-BD91-4267-8650-4FB91194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1565-17CA-4D66-853F-5BA9D563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AFE-A916-42F3-8B2E-BAA4369D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35F-34E4-4D44-8FE8-618D05A1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E80F-60BB-438C-8D76-FFA6B8A5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308-C243-4B30-AE68-FD98642B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F01-2074-4301-8689-0D501B20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549-40B7-49FB-A4BC-AAD574B8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FCFC-27A7-4FB0-9520-7ED2CC15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1250-2055-4FD0-AB9B-9AFCBF3D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25D0-C68F-42B0-80F2-1EAE9C4DE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2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5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Constantia"/>
              </a:rPr>
              <a:t>We all like playing with cute dog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isi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2880" y="114300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Duke’s Work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5785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1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" y="1523880"/>
          <a:ext cx="8686800" cy="4800600"/>
        </p:xfrm>
        <a:graphic>
          <a:graphicData uri="http://schemas.openxmlformats.org/drawingml/2006/table">
            <a:tbl>
              <a:tblPr/>
              <a:tblGrid>
                <a:gridCol w="4419720"/>
                <a:gridCol w="42670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 Dog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It Help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85800" y="1523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“Duke’s Work” with a part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o four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set a purpose for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ane Meets David Greybeard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2578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f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43600" y="1218960"/>
            <a:ext cx="320040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deserve something, you have worked hard to get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228600"/>
            <a:ext cx="5029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eserv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57913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 male chimpanzees think the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er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lead the rest of the chim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594360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sual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usually do something, you almost always do it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0958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e saw that chimp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u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ve in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5410080" cy="3579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410080" y="1600200"/>
            <a:ext cx="3490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something is peaceful, it is calm and qui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eacefu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649116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a ver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r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80052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ink of all the noises you hear outside.  Which sounds do you like?  Which sound don’t you like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hear ___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don’t like to hear ______ because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my signal, turn to your partner and tell them something that you deser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my signal, turn to your partner and tell them things that usually happened during thunderstor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fine, identify, and write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838080"/>
            <a:ext cx="899172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e he mad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car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other chimp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Sometimes they </a:t>
            </a:r>
            <a:r>
              <a:rPr b="0" lang="en-US" sz="4000" spc="-1" strike="noStrike" u="sng">
                <a:solidFill>
                  <a:srgbClr val="99cc00"/>
                </a:solidFill>
                <a:uFillTx/>
                <a:latin typeface="Arial"/>
              </a:rPr>
              <a:t>howl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 and </a:t>
            </a:r>
            <a:r>
              <a:rPr b="0" lang="en-US" sz="4000" spc="-1" strike="noStrike" u="sng">
                <a:solidFill>
                  <a:srgbClr val="99cc00"/>
                </a:solidFill>
                <a:uFillTx/>
                <a:latin typeface="Arial"/>
              </a:rPr>
              <a:t>beat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 on their ches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Jane </a:t>
            </a:r>
            <a:r>
              <a:rPr b="0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learned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other surprising thin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fine, identify, and write ver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228600"/>
            <a:ext cx="6934320" cy="61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read at s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dream at n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e skates fa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pet plays with 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 catches the b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entence using a verb from the 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fine, identify, and write ver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38088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st of Verb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001000" y="0"/>
            <a:ext cx="1143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57200"/>
            <a:ext cx="9144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Research Rep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 research report has a ti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first sentence tells the main id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other sentences tell fa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001000" y="0"/>
            <a:ext cx="1143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600200"/>
          <a:ext cx="8229600" cy="433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listen and respond to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It Is the W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30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and add phonemes to make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etion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dd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57200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s of 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001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Long Vowel 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1447920"/>
            <a:ext cx="281916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I say a word that begins with /yoo/ or/oo/, hold up your hand and say the sound. When I say a word that does not begin with /yoo/ or /oo/, hold your hand behind your back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 the same with the middle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1219320"/>
            <a:ext cx="510516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Uu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6200" y="1219320"/>
            <a:ext cx="838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1219320"/>
            <a:ext cx="1676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19810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1981080"/>
            <a:ext cx="838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12193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2743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274320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2743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35812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35812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35812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44956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449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5410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541008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5410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05320" y="1294920"/>
            <a:ext cx="2209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1295280"/>
            <a:ext cx="1218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19810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1981080"/>
            <a:ext cx="838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2743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274320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2743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3581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35812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35812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vf027655</cp:lastModifiedBy>
  <dcterms:modified xsi:type="dcterms:W3CDTF">2009-03-23T03:01:31Z</dcterms:modified>
  <cp:revision>158</cp:revision>
  <dc:subject/>
  <dc:title>Slide 1</dc:title>
</cp:coreProperties>
</file>