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15.jpeg" ContentType="image/jpeg"/>
  <Override PartName="/ppt/media/image14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22C7-2215-489F-9AE6-889263615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3308-4F85-4262-8D73-09E0F186B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5FEC-59C1-4C8E-BB6A-4906C5454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81D0-E478-43F5-BB62-7E0A12FB0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06BD-30E1-482E-B1DE-A833131A1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A6F0-509A-441C-9E59-5F982D572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5E9C-B33C-4B54-89C9-478B8D2ED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4836-7087-4DA6-8E92-EAB67B066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2498-8FD3-4FF9-8271-5227765DF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C6D9-4D60-4D3C-976A-E55E371D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AC64-33EC-4CF4-9296-42241BB3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CAD9-540C-4EFD-9E94-A714A0B5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37B64-B4C1-417E-A618-0F29B9498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ue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rch 24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25, Day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52280" y="13716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 letter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followed by a consonant an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an stand for the long 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u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sound as in the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ule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ute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an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lute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words with long vowel /(y)oo/ sound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990720" y="304920"/>
            <a:ext cx="6324480" cy="87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782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Words with u-e</a:t>
            </a:r>
            <a:endParaRPr b="1" lang="en-US" sz="6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48120" y="3429000"/>
            <a:ext cx="2771640" cy="2214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57200" y="3581280"/>
            <a:ext cx="2209680" cy="21542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248520" y="3429000"/>
            <a:ext cx="2647800" cy="19861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09480" y="57150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81280" y="56386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05720" y="54100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nstantia"/>
              </a:rPr>
              <a:t>Alphabetiz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Constantia"/>
              </a:rPr>
              <a:t>Learning about alphabetical order will 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Constantia"/>
              </a:rPr>
              <a:t>you to do many things.</a:t>
            </a:r>
            <a:r>
              <a:rPr b="0" lang="en-US" sz="3200" spc="-1" strike="noStrike">
                <a:solidFill>
                  <a:srgbClr val="99cc00"/>
                </a:solidFill>
                <a:latin typeface="Constantia"/>
              </a:rPr>
              <a:t> (Think Alou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Constantia"/>
              </a:rPr>
              <a:t>Let’s put the following books in alphabe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Constantia"/>
              </a:rPr>
              <a:t>or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20120" y="0"/>
            <a:ext cx="152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alphabetize familiar wor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4343400"/>
            <a:ext cx="1676520" cy="2057400"/>
          </a:xfrm>
          <a:prstGeom prst="rect">
            <a:avLst/>
          </a:prstGeom>
          <a:solidFill>
            <a:srgbClr val="3399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4343400"/>
            <a:ext cx="228600" cy="2057400"/>
          </a:xfrm>
          <a:prstGeom prst="rect">
            <a:avLst/>
          </a:prstGeom>
          <a:solidFill>
            <a:srgbClr val="3399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81280" y="4343400"/>
            <a:ext cx="1676520" cy="205740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352680" y="4343400"/>
            <a:ext cx="228600" cy="205740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19920" y="4343400"/>
            <a:ext cx="1676160" cy="2057400"/>
          </a:xfrm>
          <a:prstGeom prst="rect">
            <a:avLst/>
          </a:prstGeom>
          <a:solidFill>
            <a:srgbClr val="33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91320" y="4343400"/>
            <a:ext cx="228600" cy="2057400"/>
          </a:xfrm>
          <a:prstGeom prst="rect">
            <a:avLst/>
          </a:prstGeom>
          <a:solidFill>
            <a:srgbClr val="33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71600" y="4572000"/>
            <a:ext cx="10666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4648320"/>
            <a:ext cx="15238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324480" y="4572000"/>
            <a:ext cx="10670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4800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81280" y="48769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shing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24480" y="48769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od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51920" y="304920"/>
            <a:ext cx="89917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Arial"/>
              </a:rPr>
              <a:t>colo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0" lang="en-US" sz="2800" spc="-1" strike="noStrike">
                <a:solidFill>
                  <a:srgbClr val="cc3399"/>
                </a:solidFill>
                <a:latin typeface="Arial"/>
              </a:rPr>
              <a:t>col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your shi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Arial"/>
              </a:rPr>
              <a:t>hai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combed my </a:t>
            </a:r>
            <a:r>
              <a:rPr b="0" lang="en-US" sz="2800" spc="-1" strike="noStrike">
                <a:solidFill>
                  <a:srgbClr val="cc3399"/>
                </a:solidFill>
                <a:latin typeface="Arial"/>
              </a:rPr>
              <a:t>hai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Arial"/>
              </a:rPr>
              <a:t>clear</a:t>
            </a:r>
            <a:r>
              <a:rPr b="0" lang="en-US" sz="3200" spc="-1" strike="noStrike">
                <a:solidFill>
                  <a:srgbClr val="cc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can see a long way when the sky is </a:t>
            </a:r>
            <a:r>
              <a:rPr b="0" lang="en-US" sz="2800" spc="-1" strike="noStrike">
                <a:solidFill>
                  <a:srgbClr val="cc3399"/>
                </a:solidFill>
                <a:latin typeface="Arial"/>
              </a:rPr>
              <a:t>cle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Arial"/>
              </a:rPr>
              <a:t>toe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0" lang="en-US" sz="2800" spc="-1" strike="noStrike">
                <a:solidFill>
                  <a:srgbClr val="cc3399"/>
                </a:solidFill>
                <a:latin typeface="Arial"/>
              </a:rPr>
              <a:t>to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wa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Arial"/>
              </a:rPr>
              <a:t>kin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can name many </a:t>
            </a:r>
            <a:r>
              <a:rPr b="0" lang="en-US" sz="2800" spc="-1" strike="noStrike">
                <a:solidFill>
                  <a:srgbClr val="cc3399"/>
                </a:solidFill>
                <a:latin typeface="Arial"/>
              </a:rPr>
              <a:t>kin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r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Arial"/>
              </a:rPr>
              <a:t>only</a:t>
            </a:r>
            <a:r>
              <a:rPr b="0" lang="en-US" sz="32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can carry </a:t>
            </a:r>
            <a:r>
              <a:rPr b="0" lang="en-US" sz="2800" spc="-1" strike="noStrike">
                <a:solidFill>
                  <a:srgbClr val="cc3399"/>
                </a:solidFill>
                <a:latin typeface="Arial"/>
              </a:rPr>
              <a:t>on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e pillow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Arial"/>
              </a:rPr>
              <a:t>good-by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fore you leave, say, “</a:t>
            </a:r>
            <a:r>
              <a:rPr b="0" lang="en-US" sz="2800" spc="-1" strike="noStrike">
                <a:solidFill>
                  <a:srgbClr val="cc3399"/>
                </a:solidFill>
                <a:latin typeface="Arial"/>
              </a:rPr>
              <a:t>Good-by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ords to K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llo! I am a polar bear. Look at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olor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of my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hair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  It looks white, b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ear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  I walk in the snow a lo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o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are cold! I eat all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kind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sh. I have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only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one best friend. H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me is Ice Bear.  Well, it’s time f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 to go.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Good-by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228600" y="1397160"/>
          <a:ext cx="8686800" cy="3149280"/>
        </p:xfrm>
        <a:graphic>
          <a:graphicData uri="http://schemas.openxmlformats.org/drawingml/2006/table">
            <a:tbl>
              <a:tblPr/>
              <a:tblGrid>
                <a:gridCol w="2895480"/>
                <a:gridCol w="2895840"/>
                <a:gridCol w="2895480"/>
              </a:tblGrid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im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al Fea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it Hel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685800" y="2286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ding: </a:t>
            </a:r>
            <a:r>
              <a:rPr b="1" i="1" lang="en-US" sz="3600" spc="-1" strike="noStrike">
                <a:solidFill>
                  <a:srgbClr val="cc3399"/>
                </a:solidFill>
                <a:latin typeface="Arial"/>
              </a:rPr>
              <a:t>Amazing Anim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579132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: To use a graphic organizer as a strategy for comprehens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038480" y="1143000"/>
            <a:ext cx="5105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Read “Amazing Animals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alled go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first rot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32036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5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0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5" dur="2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0" dur="2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5" dur="2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0" dur="20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228600" y="1397160"/>
          <a:ext cx="8686800" cy="3149280"/>
        </p:xfrm>
        <a:graphic>
          <a:graphicData uri="http://schemas.openxmlformats.org/drawingml/2006/table">
            <a:tbl>
              <a:tblPr/>
              <a:tblGrid>
                <a:gridCol w="2895480"/>
                <a:gridCol w="2895840"/>
                <a:gridCol w="2895480"/>
              </a:tblGrid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im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al Fea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it Hel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685800" y="2286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ding: </a:t>
            </a:r>
            <a:r>
              <a:rPr b="1" i="1" lang="en-US" sz="3600" spc="-1" strike="noStrike">
                <a:solidFill>
                  <a:srgbClr val="cc3399"/>
                </a:solidFill>
                <a:latin typeface="Arial"/>
              </a:rPr>
              <a:t>Amazing Anim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579132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: To use a graphic organizer as a strategy for comprehens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er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u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acefu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943600" y="1218960"/>
            <a:ext cx="320040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you deserve something, you have worked hard to get i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0968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362320" y="228600"/>
            <a:ext cx="50292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deserv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579132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ong male chimpanzees think they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ser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lead the rest of the chim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5943600" cy="39625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80880" y="380880"/>
            <a:ext cx="8458200" cy="61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Turn and talk with your partner about what you might deserve if you cleaned your bedroom. Use the following ste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I deserve _______________ for cleaning my ro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Turn and talk with your partner about when you think you deserve a reward. Use the stem below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I deserve a reward when ______________________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Turn and talk with your partner about what a dog deserves if it does a trick. Use the following 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A dog deserves ________________________ for doing a tric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at are the names of some baby animal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Baby ________are called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usually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638680" y="19810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you usually do something, you almost always do it.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6095880"/>
            <a:ext cx="58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ne saw that chimp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usual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ive in grou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5410080" cy="35798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80880" y="380880"/>
            <a:ext cx="8458200" cy="61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Turn and talk with your partner about what you usually do after school. Use the following ste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I usually do  _______________ after sch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urn and talk with your partner about what you usually eat for lunch. Use the stem below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 usually eat ______________________ for lun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66"/>
                </a:solidFill>
                <a:latin typeface="Arial"/>
              </a:rPr>
              <a:t>Turn and talk with your partner about something that does NOT usually happen at school. Use the following 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66"/>
                </a:solidFill>
                <a:latin typeface="Arial"/>
              </a:rPr>
              <a:t>__________________ does NOT usually happen at schoo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410080" y="1600200"/>
            <a:ext cx="3490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en something is peaceful, it is calm and quie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peaceful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649116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was a very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eacefu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rn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3800520" cy="48006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0880" y="228600"/>
            <a:ext cx="8458200" cy="61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cc"/>
                </a:solidFill>
                <a:latin typeface="Arial"/>
              </a:rPr>
              <a:t>Turn and talk with your partner about what a peaceful picture would look like. Use the following ste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cc"/>
                </a:solidFill>
                <a:latin typeface="Arial"/>
              </a:rPr>
              <a:t>A peaceful picture would look like______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urn and talk with your partner about what a peaceful solution to a problem with two children arguing. Use the stem below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A peaceful solution to the arguing would be ______________________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Arial"/>
              </a:rPr>
              <a:t>Turn and talk with your partner about places that are NOT very peaceful to be. Use the following 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Arial"/>
              </a:rPr>
              <a:t>Places that are NOT peaceful are _________________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0" y="0"/>
            <a:ext cx="2286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define, identify, and write ve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2280" y="0"/>
            <a:ext cx="8991720" cy="65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you hop like a rabb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you leap like a fro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you swim like a fis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you run like a do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you fly like a bi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you climb like a c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you sit as still as a mou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still as th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1522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Find the verbs in the po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7238880" y="0"/>
            <a:ext cx="1905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fine, identify, and write ver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304920"/>
            <a:ext cx="8763120" cy="40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verbs could you put in t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t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I can _________ like a ________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8001000" y="0"/>
            <a:ext cx="1143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what a research report 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457200"/>
            <a:ext cx="9144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0000"/>
                </a:solidFill>
                <a:uFillTx/>
                <a:latin typeface="Arial"/>
              </a:rPr>
              <a:t>Research Repor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 research report has a tit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he first sentence tells the main ide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he other sentences tell fact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80880" y="380880"/>
            <a:ext cx="8382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search Repo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urn and talk with your partner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something you would like to learn 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about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list of some topics you would like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 abou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001000" y="0"/>
            <a:ext cx="1143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what a research report 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8001000" y="0"/>
            <a:ext cx="1143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what a research repor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W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57200" y="1600200"/>
          <a:ext cx="8229600" cy="43387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86240" y="22860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spond to the poem through art in a way that reflects understanding and interpret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0"/>
            <a:ext cx="4800600" cy="37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i="1" lang="en-US" sz="4400" spc="-1" strike="noStrike">
                <a:solidFill>
                  <a:srgbClr val="000000"/>
                </a:solidFill>
                <a:latin typeface="Constantia"/>
              </a:rPr>
              <a:t>The Gup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guppy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4008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les have cal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ts have kitte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ars have cub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ts have bitte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wans have cygnet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als have pupp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t guppies ju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ve little guppie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209680" y="228600"/>
            <a:ext cx="48006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he Guppy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7086600" y="228600"/>
            <a:ext cx="2057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spond to the poem through art in a way that reflects understanding and interpret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400800" y="1981080"/>
            <a:ext cx="2590920" cy="1741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304920" y="1905120"/>
            <a:ext cx="2361960" cy="1573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152280" y="4724280"/>
            <a:ext cx="2362320" cy="1573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6553080" y="4648320"/>
            <a:ext cx="23338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c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s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y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ste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membe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isi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1000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delete phonemes to change word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228960" y="1218960"/>
            <a:ext cx="5181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letion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343400" y="1981080"/>
            <a:ext cx="4572000" cy="34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86200" y="1219320"/>
            <a:ext cx="2286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u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343400" y="1143000"/>
            <a:ext cx="457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62520" y="1981080"/>
            <a:ext cx="22096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33920" y="1981080"/>
            <a:ext cx="914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19810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274320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19720" y="2743200"/>
            <a:ext cx="236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2743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038480" y="35812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267080" y="3581280"/>
            <a:ext cx="205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48320" y="358128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62520" y="44956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67080" y="4495680"/>
            <a:ext cx="213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44956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505320" y="1294920"/>
            <a:ext cx="2209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u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62520" y="1295280"/>
            <a:ext cx="1218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52680" y="2133720"/>
            <a:ext cx="22100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00400" y="2133720"/>
            <a:ext cx="838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81280" y="38862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213372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52680" y="28954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895480"/>
            <a:ext cx="2438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91120" y="28954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352680" y="38098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733920" y="3809880"/>
            <a:ext cx="190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 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91120" y="380988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00400" y="12952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6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543800" y="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long vowel /(y) o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838080"/>
            <a:ext cx="822960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n can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us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th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ou look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ut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in that ha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 will hum a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un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uk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t’s float on that large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ub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 ice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ub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melts fast in the su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 had a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nic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time at the par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ease read each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ul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on this pag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522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the words i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Federated Group</cp:lastModifiedBy>
  <dcterms:modified xsi:type="dcterms:W3CDTF">2009-03-24T03:18:50Z</dcterms:modified>
  <cp:revision>159</cp:revision>
  <dc:subject/>
  <dc:title>Slide 1</dc:title>
</cp:coreProperties>
</file>