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C24-3556-41CE-B322-AA4FC4E8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7CD-5CFB-4F3B-BBD9-875E151B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ED49-C363-4427-8E7E-3767C319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A9C5-34DD-4D83-8825-90D804EB0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D286-8704-48DA-B9A4-E238D619E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542E-3FB5-47A0-AA25-B5DA0E73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8DF0-F645-4B3C-8618-35F27876A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5950-F33D-4D42-9486-042567B64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0D7-ED6D-4679-9E35-43356903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C717-D035-475D-A3B0-21B8C44A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A606-5247-4538-B0DB-B6397477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6083-AF96-44FE-B0E1-8E1BF07E3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3F3C-26AB-482D-B7BF-48521FA3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76ED-8D83-4B21-9E6D-2D026401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BD1A-3BC6-4797-B3C0-0F1DF61F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1BBA-43AC-473F-9FDB-AB9ACDD5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6D4C-6215-4C64-BDC1-278D270C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EBD5-6CAB-4663-962A-C8F8186F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8FB8-D136-4E42-9EC3-C865B01D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8AD1-80BF-4F58-955E-3DBF97A45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437-4A2E-432F-AFC3-FA32324C9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71ED-66D8-4301-A0E2-D7DC16FCC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9F1E-EB5F-42B1-B34E-BAEE397D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4C0D-4BF0-4F81-AE63-CAAB7258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2647-C620-4DF4-B74A-4C6617796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646F-843C-4CF8-A915-37CC14C44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8B26-7C93-4746-A00C-629A6BEF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759-6CC3-4EA7-A4FE-82DCA846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C24-1F79-4C79-B0A6-70702B6C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4F9-66B7-4847-944F-22E7677A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26A-F2D0-4C10-B2B0-D7A2E43B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FD4-CC1F-4704-8558-E9F12EB5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CED-5688-48DF-B033-65A50171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46B-2CFF-469C-BFE7-8B55B8B7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30A-1FCD-45E0-8C09-88F31845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CFF-77DF-46A8-93DC-63194344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313-5AA2-4764-9174-ECF43CD0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A1C-9B11-4524-9DC2-48C75069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1A3-22BD-4DFF-9D9C-456CDCB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36F1-66A8-4453-ABC6-8AC42B2E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-360"/>
            <a:ext cx="4038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Cl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Ha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On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Comic Sans MS"/>
              </a:rPr>
              <a:t>Goodby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Co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Ki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omic Sans MS"/>
              </a:rPr>
              <a:t>T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1066680" y="533520"/>
            <a:ext cx="63248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2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4495680" y="175248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means the covering on your hea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do you use when you leave someone’s ho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describes orange or yellow or bl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tells about something on your fe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word rhymes with lo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no clouds in the sky, we say the sky is 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3908520" y="762120"/>
            <a:ext cx="474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GUESS MY WOR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nstantia"/>
              </a:rPr>
              <a:t>Learning about alphabetical order will help you to do many things.</a:t>
            </a: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 (Think Al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Let’s put the following books in alphabe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nstantia"/>
              </a:rPr>
              <a:t>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066680" y="4343400"/>
            <a:ext cx="167652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838080" y="4343400"/>
            <a:ext cx="228600" cy="2057400"/>
          </a:xfrm>
          <a:prstGeom prst="rect">
            <a:avLst/>
          </a:prstGeom>
          <a:solidFill>
            <a:srgbClr val="33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581280" y="4343400"/>
            <a:ext cx="167652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352680" y="4343400"/>
            <a:ext cx="228600" cy="20574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6019920" y="4343400"/>
            <a:ext cx="167616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791320" y="4343400"/>
            <a:ext cx="228600" cy="20574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4572000"/>
            <a:ext cx="1066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657600" y="464832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6324480" y="4572000"/>
            <a:ext cx="1067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371600" y="4800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581280" y="4876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324480" y="4876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alphabetiz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a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6858000" y="0"/>
            <a:ext cx="228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lphabetize familiar word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747680" y="1295280"/>
            <a:ext cx="339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tles….What We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make a list of things we al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about turt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70160" y="685800"/>
            <a:ext cx="864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we will read a poem about stories called, </a:t>
            </a:r>
            <a:r>
              <a:rPr b="0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The Little Tur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urtle.jpg"/>
          <p:cNvPicPr/>
          <p:nvPr/>
        </p:nvPicPr>
        <p:blipFill>
          <a:blip r:embed="rId1"/>
          <a:stretch/>
        </p:blipFill>
        <p:spPr>
          <a:xfrm>
            <a:off x="3962520" y="2438280"/>
            <a:ext cx="4816440" cy="3600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893400" y="571500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oto by Mrs. Wa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475920" y="0"/>
            <a:ext cx="4059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he Little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y Vachel Lind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There was a little tur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lived in a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wam in a pud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limbed on the r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mosq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f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snapped at a min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nd he snapped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mosq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f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e caught the min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ut he didn’t catch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ttl.jpg"/>
          <p:cNvPicPr/>
          <p:nvPr/>
        </p:nvPicPr>
        <p:blipFill>
          <a:blip r:embed="rId1"/>
          <a:stretch/>
        </p:blipFill>
        <p:spPr>
          <a:xfrm>
            <a:off x="4419720" y="152280"/>
            <a:ext cx="4562280" cy="34099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4426920" y="320040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e20"/>
                </a:solidFill>
                <a:latin typeface="Arial"/>
              </a:rPr>
              <a:t>Photo by Mrs. Wag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4267080" y="3886200"/>
            <a:ext cx="4648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nch Script MT"/>
              </a:rPr>
              <a:t>Interpretation through mov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nch Script MT"/>
              </a:rPr>
              <a:t>Hand actions for the verbs…stay s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"/>
          <p:cNvPicPr/>
          <p:nvPr/>
        </p:nvPicPr>
        <p:blipFill>
          <a:blip r:embed="rId1"/>
          <a:stretch/>
        </p:blipFill>
        <p:spPr>
          <a:xfrm>
            <a:off x="0" y="914400"/>
            <a:ext cx="8097840" cy="5556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3360" y="914400"/>
            <a:ext cx="5105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called go to your first ro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9cdf"/>
                </a:solidFill>
                <a:latin typeface="Arial"/>
              </a:rPr>
              <a:t>Grou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d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28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re is a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variet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something, there are many different ki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0384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114800" y="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varie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305160" cy="49496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0"/>
          <p:cNvSpPr/>
          <p:nvPr/>
        </p:nvSpPr>
        <p:spPr>
          <a:xfrm>
            <a:off x="473040" y="5486400"/>
            <a:ext cx="32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ar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80880" y="38088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On my signal, answer in one voice with “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variety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” or “one.”  Would you rather have a 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variety 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of books to choose from at partner reading, or just one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6487560" y="6248520"/>
            <a:ext cx="24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38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it is so amazing that it’s hard to belie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52280" y="53341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uld truly b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cred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urf this close to a sh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5" descr="chimpanzees_wideweb__470x311,0"/>
          <p:cNvPicPr/>
          <p:nvPr/>
        </p:nvPicPr>
        <p:blipFill>
          <a:blip r:embed="rId1"/>
          <a:stretch/>
        </p:blipFill>
        <p:spPr>
          <a:xfrm>
            <a:off x="380880" y="1752480"/>
            <a:ext cx="541044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ame a baby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it like to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baby _______ likes to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80880" y="1143000"/>
            <a:ext cx="84582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On my signal, answer in one voice with “fly a plane” or “water a plant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Would it be more </a:t>
            </a:r>
            <a:r>
              <a:rPr b="1" lang="en-US" sz="4400" spc="-1" strike="noStrike">
                <a:solidFill>
                  <a:srgbClr val="161645"/>
                </a:solidFill>
                <a:latin typeface="Arial"/>
              </a:rPr>
              <a:t>incredible </a:t>
            </a: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for me to fly a plane or water a pl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6477840" y="152280"/>
            <a:ext cx="243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ypic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it usually happens this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Comic Sans MS"/>
              </a:rPr>
              <a:t>typic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533520" y="5105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typical for Keesha to brush her teeth before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3" descr="peaceful-morning"/>
          <p:cNvPicPr/>
          <p:nvPr/>
        </p:nvPicPr>
        <p:blipFill>
          <a:blip r:embed="rId1"/>
          <a:stretch/>
        </p:blipFill>
        <p:spPr>
          <a:xfrm>
            <a:off x="914400" y="1752480"/>
            <a:ext cx="38005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57200" y="579600"/>
            <a:ext cx="84582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On my signal, turn and talk with your partner about what would be</a:t>
            </a:r>
            <a:r>
              <a:rPr b="1" lang="en-US" sz="3600" spc="-1" strike="noStrike">
                <a:solidFill>
                  <a:srgbClr val="161645"/>
                </a:solidFill>
                <a:latin typeface="Arial"/>
              </a:rPr>
              <a:t> typical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othing for a day at the b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On my signal,  turn and talk with your partner about what WOULD NOT be </a:t>
            </a:r>
            <a:r>
              <a:rPr b="1" lang="en-US" sz="3600" spc="-1" strike="noStrike">
                <a:solidFill>
                  <a:srgbClr val="161645"/>
                </a:solidFill>
                <a:latin typeface="Arial"/>
              </a:rPr>
              <a:t>typical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othing for a day at the b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402600" y="152280"/>
            <a:ext cx="24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fine, identify, and writ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533520" y="380880"/>
            <a:ext cx="84582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were lots of contests on Fi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.  We climbed ropes.  We ki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ls.  Some people did races.  At noon, everyone ate a picnic lunch.  It wa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1"/>
          <p:cNvSpPr/>
          <p:nvPr/>
        </p:nvSpPr>
        <p:spPr>
          <a:xfrm>
            <a:off x="0" y="152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ind the verbs in the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2085120" y="3809880"/>
            <a:ext cx="569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your own story with ver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t _____ to the ball.  She _______ the ball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across the room.  That cat _____ to 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es and then ______ the shoe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w, you will read the underlined verbs, and I will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rest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380880" y="38088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et’s share yesterday’s KWL charts and make sure of these important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ake sure your questions are about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Cross out questions that don’t fit or make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 more questions that would fit and make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8001000" y="0"/>
            <a:ext cx="1143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The Gu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C:\Documents and Settings\pawley\My Documents\My Pictures\guppy.jpg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les have cal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s have k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s have cub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ts have bitt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ans have cygne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ls have pupp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guppies j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little gupp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2209680" y="228600"/>
            <a:ext cx="480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Gupp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086600" y="2286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the poem through art in a way that reflects understanding and interpret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400800" y="1981080"/>
            <a:ext cx="2590920" cy="174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304920" y="1905120"/>
            <a:ext cx="2361960" cy="157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152280" y="47242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6"/>
          <a:stretch/>
        </p:blipFill>
        <p:spPr>
          <a:xfrm>
            <a:off x="6553080" y="4648320"/>
            <a:ext cx="23338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change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7" descr="MPj04385490000[1]"/>
          <p:cNvPicPr/>
          <p:nvPr/>
        </p:nvPicPr>
        <p:blipFill>
          <a:blip r:embed="rId1"/>
          <a:stretch/>
        </p:blipFill>
        <p:spPr>
          <a:xfrm>
            <a:off x="4419720" y="1447920"/>
            <a:ext cx="43416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57600" y="1294920"/>
            <a:ext cx="2286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114800" y="121932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358128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37339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4800600" y="27432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42900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36576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480060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955760" y="274320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543800" y="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long vowel /(y) 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4"/>
          <p:cNvSpPr/>
          <p:nvPr/>
        </p:nvSpPr>
        <p:spPr>
          <a:xfrm>
            <a:off x="685800" y="457200"/>
            <a:ext cx="2209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c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251"/>
              </a:spcBef>
              <a:buClr>
                <a:srgbClr val="33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2966040" y="2133720"/>
            <a:ext cx="256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n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h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ta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cc3300"/>
              </a:buClr>
              <a:buFont typeface="Comic Sans MS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l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5619960" y="1143000"/>
            <a:ext cx="346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What do words one through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ave in comm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ook at words eight and nin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ch word is something you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your ears?   Which w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mething you do with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u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3-25T02:50:00Z</dcterms:modified>
  <cp:revision>222</cp:revision>
  <dc:subject/>
  <dc:title>Slide 1</dc:title>
</cp:coreProperties>
</file>