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E3C1-E067-4243-A7E5-521038B46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2932-BD04-4731-8A68-254AEF4B3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F768-3F1C-4EE2-B131-07A650EBF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1B3E-29A2-43C4-898F-3F486ADD7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B243-6CDF-4270-A88E-D462FEF92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736A-50DA-41E8-A50B-15D6114A8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A9A5-7082-4119-A3D6-33E819ED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F655-D379-46CA-BF4D-4B086ED1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D5CC-0CFC-4FF5-9734-9C11F5615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8EEF-1F25-4B23-896A-7CCD2CCFC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3356-3BFD-4FC1-A8EF-7D24536D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ECFB-1DE1-4157-819B-4ABD228D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83D8-1C34-439E-94AF-70AED00E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4F70-B476-4603-B49E-985439F3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CB7E-1DFB-4C19-8152-2F9BE01B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AA33-40FD-491C-B253-CB015F46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842D-01BC-48BA-A430-2BA9B7B0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8542-A97C-4F8B-BA23-6DC20C10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93A1-2D8A-44F6-9D44-B09413A37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304920"/>
            <a:ext cx="8458200" cy="617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urs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arch 26, 2009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sson 25 Day 4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685800"/>
            <a:ext cx="91440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Dad and I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aked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a cake for M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Da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ced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the c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Then I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prinkled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the nuts on 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Here comes M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This is so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xciting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Mom sees the c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he i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miling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I think Mom i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urprised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049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ou read the words in 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spell and write known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8600" y="304920"/>
            <a:ext cx="8686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pelling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609480"/>
            <a:ext cx="883944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9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77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7" dur="77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9" dur="77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1" dur="77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9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86200" y="1219320"/>
            <a:ext cx="2286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u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1143000"/>
            <a:ext cx="457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1981080"/>
            <a:ext cx="2209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1981080"/>
            <a:ext cx="914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19810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27432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19720" y="274320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00600" y="2743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35812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358128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8320" y="358128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62520" y="44956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4495680"/>
            <a:ext cx="21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44956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05320" y="1294920"/>
            <a:ext cx="2209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u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1295280"/>
            <a:ext cx="1218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2133720"/>
            <a:ext cx="2210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00400" y="2133720"/>
            <a:ext cx="838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81280" y="38862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21337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52680" y="28954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2895480"/>
            <a:ext cx="243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28954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3809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3809880"/>
            <a:ext cx="190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 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38098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1295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75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75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" y="30492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read and write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685800"/>
            <a:ext cx="8458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371600"/>
            <a:ext cx="792468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Good-b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Ki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T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Objective: To arrange and sequence words in ABC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685800"/>
            <a:ext cx="8077320" cy="306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lphabetiz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4191120"/>
            <a:ext cx="8763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Remember when we put words in ABC order we look at the first letter to see what comes first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0880" y="685800"/>
            <a:ext cx="8458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Arial"/>
              </a:rPr>
              <a:t>We are going to reread the story </a:t>
            </a:r>
            <a:r>
              <a:rPr b="1" lang="en-US" sz="6000" spc="-1" strike="noStrike" u="sng">
                <a:solidFill>
                  <a:srgbClr val="800080"/>
                </a:solidFill>
                <a:uFillTx/>
                <a:latin typeface="Arial"/>
              </a:rPr>
              <a:t>It is the</a:t>
            </a:r>
            <a:r>
              <a:rPr b="1" lang="en-US" sz="6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6000" spc="-1" strike="noStrike" u="sng">
                <a:solidFill>
                  <a:srgbClr val="800080"/>
                </a:solidFill>
                <a:uFillTx/>
                <a:latin typeface="Arial"/>
              </a:rPr>
              <a:t>Wind</a:t>
            </a:r>
            <a:r>
              <a:rPr b="1" lang="en-US" sz="6000" spc="-1" strike="noStrike">
                <a:solidFill>
                  <a:srgbClr val="800080"/>
                </a:solidFill>
                <a:latin typeface="Arial"/>
              </a:rPr>
              <a:t>.  As we read let’s look at the animals in the story and put them in ABC orde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red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2880" y="1218960"/>
            <a:ext cx="320040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there is a </a:t>
            </a: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variet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of something, there are many different kind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"/>
          <p:cNvSpPr/>
          <p:nvPr/>
        </p:nvSpPr>
        <p:spPr>
          <a:xfrm>
            <a:off x="403848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114800" y="0"/>
            <a:ext cx="50292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ff3300"/>
                </a:solidFill>
                <a:latin typeface="Comic Sans MS"/>
              </a:rPr>
              <a:t>variet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5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305160" cy="49496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0"/>
          <p:cNvSpPr/>
          <p:nvPr/>
        </p:nvSpPr>
        <p:spPr>
          <a:xfrm>
            <a:off x="473040" y="5486400"/>
            <a:ext cx="322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found a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var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pe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mar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457200"/>
            <a:ext cx="86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0"/>
            <a:ext cx="861048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f I say something that has a great variety then you should say, “There’s a great variety of ____________________!”  If I say something that does not have a great variety you should give me a thumbs down 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t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nosaurs still l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l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ci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et l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2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7" dur="8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8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38088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listen attentively and respond appropriately to oral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1143000"/>
            <a:ext cx="80010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s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of the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3300"/>
                </a:solidFill>
                <a:latin typeface="Comic Sans MS"/>
              </a:rPr>
              <a:t>incredibl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something is </a:t>
            </a:r>
            <a:r>
              <a:rPr b="0" lang="en-US" sz="3800" spc="-1" strike="noStrike">
                <a:solidFill>
                  <a:srgbClr val="ff3300"/>
                </a:solidFill>
                <a:latin typeface="Comic Sans MS"/>
              </a:rPr>
              <a:t>incredible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, it is so amazing that it’s hard to believ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152280" y="533412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ould truly be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credi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surf this close to a sha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5" descr="chimpanzees_wideweb__470x311,0"/>
          <p:cNvPicPr/>
          <p:nvPr/>
        </p:nvPicPr>
        <p:blipFill>
          <a:blip r:embed="rId1"/>
          <a:stretch/>
        </p:blipFill>
        <p:spPr>
          <a:xfrm>
            <a:off x="380880" y="1752480"/>
            <a:ext cx="5410440" cy="3467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80880" y="228600"/>
            <a:ext cx="830592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 I say something incredible then you should say “Wow!”  If I say something that is not incredible then you should make a thumbs down s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A dog ba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An erupting volc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A talking d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A baby lifting a 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A piece of che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A person chewing g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8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8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8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8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1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4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5410080" y="1600200"/>
            <a:ext cx="3490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something is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ypica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it usually happens this w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ff0000"/>
                </a:solidFill>
                <a:latin typeface="Comic Sans MS"/>
              </a:rPr>
              <a:t>typica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533520" y="51055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as typical for Keesha to brush her teeth before scho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3" descr="peaceful-morning"/>
          <p:cNvPicPr/>
          <p:nvPr/>
        </p:nvPicPr>
        <p:blipFill>
          <a:blip r:embed="rId1"/>
          <a:stretch/>
        </p:blipFill>
        <p:spPr>
          <a:xfrm>
            <a:off x="914400" y="1752480"/>
            <a:ext cx="3800520" cy="3313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20" y="0"/>
            <a:ext cx="8686800" cy="76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If I say something that typically happens on a school day you should shrug your shoulders and say “That’s so typical!”  If not you should make a thumbs down 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ff"/>
                </a:solidFill>
                <a:latin typeface="Arial"/>
              </a:rPr>
              <a:t>eat 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ff"/>
                </a:solidFill>
                <a:latin typeface="Arial"/>
              </a:rPr>
              <a:t>go swi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ff"/>
                </a:solidFill>
                <a:latin typeface="Arial"/>
              </a:rPr>
              <a:t>do m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ff"/>
                </a:solidFill>
                <a:latin typeface="Arial"/>
              </a:rPr>
              <a:t>sit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ff"/>
                </a:solidFill>
                <a:latin typeface="Arial"/>
              </a:rPr>
              <a:t>read a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ff"/>
                </a:solidFill>
                <a:latin typeface="Arial"/>
              </a:rPr>
              <a:t>go on a field 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ff"/>
                </a:solidFill>
                <a:latin typeface="Arial"/>
              </a:rPr>
              <a:t>bake a c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ff"/>
                </a:solidFill>
                <a:latin typeface="Arial"/>
              </a:rPr>
              <a:t>t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5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5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" y="30492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Arial"/>
              </a:rPr>
              <a:t>Objective: To use knowledge of verbs to write sen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295280" y="914400"/>
            <a:ext cx="6553440" cy="283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erb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48006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member that a verb is a word that names an action.  A verb is something that you can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0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0"/>
            <a:ext cx="8382240" cy="77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t’s see if we can pick out the verbs in the following sent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tand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it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Open the d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Turn off the ligh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Run in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mile at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Pick up a penc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Lift up a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2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2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2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8001000" y="0"/>
            <a:ext cx="1143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what a research report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0" y="457200"/>
            <a:ext cx="9144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Research Repo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 research report has a tit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first sentence tells the main ide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other sentences tell fac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28600" y="152280"/>
          <a:ext cx="8686800" cy="594324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  <a:gridCol w="2895480"/>
              </a:tblGrid>
              <a:tr h="80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hat I Kn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hat I Want to Kn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hat I Learn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They live in the jungl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They have fu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What do they ea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Can they understand word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Do they live in familie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Fruit, leaves,insects, bi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457200"/>
            <a:ext cx="8534520" cy="55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Have you ever seen an eleph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What does it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n my signal, turn and talk with your partner and complete the following 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An elephant has a _________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Today we are going to reread a poem about elephants.  Where is an elephant’s trunk?  Where is an elephant’s tail?  As we read the poem I would like for you to wag your arms in front of you when you hear the word </a:t>
            </a:r>
            <a:r>
              <a:rPr b="1" i="1" lang="en-US" sz="4000" spc="-1" strike="noStrike">
                <a:solidFill>
                  <a:srgbClr val="33cc33"/>
                </a:solidFill>
                <a:latin typeface="Arial"/>
              </a:rPr>
              <a:t>trunk</a:t>
            </a: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.  I would like for you to point over one shoulder when you hear the word </a:t>
            </a:r>
            <a:r>
              <a:rPr b="1" i="1" lang="en-US" sz="4000" spc="-1" strike="noStrike">
                <a:solidFill>
                  <a:srgbClr val="33cc33"/>
                </a:solidFill>
                <a:latin typeface="Arial"/>
              </a:rPr>
              <a:t>tail</a:t>
            </a: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.  I will read it once and you will join me in reading on the second ti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leph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 a tail is behin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d a trunk is in fro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at you have s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s an eleph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or an eleph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ill never 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trunk in the fr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d a tail in the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304920"/>
            <a:ext cx="8686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838080"/>
            <a:ext cx="830592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ou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is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i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ood-b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e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8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67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77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7" dur="77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9" dur="77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1" dur="77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53352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add phonemes and change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990720"/>
            <a:ext cx="853452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honem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ddi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0"/>
            <a:ext cx="8534520" cy="64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Objective: To read inflectional forms with –ed and -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Let’s review over adding -ed and -ing to the end of a word.  Remember that when a word ends with a silent e and we add ed or ing we drop the e at the end of the word before adding ed or ing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o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Arial"/>
              </a:rPr>
              <a:t>m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3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685800" y="457200"/>
          <a:ext cx="8305920" cy="496872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3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Root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dd 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Add 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clos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lik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trad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us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clos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lik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trad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us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clos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lik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trad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us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8:09:09Z</dcterms:created>
  <dc:creator>Valued Gateway Client</dc:creator>
  <dc:description/>
  <dc:language>en-US</dc:language>
  <cp:lastModifiedBy> </cp:lastModifiedBy>
  <dcterms:modified xsi:type="dcterms:W3CDTF">2009-03-25T22:36:19Z</dcterms:modified>
  <cp:revision>4</cp:revision>
  <dc:subject/>
  <dc:title>Slide 1</dc:title>
</cp:coreProperties>
</file>