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D17-F80F-4E9D-B66D-4F0E1A86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088-ED06-4A1A-AF91-E6548857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9B5-3A0B-4288-93E4-0BA7AE32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2F0-AA7E-4A5A-B24B-560F6FBF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00B-D5E1-4CB9-A70C-D3D5F5E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9A5-12B4-4639-9664-C0B6079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A7A-56A9-4C10-8650-4092B07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157-83F7-436A-80AB-F72C57C0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E1C-396A-448B-9898-A770F3D6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441-2CA8-4B21-AC80-5C2A3C4B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55A-D7AB-4FD8-BF62-B2DFE74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BBF-8C66-447E-BFF9-2765E45E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E5E4-ABBE-4CAB-BCAE-A6D49D21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2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5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838080"/>
            <a:ext cx="4419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95280"/>
            <a:ext cx="22096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295280"/>
            <a:ext cx="2438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295280"/>
            <a:ext cx="47242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g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lon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b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r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wal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s have five let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at sound do you hear at the beginning of four of those 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sound do you hear at the beginning of the other wo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phabet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alphabetiz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523880"/>
            <a:ext cx="86868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Jane Goodall Meets David Greybear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mazing Animal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t Is the Wi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e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andies a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y stor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one voice answer this question with a yes or no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48640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ypic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re that you do.  Do you think yo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er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reward for doing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 to answer this ques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chore I do is 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73760" y="1676520"/>
            <a:ext cx="38145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n animal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d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Explain why you think it is incredible.  Is that anim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ac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urn and talk with your partner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dible animal is 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live in a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wim in a pudd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nap at a minnow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catch at fle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 in the se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_ fas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_______ my tail flukes up and dow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Name an animal.  What would you see if you looked at it from the front?  What would you see from the b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_______ has a _______ in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has a _________ in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the musical elements 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752480"/>
            <a:ext cx="419112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Elepha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513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k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ood-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3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Review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memb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dd phonemes to make 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new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876312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Addition and 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56390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Inflections –ed, -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cognize root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914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828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6483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638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0"/>
          <a:ext cx="8305560" cy="7240680"/>
        </p:xfrm>
        <a:graphic>
          <a:graphicData uri="http://schemas.openxmlformats.org/drawingml/2006/table">
            <a:tbl>
              <a:tblPr/>
              <a:tblGrid>
                <a:gridCol w="2768400"/>
                <a:gridCol w="2768400"/>
                <a:gridCol w="276876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Root Wo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d 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Add 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p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g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lo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lik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ra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us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o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napp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jogg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3-27T03:26:42Z</dcterms:modified>
  <cp:revision>145</cp:revision>
  <dc:subject/>
  <dc:title>Slide 1</dc:title>
</cp:coreProperties>
</file>