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AE53-A7DF-42EF-9846-69C2F0454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7556-7868-4D89-95B2-E7F286E54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5330-EA6C-4E92-A922-4BA49D7EB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4532-E2D1-4DD1-9C94-BA1DD2B16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E39E-7445-479E-9FDD-05C504633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D8EF-8B8C-4E37-BA5A-A5E5C09BD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CBF2-2302-4BE7-9683-E424CA350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39E8-D65F-4D7C-8F6E-94E5E9FC9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81D6-ADA2-457F-BBB5-BD2696761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F4C9-B05B-44B7-BA7A-8B20A2C9F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642F-3384-43AD-B5D8-26EBBD308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1B59-9CDA-477B-80F8-5ADC8A09E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8404-F853-428A-8953-7ACF985ED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5A9A-E11A-4E12-911B-20EDD8492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3792-DD94-417A-8A95-36DBF197B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480E-09E9-4FC1-9192-8DF1163C9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69E2-5622-4F54-9C85-D9955B459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2E68-624B-4326-8F96-3933FC55E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FEE8-0E61-433B-8BE1-FBC7B8FE6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1564-E785-44D3-8C2C-412DB2B4D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E743-88B2-45C4-B9ED-FCDF85E43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57F4-FD4D-4ABF-BA9B-AC40CA93F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64D4-E886-410B-849E-ECD696E72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CE7F-1ED2-4ACB-BAEB-40DFCD763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A0D7-FB92-4C5B-B398-B88DC7B7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311-7659-4D56-B502-F4FCF723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902-5556-4BA8-A3D8-12227356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DA29-E2AC-41E2-9DE3-7FCCDDCE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550A-64D7-4E57-9794-E5BFCD06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B4F-C7AA-40A8-A628-A3252AD8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B6E-8D64-4B87-85D6-3E8FCD3E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4148-5AC9-4C85-9D53-3970FE3A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868-325F-40E5-A2CF-E68D2CC2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44A-ADCB-4F3B-9F12-46DD7A85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7CD-15C0-42D3-BFDB-7074AA82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FF78-9600-4654-8567-65FA9C26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2D9B-F74C-455B-AEB8-09954E750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ch 3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2009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6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6705720" y="0"/>
            <a:ext cx="26668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1852560" y="609480"/>
            <a:ext cx="596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 Words in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825120" y="1600200"/>
            <a:ext cx="766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k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i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rid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il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come to your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i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e 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f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i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ts use the sun’s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ligh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ake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i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i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233280" y="22860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red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-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Arial"/>
              </a:rPr>
              <a:t>climb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Arial"/>
              </a:rPr>
              <a:t>thou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Arial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Arial"/>
              </a:rPr>
              <a:t>fool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Arial"/>
              </a:rPr>
              <a:t>t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e can see the moon from </a:t>
            </a: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Earth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lease stop </a:t>
            </a: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fooling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a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 </a:t>
            </a: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thought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it was going to snow to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 set the </a:t>
            </a: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table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for dinn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he cat </a:t>
            </a:r>
            <a:r>
              <a:rPr b="0" lang="en-US" sz="4000" spc="-1" strike="noStrike">
                <a:solidFill>
                  <a:srgbClr val="002060"/>
                </a:solidFill>
                <a:latin typeface="Comic Sans MS"/>
              </a:rPr>
              <a:t>climbed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up the g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1800" y="304920"/>
            <a:ext cx="19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1020240" y="0"/>
            <a:ext cx="697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readers look for STORY ELEMENTS as they read.  What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Y ELEM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:  what happens in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:  where and when a story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:  the people and animals in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Dog-chasing-duck-int-mar.jpg"/>
          <p:cNvPicPr/>
          <p:nvPr/>
        </p:nvPicPr>
        <p:blipFill>
          <a:blip r:embed="rId1"/>
          <a:stretch/>
        </p:blipFill>
        <p:spPr>
          <a:xfrm>
            <a:off x="2286000" y="1752480"/>
            <a:ext cx="4572000" cy="2853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1778400" y="4648320"/>
            <a:ext cx="534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look at the story elements in this pi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:   The dog is chasing the flying d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:  This is during the day in a pond or l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:  The dog and the duck ar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6378120" y="6458040"/>
            <a:ext cx="275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se story elements as a tool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1523880"/>
          <a:ext cx="8763120" cy="461808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2880" y="114300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antasy story call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st Off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0" descr="MPj03168950000[1]"/>
          <p:cNvPicPr/>
          <p:nvPr/>
        </p:nvPicPr>
        <p:blipFill>
          <a:blip r:embed="rId1"/>
          <a:stretch/>
        </p:blipFill>
        <p:spPr>
          <a:xfrm>
            <a:off x="1262160" y="2209680"/>
            <a:ext cx="3267000" cy="3618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0040" y="0"/>
            <a:ext cx="16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nderst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istics of fantas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8600" y="1523880"/>
          <a:ext cx="8763120" cy="461808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o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dow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10080" y="1218960"/>
            <a:ext cx="320040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something is done fondly, it is done in a caring, loving, or tender 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220968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209680" y="228600"/>
            <a:ext cx="50292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fond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0" y="649116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nd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eeding the ho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5" descr="MPj02622870000[1]"/>
          <p:cNvPicPr/>
          <p:nvPr/>
        </p:nvPicPr>
        <p:blipFill>
          <a:blip r:embed="rId1"/>
          <a:stretch/>
        </p:blipFill>
        <p:spPr>
          <a:xfrm>
            <a:off x="1295280" y="1371600"/>
            <a:ext cx="3376800" cy="5181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a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is pale, it is very light or without much color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0" y="60958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gg is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ue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8" descr="MCj04357550000[1]"/>
          <p:cNvPicPr/>
          <p:nvPr/>
        </p:nvPicPr>
        <p:blipFill>
          <a:blip r:embed="rId1"/>
          <a:stretch/>
        </p:blipFill>
        <p:spPr>
          <a:xfrm>
            <a:off x="1066680" y="1828800"/>
            <a:ext cx="288936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is your favorite way to travel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one place to another?  Tell w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travel by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ecause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5410080" y="1600200"/>
            <a:ext cx="3490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a place is shadowy, it is not in the light; it is shad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hadow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304920" y="6324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is standing in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hadow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4" descr="MPj04386670000[1]"/>
          <p:cNvPicPr/>
          <p:nvPr/>
        </p:nvPicPr>
        <p:blipFill>
          <a:blip r:embed="rId1"/>
          <a:stretch/>
        </p:blipFill>
        <p:spPr>
          <a:xfrm>
            <a:off x="533520" y="1905120"/>
            <a:ext cx="4346280" cy="4341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my signal, tell your partner what you rememb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nd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your last birthday pa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ne voice, answer with “yes” or “no.”  Could the sun be described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my signal, show me with your face how you might feel if you were alone in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adow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6270840" y="0"/>
            <a:ext cx="2859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review robust vocabulary throug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ussing ide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istinguish verbs</a:t>
            </a:r>
            <a:br>
              <a:rPr sz="12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tell about one or more than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152280" y="0"/>
            <a:ext cx="899172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rls pour the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rl pours the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ys pop some popc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y ______some popc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-1789200" y="5257800"/>
            <a:ext cx="8431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French Script MT"/>
              </a:rPr>
              <a:t>When talking about one person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French Script MT"/>
              </a:rPr>
              <a:t>I have to add an “s” to a ver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earch report is a piece of writing that tells facts about a certain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we will continue working on the research reports that we have already star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6411600" y="0"/>
            <a:ext cx="259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understand a research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listen for a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600200" y="0"/>
            <a:ext cx="563868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Preferred Veh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4" descr="MPj04332400000[1]"/>
          <p:cNvPicPr/>
          <p:nvPr/>
        </p:nvPicPr>
        <p:blipFill>
          <a:blip r:embed="rId1"/>
          <a:stretch/>
        </p:blipFill>
        <p:spPr>
          <a:xfrm>
            <a:off x="1905120" y="2236680"/>
            <a:ext cx="518148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d-b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substitute phonemes and make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8" descr="MPj03846820000[1]"/>
          <p:cNvPicPr/>
          <p:nvPr/>
        </p:nvPicPr>
        <p:blipFill>
          <a:blip r:embed="rId1"/>
          <a:stretch/>
        </p:blipFill>
        <p:spPr>
          <a:xfrm>
            <a:off x="4343400" y="1752480"/>
            <a:ext cx="4495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8120" y="1294920"/>
            <a:ext cx="2209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u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114800" y="129528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809880" y="19810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429000" y="19810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403848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352680" y="2743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3657600" y="2743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3962520" y="27432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4572000" y="27432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3505320" y="3581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3581280" y="441972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3809880" y="35812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4419720" y="35812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3352680" y="4419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572000" y="4419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1"/>
          <p:cNvSpPr/>
          <p:nvPr/>
        </p:nvSpPr>
        <p:spPr>
          <a:xfrm>
            <a:off x="2900160" y="510552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2"/>
          <p:cNvSpPr/>
          <p:nvPr/>
        </p:nvSpPr>
        <p:spPr>
          <a:xfrm>
            <a:off x="3588840" y="510552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3"/>
          <p:cNvSpPr/>
          <p:nvPr/>
        </p:nvSpPr>
        <p:spPr>
          <a:xfrm>
            <a:off x="4651200" y="510552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ng U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lu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u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u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u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ru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/J/ ge, dge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u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r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u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 </cp:lastModifiedBy>
  <dcterms:modified xsi:type="dcterms:W3CDTF">2009-03-31T00:48:25Z</dcterms:modified>
  <cp:revision>191</cp:revision>
  <dc:subject/>
  <dc:title>Slide 1</dc:title>
</cp:coreProperties>
</file>