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D842-C5F1-4390-91FB-F2019FE6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358-7DDE-4F5A-BCD0-35619DC7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833-BF3E-4986-BE1D-62064B19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657-AEE4-4F28-8271-599DF73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129-E9E5-46C7-9433-44D21A05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590-16F7-441A-B1A9-5408EA3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90A-010F-44FD-B3A8-F8F1DDA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BED-19C9-4681-A442-00D18C06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42A-6C66-4D28-BAEA-B8857BA2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563-AE20-4924-8A31-260AABE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254-3668-41A0-925E-499449F4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09A-D548-47F9-8286-BF083DA2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9C5-8A54-41B5-97FB-54983EF0B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1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6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7524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733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533412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914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4572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53341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914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752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1752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4114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952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715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7150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914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1148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952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514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514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3526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3526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352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gh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35268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words with /s/ c; /j/ g, 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y, ie, 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43000"/>
            <a:ext cx="87631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l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ave it to 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keep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ver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r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looks as if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i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om says it needs water 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nl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m is alway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will put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y m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ndow and water it each day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m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ency -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o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28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aloud with fluenc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66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ad the alphabet, using the punctuation to cue your inton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523880"/>
            <a:ext cx="87631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ABC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EF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J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M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Q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TUV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XYZ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aders look for STORY ELEMENTS as they read.  What are STORY EL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:  what happen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:  where and when a story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S:  the people and animal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hat are the elements in the story “Billywise?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hat are the elements in the story “Blast Of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Traveling Through Ti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0" descr="MPj03168950000[1]"/>
          <p:cNvPicPr/>
          <p:nvPr/>
        </p:nvPicPr>
        <p:blipFill>
          <a:blip r:embed="rId1"/>
          <a:stretch/>
        </p:blipFill>
        <p:spPr>
          <a:xfrm>
            <a:off x="457200" y="2057400"/>
            <a:ext cx="32670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imaginative, you are good at coming up with ideas and picturing things in your mind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magin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id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agin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y played with the to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planning a trip, where would you go? How would you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go to ____________, and I’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y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come up with imaginative ideas for stories. In one voice answer “yes” or “no”, would it be imaginative for me to write a new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ould it be imaginative to write a story that has already been writ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an imaginative way to c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imila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two things are similar, they are alike in some ways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2667240" cy="1557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4648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playground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il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914400"/>
            <a:ext cx="84582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When I look at a photo of my parents and me, I can see we are similar in some ways. Answer in one voice with “similar” or “different”, if you and I both like cake, are our tastes similar or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how you and your best friend are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My best friend and I are similar because 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affectionate, you like to show you love someone by hugging or cuddl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ffectionat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724280" cy="3152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gers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fection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one an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Answer in one voice with “yes” or “no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played with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cc00"/>
                </a:solidFill>
                <a:latin typeface="Arial"/>
              </a:rPr>
              <a:t>Would you be affectionate if you ignored your pupp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Show how you would be affectionate to a ba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verbs that tell about now. To correctly use verbs that tell about now in sentenc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371600"/>
            <a:ext cx="762012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In Ou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stands in front of the group.  Marcy write her name. Danny sits in his chair. Mary and jen raise their hands. a bird sing outside the window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Verbs that tell abou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-141120"/>
            <a:ext cx="6324840" cy="81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esearch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first sentence is a main idea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other sentences tell details about the main id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sentences have the correct capitalization and punctu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 Research Repor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working on research reports started this wee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7086600" y="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lan a research report. To use knowledge of the basic rules of punctuation and capitalization when wri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for a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Preferred Veh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4" descr="MPj04332400000[1]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38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600200"/>
            <a:ext cx="85345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icycle’s fine for a little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 the street or d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utomobile for a longer trip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f to another tow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airplane’s fine for around the worl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many a far-out pl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a rocket, oh, for the longest tr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way into outer spa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638680"/>
            <a:ext cx="8991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*Bicycl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handlebars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irplane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stretch arms out like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r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place hands on steering wheel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cket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:  stretch arms over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Phonemic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Phone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Add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dentify the phoneme added to make a new w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eacher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228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criminate between the letter-sound associations y, ie, igh; ai, ay; e, ee, 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733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733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572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572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334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334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1T02:05:42Z</dcterms:modified>
  <cp:revision>150</cp:revision>
  <dc:subject/>
  <dc:title>Slide 1</dc:title>
</cp:coreProperties>
</file>