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48D-B965-4325-800F-FA1D5AA1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526-4217-4DB8-AEC0-3B9291AB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67A-7274-4472-BC26-3D564CCD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6A7-5A7E-4145-97DF-B767A7CD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2C5-E46B-4E6B-98AB-7D8DFD4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59A-C4F2-4223-85FE-8A845AE9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6F5-0F78-41DE-BE41-B82BCB09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C38-633E-418D-83EC-0D773D2F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9AF-C78D-468B-B8FC-53B43B4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C56-3A4E-4241-9108-D4FFE6AA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CCC-F347-4786-9A45-8025D7D9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002-879E-46E1-8309-2AE3C93C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3A56-6B1D-4207-906D-08FE25A0D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6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07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Long Vow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4419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w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838080"/>
            <a:ext cx="44197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ONG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z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95280"/>
            <a:ext cx="22096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o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295280"/>
            <a:ext cx="2438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676520"/>
            <a:ext cx="47242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 rhymes with fle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four letter words -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three letter words – 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ook at the five letter words - Which word is a ver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ich words have a base word with an e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360360"/>
            <a:ext cx="71625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someone you know who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fectiona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thin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n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at pers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ing the stem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I know who is affectionate is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fondly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round the room.  Do you see anything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sk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In one voice, answer with yes or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e  _______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dow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 that would make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in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ing for a fantasy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When I give you the signal, turn and talk with your partner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nstantia"/>
              </a:rPr>
              <a:t>the stem below to answer this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dible animal is  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96080" y="0"/>
            <a:ext cx="1447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9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8280" y="3789360"/>
            <a:ext cx="4095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be anywhere in the world, where would you like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’d like to be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15200" y="0"/>
            <a:ext cx="1828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spond to poetry this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2578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nd T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2209680"/>
          <a:ext cx="4419720" cy="4038480"/>
        </p:xfrm>
        <a:graphic>
          <a:graphicData uri="http://schemas.openxmlformats.org/drawingml/2006/table">
            <a:tbl>
              <a:tblPr/>
              <a:tblGrid>
                <a:gridCol w="2057400"/>
                <a:gridCol w="2362320"/>
              </a:tblGrid>
              <a:tr h="6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you sa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ne e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to se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pointer finger on l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 finger on 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ke h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90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imb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Review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memb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3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add phonemes to make 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new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876312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ubstitution and 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963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ontractions ‘d, ‘ve,’re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0120" y="0"/>
            <a:ext cx="167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recognize con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144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wou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828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6668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h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6576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6483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638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87631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4-03T03:12:23Z</dcterms:modified>
  <cp:revision>154</cp:revision>
  <dc:subject/>
  <dc:title>Slide 1</dc:title>
</cp:coreProperties>
</file>