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1.png" ContentType="image/pn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A70-04B4-4C46-B6AB-15F3FDA6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3A0-720C-4E40-ACD5-1D0C0367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A9B-F5B6-4594-B8BC-94AA26D5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DE1-A572-4AC7-8F20-1AB91C42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C99-2080-43DE-A82C-BBCB468C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EC7-F867-4432-A269-F8CF7E45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084-3BA1-4417-B91A-DBB457D6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D33-C69E-4DD4-8681-FB178E19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82C-2097-4DD3-88B8-715C4CCB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A36-8DDE-4742-91E1-6B64E191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959-FF2B-4575-BCE4-A25BAA7B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831-7B13-4787-ACF0-6F258A81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0FCC-F5E2-40C4-95BE-1AC348B2B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3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6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Dwight and Tyrone are bunn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Dwight wants to fl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 Flight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53341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523880"/>
          <a:ext cx="8763120" cy="461808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Night Flight” with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 four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set a purpose for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illywise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008160" cy="4724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38480" y="2133720"/>
            <a:ext cx="4724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antasies have animals that talk.  Some happen in imaginary places.  When I read, I can tell that a story is fantasy, because it includes events that could not really hap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1008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something is done fondly, it is done in a caring, loving, or tender 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22860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fond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49116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nd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eding the h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337680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pale, it is very light or without much color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095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gg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ue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8893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a place is shadowy, it is not in the light; it is shad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hadow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6324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is standing in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adow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4346280" cy="4341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ere are many amazing things to explore.  What would you like to explore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like to explore 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look around the room and find something that is pa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show how you might fondly hold a kit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verbs that tell about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838080"/>
            <a:ext cx="899172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wls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hun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a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at nigh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Billywise </a:t>
            </a: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lives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in an oak tre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1880" y="0"/>
            <a:ext cx="534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verbs that tell about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286000"/>
            <a:ext cx="838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______ the birds in the tre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a research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41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for a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Here i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81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ubstitute phonemes and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 of 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001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2133720"/>
            <a:ext cx="281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I say a word that has with /i/ in the middle, hold up your hand and say the sound. When I say a word that does not begin with /i/, hold your hand behind your bac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219320"/>
            <a:ext cx="510516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Ii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219320"/>
            <a:ext cx="167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9810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12193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19810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743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74320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35812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35812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81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12952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19810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743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2743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2743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27432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3581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44197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3581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812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4419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419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3-29T21:33:05Z</dcterms:modified>
  <cp:revision>162</cp:revision>
  <dc:subject/>
  <dc:title>Slide 1</dc:title>
</cp:coreProperties>
</file>