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70A8-2DD9-43CB-A944-13EDBABE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987B-47AB-4E99-A694-CE088FF2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E76-357B-4005-A6E4-7F8FBCC7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DC7E-2B32-4A06-84EC-72158651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5E35-FA85-4FA1-9BF0-0AF3AB44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D2EC-39E3-4527-9515-309ED067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FD37-EC04-460A-AAE1-A4D378B6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78A3-E63C-45C8-9087-74418AC7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B82-E8F2-4597-98FC-84EB298A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3ED-65E1-471B-99F2-A67BBDD9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25B-2998-41D4-B73E-FE9C5D1F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F6A7-0B3F-4C6A-95E0-C9A150C4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30B5-3F91-46EE-B96B-DCC364C16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1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2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09680" y="9907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pril 8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Lesson 27, Day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96080" y="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ords with /ou/ ow, 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0"/>
            <a:ext cx="7315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Vowel Diphthong /ou/ow, 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1143000"/>
            <a:ext cx="8763120" cy="54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d said, “It does no good to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o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and I can go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d and I walked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rou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fa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saw a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rown co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 I saw a pink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ow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a bi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no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a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loud sou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t mad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gave a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ho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WO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forgot what had made m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o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22860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common vowel spelling patterns to read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219320"/>
            <a:ext cx="3429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c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d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f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1371600"/>
            <a:ext cx="3276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7. 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8. l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9. ea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10.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5192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nsw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ab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he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ush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-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gh-Frequency Word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6"/>
          <p:cNvSpPr/>
          <p:nvPr/>
        </p:nvSpPr>
        <p:spPr>
          <a:xfrm>
            <a:off x="6378120" y="6458040"/>
            <a:ext cx="275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use story elements as a tool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2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y Elements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57200"/>
            <a:ext cx="8991720" cy="65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Remember that a story has characters, a setting, and a plot with a beginning, middle, and end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ell Done, Yor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ract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t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gin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dd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cc3399"/>
                </a:solidFill>
                <a:latin typeface="Arial"/>
              </a:rPr>
              <a:t>Ebb and Flo and the Baby Se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Charact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Set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Begin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Midd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Arial"/>
              </a:rPr>
              <a:t>En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62160" y="1143000"/>
            <a:ext cx="5181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ad “Fellini the Fur Seal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to teacher read aloud and answer questions for compreh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415296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es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pel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lonesome, you feel lonely and want company.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bbe0e3"/>
              </a:gs>
              <a:gs pos="100000">
                <a:srgbClr val="00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lonesom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51814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irl wa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neso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out her frie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80880" y="167652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1143000"/>
            <a:ext cx="87631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Sometimes I get lonesome when my family is away, so I call a friend. In one voice answer, when you get lonesome would you rather sit around or find something fun to do by yoursel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Turn and talk with your partner about what you do when you feel loneso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*When I’m lonesome, I 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lat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are elated, you are very happy and excited about something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48006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aby wa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a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ause of his new teddy be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3886200" cy="2773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914400"/>
            <a:ext cx="84582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Arial"/>
              </a:rPr>
              <a:t>I would be elated if I were to win a game.  Answer in one voice, would you be more elated if it were your birthday or if it were your friend’s birth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Show how you might look if you were ela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If you could be a sea animal, which one would you be? Tell wh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’d be a __________ because 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something seems hopeless, you feel as if there is no chance that what you want to happen will happ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106624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hopeles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5257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ning the game seem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opel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w that they had an injured play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36232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990720"/>
            <a:ext cx="876312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Learning to skateboard would seem hopeless if I fell every time. Answer in one voice, If learning to do something seems hopeless, are you likely to keep trying or to give up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66"/>
                </a:solidFill>
                <a:latin typeface="Arial"/>
              </a:rPr>
              <a:t>Turn and talk with your partner about what you would say to a friend who feels hopeles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5520" y="0"/>
            <a:ext cx="3048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am, is, and are in sentences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371600"/>
            <a:ext cx="7620120" cy="40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What We Are Doing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itting at my desk Joan is getting a pencil.  Miss clark’s class is going to the lunchroom.  You are teaching us about verbs.  I are standing up now.  she is answering a question.  They is helping.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- Using Am, is, and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7621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Let’s fix the mistak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685800"/>
            <a:ext cx="6324840" cy="49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Book Re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title and the author of the book are giv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review tells what the book is about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t tells what I think about the boo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7086600" y="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words that add color and interest to writing. To write a book review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57200" y="274680"/>
            <a:ext cx="807732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 a small picture of your favorite part of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t is the Win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rite a book review about it.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7086600" y="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7086600" y="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words that add color and interest to writing. To write a book review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7"/>
          <p:cNvSpPr/>
          <p:nvPr/>
        </p:nvSpPr>
        <p:spPr>
          <a:xfrm>
            <a:off x="7086600" y="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words that add color and interest to writing. To write a book review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380880"/>
            <a:ext cx="69343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It Is the 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By Ferida Wol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ome noises wake a boy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He is curious about wha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noises are. It was fun f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out what each sound was.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Liked the rhythm of the words.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086600" y="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respond to a poem through mus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1600200" y="0"/>
            <a:ext cx="563868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Way Down D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600200"/>
            <a:ext cx="853452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derneath the w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y down de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and and stones and seaw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rfish cre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nails inch slow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ysters sle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derneath the w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y down dee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609588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*Let’s sing to the tune of “I’m a Little Teapo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477120" y="3581280"/>
            <a:ext cx="2305080" cy="15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33720" y="228600"/>
            <a:ext cx="5181480" cy="65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rd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swe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e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g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sh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086600" y="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lete phonemes to make new wor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1143000"/>
            <a:ext cx="777240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honemic Awarenes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295280" y="3200400"/>
            <a:ext cx="6324840" cy="12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honeme Deletion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in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i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y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l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mp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ki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u/ ow, ou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914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9144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1600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1600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4382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24382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3276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32767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41148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41148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48769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914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16002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1600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24382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2438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32767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3276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41148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4114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41148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48769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4876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48769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5715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57150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57150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5715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0"/>
            <a:ext cx="198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9144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914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17524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1752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9144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17524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914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17524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2666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26668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26668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26668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35812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35812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35812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u/ ow, ou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Federated Group</cp:lastModifiedBy>
  <dcterms:modified xsi:type="dcterms:W3CDTF">2009-04-08T02:06:35Z</dcterms:modified>
  <cp:revision>152</cp:revision>
  <dc:subject/>
  <dc:title>Slide 1</dc:title>
</cp:coreProperties>
</file>