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154F-FF85-4897-899B-C6F6CD7FAE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F5FC-6607-44DC-B0F9-B88247DB14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EAE4-75E4-4F80-B64A-361AF72628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7C24-DAB8-434A-8A82-0CCCAB9E20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8E6D-9D3C-492B-8A03-FEF3875625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59A1-9AE6-4F8F-8F28-797565C135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69C7-070B-47F9-AA1F-D981B69DE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42BD-F367-49F7-BFB8-EF2E6D04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FA25-34D0-43C2-BF91-4A5E5CD01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5862-E8EF-427B-8E3E-E91F80D32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277A-0B81-4139-9C4E-9774BAC47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0DBEE-544D-4D14-B634-2ECBA1F3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0318-A253-4BB8-9BEC-9C106E6B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6C4B9-9EBA-4395-84A2-78150409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0245-CFE3-4092-A0DC-1DA1C97B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96B7-E1C4-4E62-BB66-22F6EDC0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7875-AA28-48B1-B6C1-DF1797C1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E5D6-5F1F-4560-9D5F-3D406005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028F-9471-4122-912C-89D0FB7B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6D5F-F9F0-4012-A028-6BDE8212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3FAE-B1D0-44AD-A942-A33D3791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0757-4C93-458F-ACD2-14DBC19D7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26C7-F87D-401D-975C-452E3F2FF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4C721-E102-4C14-9C10-480A41E73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106AF-DCA5-4DB6-AE25-0496735E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F3F0C-B050-40C1-A466-58012F51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9EE1E-94E2-443C-89D7-0D1EECEE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91334-BF24-4CB1-8D35-204D52C84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A0A0-5546-4EFF-AEAC-AB130F43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7D323-5224-4E2B-BE84-B4896E31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6AA5F-D7F6-4EB6-85F1-2F0B6AC9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A05E6-AA32-4AB5-9762-377A5A4E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14D5B-8A10-4412-9E9C-229096D6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C3976-3441-4BB2-9D4E-BD9E9FA6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0D14E-B172-48E3-8282-A2FF3C9E6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8083C-5137-4E2F-96E3-3CAB707AF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1039-97AB-4595-932F-29594900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EC22-907A-4B2D-A266-385244B1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B587-4F89-41F4-8319-844D04CD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8206-EDCC-4D02-A80D-B9D750C6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E9D8-D899-494F-A42D-80E0BEA5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9663-DC5B-401C-877D-50C2199E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CD93-01F3-4CC8-92C0-FC1A1108EA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272D-054E-4824-8017-07FFD3F374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9492-80CF-4F72-A82C-F5CA7DBE3E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Rectangle 3" descr=""/>
          <p:cNvPicPr/>
          <p:nvPr/>
        </p:nvPicPr>
        <p:blipFill>
          <a:blip r:embed="rId1"/>
          <a:stretch/>
        </p:blipFill>
        <p:spPr>
          <a:xfrm>
            <a:off x="-371520" y="-201600"/>
            <a:ext cx="9906120" cy="63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70c0"/>
                </a:solidFill>
                <a:latin typeface="Calibri"/>
              </a:rPr>
              <a:t>/ar/ /or/ Review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905120" y="1066680"/>
            <a:ext cx="556236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Calibri"/>
              </a:rPr>
              <a:t>marke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Calibri"/>
              </a:rPr>
              <a:t>barn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Calibri"/>
              </a:rPr>
              <a:t>par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Calibri"/>
              </a:rPr>
              <a:t>hard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Calibri"/>
              </a:rPr>
              <a:t>car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Calibri"/>
              </a:rPr>
              <a:t>por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Calibri"/>
              </a:rPr>
              <a:t>pork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Calibri"/>
              </a:rPr>
              <a:t>born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Calibri"/>
              </a:rPr>
              <a:t>stor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6313680" y="5943600"/>
            <a:ext cx="2733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Objective: To build and blend words w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ar/, /or/,  and other known le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sou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3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3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3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3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3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3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3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3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3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3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ff"/>
                </a:solidFill>
                <a:latin typeface="Calibri"/>
              </a:rPr>
              <a:t>Word Blending</a:t>
            </a:r>
            <a:r>
              <a:rPr b="0" lang="en-US" sz="3200" spc="-1" strike="noStrike">
                <a:solidFill>
                  <a:srgbClr val="0066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Objective: To use /ou/ ow, ou and other known letter-sounds to decode word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52"/>
          <p:cNvSpPr/>
          <p:nvPr/>
        </p:nvSpPr>
        <p:spPr>
          <a:xfrm>
            <a:off x="3048120" y="9144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54"/>
          <p:cNvSpPr/>
          <p:nvPr/>
        </p:nvSpPr>
        <p:spPr>
          <a:xfrm>
            <a:off x="3505320" y="91440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64"/>
          <p:cNvSpPr/>
          <p:nvPr/>
        </p:nvSpPr>
        <p:spPr>
          <a:xfrm>
            <a:off x="3048120" y="25909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66"/>
          <p:cNvSpPr/>
          <p:nvPr/>
        </p:nvSpPr>
        <p:spPr>
          <a:xfrm>
            <a:off x="3505320" y="25909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ur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73"/>
          <p:cNvSpPr/>
          <p:nvPr/>
        </p:nvSpPr>
        <p:spPr>
          <a:xfrm>
            <a:off x="2971800" y="57150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75"/>
          <p:cNvSpPr/>
          <p:nvPr/>
        </p:nvSpPr>
        <p:spPr>
          <a:xfrm>
            <a:off x="3429000" y="57150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76"/>
          <p:cNvSpPr/>
          <p:nvPr/>
        </p:nvSpPr>
        <p:spPr>
          <a:xfrm>
            <a:off x="4267080" y="914400"/>
            <a:ext cx="38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 Box 79"/>
          <p:cNvSpPr/>
          <p:nvPr/>
        </p:nvSpPr>
        <p:spPr>
          <a:xfrm>
            <a:off x="4343400" y="25909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86"/>
          <p:cNvSpPr/>
          <p:nvPr/>
        </p:nvSpPr>
        <p:spPr>
          <a:xfrm>
            <a:off x="3886200" y="57150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u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 Box 87"/>
          <p:cNvSpPr/>
          <p:nvPr/>
        </p:nvSpPr>
        <p:spPr>
          <a:xfrm>
            <a:off x="4572000" y="57150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88"/>
          <p:cNvSpPr/>
          <p:nvPr/>
        </p:nvSpPr>
        <p:spPr>
          <a:xfrm>
            <a:off x="4876920" y="571500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0a0"/>
                </a:solidFill>
                <a:latin typeface="Calibri"/>
              </a:rPr>
              <a:t>i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93"/>
          <p:cNvSpPr/>
          <p:nvPr/>
        </p:nvSpPr>
        <p:spPr>
          <a:xfrm>
            <a:off x="4648320" y="9144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0a0"/>
                </a:solidFill>
                <a:latin typeface="Calibri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 Box 94"/>
          <p:cNvSpPr/>
          <p:nvPr/>
        </p:nvSpPr>
        <p:spPr>
          <a:xfrm>
            <a:off x="3124080" y="17524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 Box 95"/>
          <p:cNvSpPr/>
          <p:nvPr/>
        </p:nvSpPr>
        <p:spPr>
          <a:xfrm>
            <a:off x="3581280" y="175248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96"/>
          <p:cNvSpPr/>
          <p:nvPr/>
        </p:nvSpPr>
        <p:spPr>
          <a:xfrm>
            <a:off x="4343400" y="1752480"/>
            <a:ext cx="380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 Box 97"/>
          <p:cNvSpPr/>
          <p:nvPr/>
        </p:nvSpPr>
        <p:spPr>
          <a:xfrm>
            <a:off x="3048120" y="34290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 Box 98"/>
          <p:cNvSpPr/>
          <p:nvPr/>
        </p:nvSpPr>
        <p:spPr>
          <a:xfrm>
            <a:off x="3505320" y="34290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ur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99"/>
          <p:cNvSpPr/>
          <p:nvPr/>
        </p:nvSpPr>
        <p:spPr>
          <a:xfrm>
            <a:off x="4267080" y="34290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 Box 100"/>
          <p:cNvSpPr/>
          <p:nvPr/>
        </p:nvSpPr>
        <p:spPr>
          <a:xfrm>
            <a:off x="4648320" y="34290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0a0"/>
                </a:solidFill>
                <a:latin typeface="Calibri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101"/>
          <p:cNvSpPr/>
          <p:nvPr/>
        </p:nvSpPr>
        <p:spPr>
          <a:xfrm>
            <a:off x="3048120" y="41911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102"/>
          <p:cNvSpPr/>
          <p:nvPr/>
        </p:nvSpPr>
        <p:spPr>
          <a:xfrm>
            <a:off x="3505320" y="41911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ur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 Box 103"/>
          <p:cNvSpPr/>
          <p:nvPr/>
        </p:nvSpPr>
        <p:spPr>
          <a:xfrm>
            <a:off x="4267080" y="419112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105"/>
          <p:cNvSpPr/>
          <p:nvPr/>
        </p:nvSpPr>
        <p:spPr>
          <a:xfrm>
            <a:off x="4572000" y="41911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0a0"/>
                </a:solidFill>
                <a:latin typeface="Calibri"/>
              </a:rPr>
              <a:t>i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106"/>
          <p:cNvSpPr/>
          <p:nvPr/>
        </p:nvSpPr>
        <p:spPr>
          <a:xfrm>
            <a:off x="5257800" y="419112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 Box 107"/>
          <p:cNvSpPr/>
          <p:nvPr/>
        </p:nvSpPr>
        <p:spPr>
          <a:xfrm>
            <a:off x="5562720" y="57150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 Box 108"/>
          <p:cNvSpPr/>
          <p:nvPr/>
        </p:nvSpPr>
        <p:spPr>
          <a:xfrm>
            <a:off x="297180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109"/>
          <p:cNvSpPr/>
          <p:nvPr/>
        </p:nvSpPr>
        <p:spPr>
          <a:xfrm>
            <a:off x="3429000" y="48769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 Box 110"/>
          <p:cNvSpPr/>
          <p:nvPr/>
        </p:nvSpPr>
        <p:spPr>
          <a:xfrm>
            <a:off x="3886200" y="48769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u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111"/>
          <p:cNvSpPr/>
          <p:nvPr/>
        </p:nvSpPr>
        <p:spPr>
          <a:xfrm>
            <a:off x="4572000" y="48769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112"/>
          <p:cNvSpPr/>
          <p:nvPr/>
        </p:nvSpPr>
        <p:spPr>
          <a:xfrm>
            <a:off x="4876920" y="487692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0a0"/>
                </a:solidFill>
                <a:latin typeface="Calibri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75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75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75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75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75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75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75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75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75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75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75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75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75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75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75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75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75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75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75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75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75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75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75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75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75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75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75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75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75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75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75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75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75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75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75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75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75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75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75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75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75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75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75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75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75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75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75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75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75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75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75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75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75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75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75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75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75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75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75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75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Rectangle 1" descr=""/>
          <p:cNvPicPr/>
          <p:nvPr/>
        </p:nvPicPr>
        <p:blipFill>
          <a:blip r:embed="rId1"/>
          <a:stretch/>
        </p:blipFill>
        <p:spPr>
          <a:xfrm>
            <a:off x="-6480" y="469800"/>
            <a:ext cx="9169560" cy="6546960"/>
          </a:xfrm>
          <a:prstGeom prst="rect">
            <a:avLst/>
          </a:prstGeom>
          <a:ln w="0">
            <a:noFill/>
          </a:ln>
        </p:spPr>
      </p:pic>
      <p:sp>
        <p:nvSpPr>
          <p:cNvPr id="182" name="TextBox 2"/>
          <p:cNvSpPr/>
          <p:nvPr/>
        </p:nvSpPr>
        <p:spPr>
          <a:xfrm>
            <a:off x="152280" y="22860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Objective: To substitute phonemes in the initial position to make new words; to add phonemes to make new w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1"/>
          <p:cNvSpPr/>
          <p:nvPr/>
        </p:nvSpPr>
        <p:spPr>
          <a:xfrm>
            <a:off x="0" y="0"/>
            <a:ext cx="9144000" cy="66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et’s change some sounds to make new wo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Change the /b/ in bit to /s/ and the new word is s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Change the /b/ in barn to a /y/ and the new word is ya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Change the /c/ in cool to a /p/ and the new word is po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Change the /d/ in dust to a /m/ and the new word is mu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Change the /b/ in burn to a /t/ and the new word is t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Change the /f/ in fight to a /t/ and the new word is t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Change the /d/ in did to a /b/ and the new word is b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Change the /b/ in brush to a /c/ and the new word is cr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Change the /t/ in turn to a /b/ and the new word is b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Change the /l/ in lock to a /d/ and the new word is do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Change the /b/ in bunny to a /f/ and the new word is fun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Change the /h/ in hint to a /m/ and the new word is m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9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4" dur="500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69" dur="2000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4" dur="500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1"/>
          <p:cNvSpPr/>
          <p:nvPr/>
        </p:nvSpPr>
        <p:spPr>
          <a:xfrm>
            <a:off x="0" y="0"/>
            <a:ext cx="90676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030a0"/>
                </a:solidFill>
                <a:latin typeface="Calibri"/>
              </a:rPr>
              <a:t>Sung to the tune “The Wheels on the Bu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dd the sound of /e/ to the end of cook, end of cook, end of coo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dd the sound of /e/ to the end of cook, and find the new word – cook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/e/ to the end of dirt – dir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/e/ to the end of sit – 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/t/ to the end of go – go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/s/ to the end of art – a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/p/ to the end of she – she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/r/ to the end of teach – tea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/e/ to the end of red – re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/e/ to the end of fun – fun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/f/ to the end of scar - scar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89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94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8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8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8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8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20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2" dur="2000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2000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42" dur="500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4" dur="80"/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5" dur="80"/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1"/>
          <p:cNvSpPr/>
          <p:nvPr/>
        </p:nvSpPr>
        <p:spPr>
          <a:xfrm>
            <a:off x="228600" y="3049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Objective: To read inflectional forms of –ed, -es, -er, and –est with spelling changes; To recognize root w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2"/>
          <p:cNvSpPr/>
          <p:nvPr/>
        </p:nvSpPr>
        <p:spPr>
          <a:xfrm>
            <a:off x="380880" y="83808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We are going to do some more phoneme addition with ending sounds.  We will be adding –ed, -er, -es, and –est to words to make new word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3"/>
          <p:cNvSpPr/>
          <p:nvPr/>
        </p:nvSpPr>
        <p:spPr>
          <a:xfrm>
            <a:off x="228600" y="3276720"/>
            <a:ext cx="8686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hurry + es = hur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hurry + ed = hurri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funny + er = funn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funny + est = funni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When a word ends in y, the y is changed to an i before adding –ed, -er, -est, or –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2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2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5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5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228600" y="762120"/>
          <a:ext cx="8686800" cy="434340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  <a:gridCol w="2895480"/>
              </a:tblGrid>
              <a:tr h="14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oot w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  -er      +  -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+   -est       +  -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s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si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u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ur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urri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1"/>
          <p:cNvSpPr/>
          <p:nvPr/>
        </p:nvSpPr>
        <p:spPr>
          <a:xfrm>
            <a:off x="0" y="380880"/>
            <a:ext cx="8686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Kate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hurried</a:t>
            </a: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 hom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Spring Street was the long wa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It was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easier</a:t>
            </a: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 for Kate to walk on Main Stree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It was a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quicker</a:t>
            </a: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 way to get hom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Kate knew that York Street was the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fastest</a:t>
            </a: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 way, but it was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losed</a:t>
            </a: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Kate made it home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It was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easier</a:t>
            </a: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 than she had thought it would b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Then she ate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berries</a:t>
            </a: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 for a snack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2"/>
          <p:cNvSpPr/>
          <p:nvPr/>
        </p:nvSpPr>
        <p:spPr>
          <a:xfrm>
            <a:off x="76320" y="15228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Read the words in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red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5" dur="8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6" dur="8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7" dur="8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20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2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2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0" y="0"/>
          <a:ext cx="9144000" cy="487692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oot W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d  -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d   -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s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si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ot W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d   -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d   -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u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ur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urri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Box 1"/>
          <p:cNvSpPr/>
          <p:nvPr/>
        </p:nvSpPr>
        <p:spPr>
          <a:xfrm>
            <a:off x="152280" y="22860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Objective: To spell and write known high frequency w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Rectangle 3" descr=""/>
          <p:cNvPicPr/>
          <p:nvPr/>
        </p:nvPicPr>
        <p:blipFill>
          <a:blip r:embed="rId1"/>
          <a:stretch/>
        </p:blipFill>
        <p:spPr>
          <a:xfrm>
            <a:off x="-6480" y="438120"/>
            <a:ext cx="9156960" cy="1774800"/>
          </a:xfrm>
          <a:prstGeom prst="rect">
            <a:avLst/>
          </a:prstGeom>
          <a:ln w="0">
            <a:noFill/>
          </a:ln>
        </p:spPr>
      </p:pic>
      <p:sp>
        <p:nvSpPr>
          <p:cNvPr id="194" name="TextBox 4"/>
          <p:cNvSpPr/>
          <p:nvPr/>
        </p:nvSpPr>
        <p:spPr>
          <a:xfrm>
            <a:off x="304920" y="1447920"/>
            <a:ext cx="83818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fun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hap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to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hur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hurri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a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15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5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3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98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3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8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0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25" dur="5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1000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Rectangle 1" descr=""/>
          <p:cNvPicPr/>
          <p:nvPr/>
        </p:nvPicPr>
        <p:blipFill>
          <a:blip r:embed="rId1"/>
          <a:stretch/>
        </p:blipFill>
        <p:spPr>
          <a:xfrm>
            <a:off x="-6480" y="1047600"/>
            <a:ext cx="9363240" cy="4584960"/>
          </a:xfrm>
          <a:prstGeom prst="rect">
            <a:avLst/>
          </a:prstGeom>
          <a:ln w="0">
            <a:noFill/>
          </a:ln>
        </p:spPr>
      </p:pic>
      <p:sp>
        <p:nvSpPr>
          <p:cNvPr id="132" name="TextBox 2"/>
          <p:cNvSpPr/>
          <p:nvPr/>
        </p:nvSpPr>
        <p:spPr>
          <a:xfrm>
            <a:off x="76320" y="228600"/>
            <a:ext cx="906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Objective: To listen attentively and respond appropriately to oral communication; to express personal preferences; to follow simple dir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1"/>
          <p:cNvSpPr/>
          <p:nvPr/>
        </p:nvSpPr>
        <p:spPr>
          <a:xfrm>
            <a:off x="304920" y="1522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alibri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2"/>
          <p:cNvSpPr/>
          <p:nvPr/>
        </p:nvSpPr>
        <p:spPr>
          <a:xfrm>
            <a:off x="152280" y="609480"/>
            <a:ext cx="876312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lm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nswe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gre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ou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ush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oge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o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rave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3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2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2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2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10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9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8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6" dur="8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8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8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8" dur="10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1000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2000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1"/>
          <p:cNvSpPr/>
          <p:nvPr/>
        </p:nvSpPr>
        <p:spPr>
          <a:xfrm>
            <a:off x="0" y="3049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Objective: To identify details in a st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Rectangle 2" descr=""/>
          <p:cNvPicPr/>
          <p:nvPr/>
        </p:nvPicPr>
        <p:blipFill>
          <a:blip r:embed="rId1"/>
          <a:stretch/>
        </p:blipFill>
        <p:spPr>
          <a:xfrm>
            <a:off x="146160" y="743040"/>
            <a:ext cx="8474040" cy="3122640"/>
          </a:xfrm>
          <a:prstGeom prst="rect">
            <a:avLst/>
          </a:prstGeom>
          <a:ln w="0">
            <a:noFill/>
          </a:ln>
        </p:spPr>
      </p:pic>
      <p:sp>
        <p:nvSpPr>
          <p:cNvPr id="199" name="TextBox 3"/>
          <p:cNvSpPr/>
          <p:nvPr/>
        </p:nvSpPr>
        <p:spPr>
          <a:xfrm>
            <a:off x="380880" y="320040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alibri"/>
              </a:rPr>
              <a:t>Details are little bits of information about a character, place, or event in a story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0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1"/>
          <p:cNvSpPr/>
          <p:nvPr/>
        </p:nvSpPr>
        <p:spPr>
          <a:xfrm>
            <a:off x="0" y="152280"/>
            <a:ext cx="9144000" cy="80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We are going to reread the story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Here in Space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.  There are many details in this story.  As I read, be listening for these details.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Where does the boy liv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How does the author feel about spac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2" dur="20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17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New C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t the Crayon Fac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Here in Sp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6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Who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Mr. Kim, New C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The red crayon, Kel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bo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Wha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New Cat saves the factory with spilled tof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Crayons are made at a fac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Facts about Earth and sp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Whe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night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day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pres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her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n the Bron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t a crayon factory, at Kelly’s ho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n Earth and in sp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70c0"/>
                </a:solidFill>
                <a:uFillTx/>
                <a:latin typeface="Calibri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anticip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numero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vibra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257800" y="1523520"/>
            <a:ext cx="37339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en you anticipate a party, you look forward to it.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4f81bd"/>
              </a:gs>
              <a:gs pos="100000">
                <a:srgbClr val="00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anticipate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 Box 33"/>
          <p:cNvSpPr/>
          <p:nvPr/>
        </p:nvSpPr>
        <p:spPr>
          <a:xfrm>
            <a:off x="838080" y="51814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players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nticipat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 ball going in the goal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35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6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10" name="Content Placeholder 3" descr="anticipate.jpg"/>
          <p:cNvPicPr/>
          <p:nvPr/>
        </p:nvPicPr>
        <p:blipFill>
          <a:blip r:embed="rId3"/>
          <a:stretch/>
        </p:blipFill>
        <p:spPr>
          <a:xfrm>
            <a:off x="457200" y="2362320"/>
            <a:ext cx="4724280" cy="2487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1"/>
          <p:cNvSpPr/>
          <p:nvPr/>
        </p:nvSpPr>
        <p:spPr>
          <a:xfrm>
            <a:off x="152280" y="30492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Objective: To review robust vocabul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2"/>
          <p:cNvSpPr/>
          <p:nvPr/>
        </p:nvSpPr>
        <p:spPr>
          <a:xfrm>
            <a:off x="228600" y="838080"/>
            <a:ext cx="86104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I will name some places.  If you would anticipate going there I want you to raise your hand.  If not I want you to shake your head no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birthday par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pa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grocery sto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doctor’s offi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friend’s hou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zo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2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96" dur="2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2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2" dur="2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2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0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150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150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800000"/>
              </a:gs>
              <a:gs pos="100000">
                <a:srgbClr val="ff00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numerous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have numerous toys, you have many toys.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 Box 35"/>
          <p:cNvSpPr/>
          <p:nvPr/>
        </p:nvSpPr>
        <p:spPr>
          <a:xfrm>
            <a:off x="457200" y="48006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y had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numerou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ys collected to give away to a needy famil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Content Placeholder 3" descr="numerous.jpg"/>
          <p:cNvPicPr/>
          <p:nvPr/>
        </p:nvPicPr>
        <p:blipFill>
          <a:blip r:embed="rId1"/>
          <a:stretch/>
        </p:blipFill>
        <p:spPr>
          <a:xfrm>
            <a:off x="380880" y="1746360"/>
            <a:ext cx="4419720" cy="3009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1"/>
          <p:cNvSpPr/>
          <p:nvPr/>
        </p:nvSpPr>
        <p:spPr>
          <a:xfrm>
            <a:off x="152280" y="152280"/>
            <a:ext cx="868680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Calibri"/>
              </a:rPr>
              <a:t>I will name some things.  If there are numerous of these in our classroom raise your hand.  If not do nothing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enci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teach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rincip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halkbo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ompu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boo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8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1" dur="8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8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8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2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9" dur="1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10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1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4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4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5105520" y="1905120"/>
            <a:ext cx="3795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your shirt is vibrant, it has bright or bold colors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106624"/>
              </a:gs>
              <a:gs pos="100000">
                <a:srgbClr val="80008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vibrant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 Box 32"/>
          <p:cNvSpPr/>
          <p:nvPr/>
        </p:nvSpPr>
        <p:spPr>
          <a:xfrm>
            <a:off x="609480" y="52578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flowers are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vibra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olor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Content Placeholder 3" descr="vibrant%20cuts%20300.jpg"/>
          <p:cNvPicPr/>
          <p:nvPr/>
        </p:nvPicPr>
        <p:blipFill>
          <a:blip r:embed="rId1"/>
          <a:stretch/>
        </p:blipFill>
        <p:spPr>
          <a:xfrm>
            <a:off x="609480" y="1600200"/>
            <a:ext cx="3810240" cy="3639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0" y="0"/>
            <a:ext cx="914400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What is your favorite color to wear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Why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70c0"/>
                </a:solidFill>
                <a:latin typeface="Calibri"/>
              </a:rPr>
              <a:t>On my signal, turn and talk to your partner to complete the following ste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030a0"/>
                </a:solidFill>
                <a:latin typeface="Calibri"/>
              </a:rPr>
              <a:t>My favorite color to wear is ____________________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1"/>
          <p:cNvSpPr/>
          <p:nvPr/>
        </p:nvSpPr>
        <p:spPr>
          <a:xfrm>
            <a:off x="304920" y="0"/>
            <a:ext cx="84582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I will describe three different things.  If I describe something that is vibrant then you should say, “Now, that is vibrant!”  If it is not something vibrant then you should say nothing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a bright orange bo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a dull gray ro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a very colorful shi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1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9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15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5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0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1"/>
          <p:cNvSpPr/>
          <p:nvPr/>
        </p:nvSpPr>
        <p:spPr>
          <a:xfrm>
            <a:off x="304920" y="304920"/>
            <a:ext cx="8610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7030a0"/>
                </a:solidFill>
                <a:latin typeface="Calibri"/>
              </a:rPr>
              <a:t>Answer in one voice by saying vibrant or du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If you are properly coloring a picture of the sun, are you using vibrant colors or dull colo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If you arrived at school and found out that you had numerous test to take, would you be excited?  Why or why no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If a familiar movie star were planning a visit to your house, would you anticipate his or her arrival? 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1" dur="indefinite" restart="never" nodeType="tmRoot">
          <p:childTnLst>
            <p:seq>
              <p:cTn id="1202" dur="indefinite" nodeType="mainSeq">
                <p:childTnLst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2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2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2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4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2" dur="10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2"/>
          <p:cNvSpPr/>
          <p:nvPr/>
        </p:nvSpPr>
        <p:spPr>
          <a:xfrm>
            <a:off x="152280" y="30492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Objective: Identify and use verbs that tell about the pas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3"/>
          <p:cNvSpPr/>
          <p:nvPr/>
        </p:nvSpPr>
        <p:spPr>
          <a:xfrm>
            <a:off x="228600" y="114300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I look at the book (present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I looked at the book (past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I help my dad (present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I helped my dad (past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3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48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150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50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1"/>
          <p:cNvSpPr/>
          <p:nvPr/>
        </p:nvSpPr>
        <p:spPr>
          <a:xfrm>
            <a:off x="380880" y="0"/>
            <a:ext cx="83059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hich one of these sentences show a verb that is in the pas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Ming crawled up to the sli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Jack jumps up and dow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Keesha plays the viol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My dog bark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I looked at the rainbo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We walked to the swin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7" dur="indefinite" restart="never" nodeType="tmRoot">
          <p:childTnLst>
            <p:seq>
              <p:cTn id="1268" dur="indefinite" nodeType="mainSeq">
                <p:childTnLst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3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78" dur="20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83" dur="20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0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0" fill="hold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0" fill="hold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1" dur="2000"/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2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2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2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9" dur="1000"/>
                                        <p:tgtEl>
                                          <p:spTgt spid="2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13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19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1"/>
          <p:cNvSpPr/>
          <p:nvPr/>
        </p:nvSpPr>
        <p:spPr>
          <a:xfrm>
            <a:off x="228600" y="3808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Objective: To write a how-to para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2"/>
          <p:cNvSpPr/>
          <p:nvPr/>
        </p:nvSpPr>
        <p:spPr>
          <a:xfrm>
            <a:off x="152280" y="838080"/>
            <a:ext cx="86108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How-to Paragrap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Gives directions in orde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Sentences should be written clearl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Includes words such as first, next, after, and las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8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3" dur="1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4" dur="4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4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0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5" dur="10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1"/>
          <p:cNvSpPr/>
          <p:nvPr/>
        </p:nvSpPr>
        <p:spPr>
          <a:xfrm>
            <a:off x="152280" y="609480"/>
            <a:ext cx="85345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How to wash a do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Here’s how to wash a dog. First, fill a tub with water. Next, put the dog in and wash him. Then, rinse the dog off with clean water. Last, use a towel to dry the dog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2" dur="indefinite" restart="never" nodeType="tmRoot">
          <p:childTnLst>
            <p:seq>
              <p:cTn id="1353" dur="indefinite" nodeType="mainSeq">
                <p:childTnLst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8" dur="8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9" dur="8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8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8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368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0" y="0"/>
            <a:ext cx="899172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What is your favorite type of bir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Calibri"/>
              </a:rPr>
              <a:t>On my signal, turn and talk with your partner to complete the following 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_________ are my favorite birds.  I like them because _________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1"/>
          <p:cNvSpPr/>
          <p:nvPr/>
        </p:nvSpPr>
        <p:spPr>
          <a:xfrm>
            <a:off x="76320" y="22860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Objective: To respond to a poem through movement; to do a choral response to a po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0" y="685800"/>
            <a:ext cx="9144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Today we are going to read a poem called “Molly Day’s Colors.”  I want you to listen as I read it first.  On the second time I would like for you to read it with me.  I will divide you up into two groups and we will read it in different parts.  Remember to read the poem with rhythm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1"/>
          <p:cNvSpPr/>
          <p:nvPr/>
        </p:nvSpPr>
        <p:spPr>
          <a:xfrm>
            <a:off x="0" y="0"/>
            <a:ext cx="883908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Molly Day’s Col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When Molly Day wears yellow clothes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finches flutter by her toes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when she’s in her bright blue gown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peacocks trail her through the tow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When Molly Day is dressed in red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hummingbirds surround her head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but when she wears her suit of gray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no one follows Molly Da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" dur="2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0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152280" y="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alibri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Rectangle 2" descr=""/>
          <p:cNvPicPr/>
          <p:nvPr/>
        </p:nvPicPr>
        <p:blipFill>
          <a:blip r:embed="rId1"/>
          <a:stretch/>
        </p:blipFill>
        <p:spPr>
          <a:xfrm>
            <a:off x="146160" y="165240"/>
            <a:ext cx="8772480" cy="1212840"/>
          </a:xfrm>
          <a:prstGeom prst="rect">
            <a:avLst/>
          </a:prstGeom>
          <a:ln w="0">
            <a:noFill/>
          </a:ln>
        </p:spPr>
      </p:pic>
      <p:sp>
        <p:nvSpPr>
          <p:cNvPr id="140" name="TextBox 3"/>
          <p:cNvSpPr/>
          <p:nvPr/>
        </p:nvSpPr>
        <p:spPr>
          <a:xfrm>
            <a:off x="0" y="114300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nswe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ba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gre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ki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ou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ush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ou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o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oo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l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b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rave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5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5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93" dur="20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Review Wo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457200" y="914400"/>
            <a:ext cx="830592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bec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bec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d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rememb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ti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tri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r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loud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tal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lis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3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3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3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3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3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3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3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3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3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3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300" fill="hold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" fill="hold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050"/>
                </a:solidFill>
                <a:latin typeface="Calibri"/>
              </a:rPr>
              <a:t>/ir/ /ur/ /er/ Review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905120" y="1066680"/>
            <a:ext cx="556236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Calibri"/>
              </a:rPr>
              <a:t>thirs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Calibri"/>
              </a:rPr>
              <a:t>shir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Calibri"/>
              </a:rPr>
              <a:t>hur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Calibri"/>
              </a:rPr>
              <a:t>bird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Calibri"/>
              </a:rPr>
              <a:t>fern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Calibri"/>
              </a:rPr>
              <a:t>turn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Calibri"/>
              </a:rPr>
              <a:t>churn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Calibri"/>
              </a:rPr>
              <a:t>purpl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Calibri"/>
              </a:rPr>
              <a:t>burn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6313680" y="6119640"/>
            <a:ext cx="2733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Objective: To build and blend words w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ir/, /ur/, /er/ and other known le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sou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3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3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3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3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3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3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3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3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3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4:50:57Z</dcterms:created>
  <dc:creator>lara colleen mangham</dc:creator>
  <dc:description/>
  <dc:language>en-US</dc:language>
  <cp:lastModifiedBy>lara colleen mangham</cp:lastModifiedBy>
  <dcterms:modified xsi:type="dcterms:W3CDTF">2009-04-17T01:39:31Z</dcterms:modified>
  <cp:revision>18</cp:revision>
  <dc:subject/>
  <dc:title>Slide 1</dc:title>
</cp:coreProperties>
</file>