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6AF-8036-4EE3-A3C7-F2337EA2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941-9017-4DCB-A7BA-46648BB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674-C12A-45FF-9ECB-C89440CC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9CD-E53E-4D01-B0B7-5F4BF1CD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DFA-AB7B-49B5-91B4-B8F8B1DC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DE7-7AFA-43F2-B61F-C65C2B22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306-01B6-48A5-BA05-5984BBA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C8E-E4E3-4E3B-AC17-12E95FD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35F-02EC-4ECE-AD41-B2F76648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DFA-76FE-4BBB-8780-B779C9C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8F8-00CE-42F2-B14D-C717A41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915-26AA-48F8-A353-ED5F156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B2D-649B-4039-BECA-53DB5C444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/J/ ge, dge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d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nstantia"/>
              </a:rPr>
              <a:t>Shelly digs with her new too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nstantia"/>
              </a:rPr>
              <a:t>Shelly wears boo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m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ew Room by the Se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A New Room by the Sea” with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o four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set a purpose for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Ugly Vegetable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735200"/>
            <a:ext cx="7467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mazes you about the planet Ear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think _______ is ama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sees worm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di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is holding you, you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et a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ed a dog to stop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ould you ask him to sit still or bounce up and down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em of some vegetables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touch someth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 might say “Ouch!” and pull my hand away quick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cactus or a daisy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How do you know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irl’s neighbors we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trading their flowers for some of her mother’s s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 am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, I want to do it or learn more about 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be mo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learning about spaceships or paper clip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pretend to be a worm and wriggle in the di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my signal, turn to your partner and tell about a vegetable you are NOT interested in try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609480"/>
            <a:ext cx="8991720" cy="73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 mother was planting vegetab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neighbors were planting flow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893960" y="0"/>
            <a:ext cx="53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articipate in a choral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Here i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219320"/>
            <a:ext cx="838188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as on the shelf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 were under the des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01000" y="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Story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mem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into recognizable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724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405080"/>
            <a:ext cx="3124080" cy="61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in the middle, give a thumbs up sign. When I say a word that does not have /oo/ in the middle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When I say a word that has /oo/ at the end, give a thumbs up sign. When I say a word that does not have /oo/ in the at the end, keep your hands on your l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4-19T21:59:28Z</dcterms:modified>
  <cp:revision>189</cp:revision>
  <dc:subject/>
  <dc:title>Slide 1</dc:title>
</cp:coreProperties>
</file>