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7BEE-11F0-4F1F-BF67-5ADE354B2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F873-8CF9-4972-A44B-CFCCB6B68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7142-4495-47A2-80D3-5747694E6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5B0B-F66C-427B-ABFF-07BF38CE9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8B6E-433B-4DA6-8C93-49CDBF6F7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F8A8-ED12-45AA-AD99-1159D0C42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711B-EF28-4002-BCC0-837F30FAB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DBCA-D1E2-4936-A9B0-6CFA0F593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DD65-7D7F-4482-9E47-C490B01F2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86BE-D4E4-4B08-A44D-2FC58C69A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1373-7FB1-425B-AD21-46DC1D332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17A0-27B5-460C-9924-E377CCB71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D181-54CA-4D65-BAC1-A42EE2A4D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A570-DF1E-41D1-B5D4-D0835CDC8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5893-899D-4C33-973B-1E840C4F7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C518-4004-4C38-B96E-92D472146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119E-23DD-408C-8CB3-93A36B84E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10B2-356F-4E8E-A1CD-7CB23B96A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4339-684C-4C4E-A59C-4034F2415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B8DB-5C79-422E-86DC-20571CC5A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8178-6738-4393-80ED-427A80F68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861A-D14D-483F-B25F-E75FAD169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727A-B1F7-47B5-990F-C2432B4B2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DD0B-7CB4-474B-8DE8-B3FFCA4C2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3286-B8FE-4CDD-808C-631FDFAE6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5655-053F-4BBA-878B-BDA4AECD0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B4D9-119E-4DF4-A40B-075FFD412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6F02-DC51-4E80-B752-9DBC06EFD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EA8F-EEAA-42B4-9646-313D83724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5AE-EA23-426F-9F73-B0D57AD1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1E11-1033-41D1-A423-A89C1934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702E-31B5-427B-B213-9DBD5AA1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D32-DD84-45E8-9FB9-43F95E75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2642-6E24-4820-83E2-1019AD5D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65F-2B95-439D-A525-D340C268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98A2-F3BF-49DB-B6F1-38A2F3F4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5F3-7052-4DC4-8E6F-A3F5AA0D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68B-395B-4FB4-A0AA-8F78281D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932-882D-437D-83C4-CE09F52B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ABF-2ACB-4BF5-B0E9-DD467281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BF1D-2CB2-4486-8250-BAAC11F7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FD39-6225-4018-B37B-E83C4DF6F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ril 2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9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2210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657600" y="129528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048120" y="21337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419720" y="12952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61722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657600" y="21337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572000" y="21337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3733920" y="21337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352680" y="29718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3809880" y="297180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724280" y="2971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342900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3276720" y="3886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3733920" y="38862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4648320" y="3886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3962520" y="47242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3429000" y="5486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3886200" y="5486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4191120" y="54864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tractions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43400" y="1066320"/>
            <a:ext cx="3581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o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ul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houl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ve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e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1230120" y="1143000"/>
            <a:ext cx="2291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ld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uld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d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7"/>
          <p:cNvCxnSpPr/>
          <p:nvPr/>
        </p:nvCxnSpPr>
        <p:spPr>
          <a:xfrm flipV="1">
            <a:off x="2971800" y="1447200"/>
            <a:ext cx="2194560" cy="9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Straight Arrow Connector 9"/>
          <p:cNvCxnSpPr/>
          <p:nvPr/>
        </p:nvCxnSpPr>
        <p:spPr>
          <a:xfrm flipV="1">
            <a:off x="2895120" y="1980720"/>
            <a:ext cx="219492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0"/>
          <p:cNvCxnSpPr/>
          <p:nvPr/>
        </p:nvCxnSpPr>
        <p:spPr>
          <a:xfrm flipV="1">
            <a:off x="3200400" y="2514240"/>
            <a:ext cx="219456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Straight Arrow Connector 11"/>
          <p:cNvCxnSpPr/>
          <p:nvPr/>
        </p:nvCxnSpPr>
        <p:spPr>
          <a:xfrm flipV="1">
            <a:off x="3505320" y="3123720"/>
            <a:ext cx="219456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Straight Arrow Connector 12"/>
          <p:cNvCxnSpPr/>
          <p:nvPr/>
        </p:nvCxnSpPr>
        <p:spPr>
          <a:xfrm flipV="1">
            <a:off x="3048120" y="3657240"/>
            <a:ext cx="221040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14"/>
          <p:cNvCxnSpPr/>
          <p:nvPr/>
        </p:nvCxnSpPr>
        <p:spPr>
          <a:xfrm>
            <a:off x="2895480" y="4282920"/>
            <a:ext cx="2286720" cy="6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5"/>
          <p:cNvCxnSpPr/>
          <p:nvPr/>
        </p:nvCxnSpPr>
        <p:spPr>
          <a:xfrm>
            <a:off x="2895120" y="4816440"/>
            <a:ext cx="2210760" cy="6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7"/>
          <p:cNvCxnSpPr/>
          <p:nvPr/>
        </p:nvCxnSpPr>
        <p:spPr>
          <a:xfrm flipV="1">
            <a:off x="2743200" y="5409720"/>
            <a:ext cx="221040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Straight Arrow Connector 18"/>
          <p:cNvCxnSpPr/>
          <p:nvPr/>
        </p:nvCxnSpPr>
        <p:spPr>
          <a:xfrm>
            <a:off x="2971800" y="5959440"/>
            <a:ext cx="2210400" cy="6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TextBox 23"/>
          <p:cNvSpPr/>
          <p:nvPr/>
        </p:nvSpPr>
        <p:spPr>
          <a:xfrm>
            <a:off x="7016040" y="6248520"/>
            <a:ext cx="2122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read and identif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actions and their origi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ng U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ub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u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u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uk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7083360" y="0"/>
            <a:ext cx="192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read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 “u_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ng A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i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a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a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lai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359480" y="0"/>
            <a:ext cx="1779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read wor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aining long 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My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oots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 are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new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You need to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chew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 your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food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I must hurry to get home by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noon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Tom has a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new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tooth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Soon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 a bean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grew</a:t>
            </a:r>
            <a:r>
              <a:rPr b="0" lang="en-US" sz="4000" spc="-1" strike="noStrike">
                <a:solidFill>
                  <a:srgbClr val="333399"/>
                </a:solidFill>
                <a:latin typeface="Constantia"/>
              </a:rPr>
              <a:t> from the se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381960" y="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rea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4191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50"/>
                </a:solidFill>
                <a:latin typeface="Arial"/>
              </a:rPr>
              <a:t>tow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Arial"/>
              </a:rPr>
              <a:t>bo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welcom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Arial"/>
              </a:rPr>
              <a:t>build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0a0"/>
                </a:solidFill>
                <a:latin typeface="Arial"/>
              </a:rPr>
              <a:t>tomorr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4476600" y="1066680"/>
            <a:ext cx="4584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Guess my wor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hich word is the opposite of “girl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hich word is the opposite of “away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hich word means “the day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today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hich word means “making something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Content Placeholder 3" descr="Deep%20Sea%20Fishing.jpg"/>
          <p:cNvPicPr/>
          <p:nvPr/>
        </p:nvPicPr>
        <p:blipFill>
          <a:blip r:embed="rId1"/>
          <a:stretch/>
        </p:blipFill>
        <p:spPr>
          <a:xfrm>
            <a:off x="1752480" y="1371600"/>
            <a:ext cx="5715000" cy="3784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Details are bits of information.  They answer questions like who, what, where, and w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442160" y="5334120"/>
            <a:ext cx="66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What details can we learn from this picture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Who?  What?  Where? 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952880" y="762120"/>
            <a:ext cx="4191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Re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nd Castl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alled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first rot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3" descr="MPj04392950000[1]"/>
          <p:cNvPicPr/>
          <p:nvPr/>
        </p:nvPicPr>
        <p:blipFill>
          <a:blip r:embed="rId1"/>
          <a:stretch/>
        </p:blipFill>
        <p:spPr>
          <a:xfrm>
            <a:off x="380880" y="304920"/>
            <a:ext cx="507528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28600" y="1523880"/>
          <a:ext cx="8763120" cy="480060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g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k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nstantia"/>
              </a:rPr>
              <a:t>Why do you like to play in the san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play in the sand because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wriggle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Content Placeholder 3" descr="silk-wriggle.jpg"/>
          <p:cNvPicPr/>
          <p:nvPr/>
        </p:nvPicPr>
        <p:blipFill>
          <a:blip r:embed="rId1"/>
          <a:stretch/>
        </p:blipFill>
        <p:spPr>
          <a:xfrm>
            <a:off x="4343400" y="914400"/>
            <a:ext cx="3657600" cy="4995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g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move your body back and forth, as you do when you are squi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bcBulletin"/>
              </a:rPr>
              <a:t>wriggl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/T:  What animal might be able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ig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 of your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5707080" y="152280"/>
            <a:ext cx="337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bcBulletin"/>
              </a:rPr>
              <a:t>prickly</a:t>
            </a:r>
            <a:br>
              <a:rPr sz="3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hing that is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prickl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sharp and hurts to tou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Content Placeholder 3" descr="prickly-pear-cactus.jpg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bcBulletin"/>
              </a:rPr>
              <a:t>prickl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/T:  Name a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rick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im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/T:  Name an animal th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no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rick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6028920" y="152280"/>
            <a:ext cx="2869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discussing ideas and situa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bcBulletin"/>
              </a:rPr>
              <a:t>interested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Content Placeholder 3" descr="interested.jpg"/>
          <p:cNvPicPr/>
          <p:nvPr/>
        </p:nvPicPr>
        <p:blipFill>
          <a:blip r:embed="rId1"/>
          <a:srcRect l="25690" t="0" r="0" b="0"/>
          <a:stretch/>
        </p:blipFill>
        <p:spPr>
          <a:xfrm>
            <a:off x="4265640" y="1447920"/>
            <a:ext cx="4579920" cy="4343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ar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teres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something, you want to do it or learn more about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bcBulletin"/>
              </a:rPr>
              <a:t>intereste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w me how your face and body look when you ar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nterest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someth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6181560" y="152280"/>
            <a:ext cx="2681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by discussing ideas and situa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7238880" y="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the use of was and w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57200" y="1219320"/>
            <a:ext cx="8381880" cy="74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r lunch ____ in a box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r sandwiches _____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fferent kind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160640" y="15228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oose “was” or “wer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6"/>
          <p:cNvSpPr/>
          <p:nvPr/>
        </p:nvSpPr>
        <p:spPr>
          <a:xfrm>
            <a:off x="304920" y="152280"/>
            <a:ext cx="8839080" cy="78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S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character and a sett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beginning, middle, and 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plo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haroni"/>
                <a:ea typeface="Aharoni"/>
              </a:rPr>
              <a:t>Make a Sto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haroni"/>
                <a:ea typeface="Aharoni"/>
              </a:rPr>
              <a:t>Who will the characters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haroni"/>
                <a:ea typeface="Aharoni"/>
              </a:rPr>
              <a:t>What is the set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haroni"/>
                <a:ea typeface="Aharoni"/>
              </a:rPr>
              <a:t>What will happen at the begin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haroni"/>
                <a:ea typeface="Aharoni"/>
              </a:rPr>
              <a:t>What will happen in the midd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haroni"/>
                <a:ea typeface="Aharoni"/>
              </a:rPr>
              <a:t>What will happen at the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7213320" y="0"/>
            <a:ext cx="168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plan a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responsively to a po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In the S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7" descr="MPj04332400000[1]"/>
          <p:cNvPicPr/>
          <p:nvPr/>
        </p:nvPicPr>
        <p:blipFill>
          <a:blip r:embed="rId1"/>
          <a:stretch/>
        </p:blipFill>
        <p:spPr>
          <a:xfrm>
            <a:off x="2752560" y="1600200"/>
            <a:ext cx="3714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u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This Week’s Sigh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47560" y="13716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o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elc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6105240" y="1523880"/>
            <a:ext cx="1486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k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segment words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o phone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gme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3" descr="C:\Program Files\Microsoft Office\MEDIA\CAGCAT10\j0335112.wmf"/>
          <p:cNvPicPr/>
          <p:nvPr/>
        </p:nvPicPr>
        <p:blipFill>
          <a:blip r:embed="rId1"/>
          <a:stretch/>
        </p:blipFill>
        <p:spPr>
          <a:xfrm>
            <a:off x="4876920" y="2362320"/>
            <a:ext cx="26859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7391520" y="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f /o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0" y="0"/>
            <a:ext cx="762012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Vowel Variant /o0/ oo, 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2"/>
          <p:cNvSpPr/>
          <p:nvPr/>
        </p:nvSpPr>
        <p:spPr>
          <a:xfrm>
            <a:off x="6019920" y="762120"/>
            <a:ext cx="3124080" cy="76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member, this week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ound is “oo,” which c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be spelled with “oo”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w.”  Here are 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h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sh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onstantia"/>
              </a:rPr>
              <a:t>g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5" descr="MPj04309120000[1]"/>
          <p:cNvPicPr/>
          <p:nvPr/>
        </p:nvPicPr>
        <p:blipFill>
          <a:blip r:embed="rId1"/>
          <a:stretch/>
        </p:blipFill>
        <p:spPr>
          <a:xfrm>
            <a:off x="152280" y="1701720"/>
            <a:ext cx="57913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0920" y="1143000"/>
            <a:ext cx="8384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114800" y="1143000"/>
            <a:ext cx="1295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191120" y="19810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657600" y="19810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800600" y="11430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358128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4038480" y="27432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6"/>
          <p:cNvSpPr/>
          <p:nvPr/>
        </p:nvSpPr>
        <p:spPr>
          <a:xfrm>
            <a:off x="4343400" y="274320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8"/>
          <p:cNvSpPr/>
          <p:nvPr/>
        </p:nvSpPr>
        <p:spPr>
          <a:xfrm>
            <a:off x="3733920" y="3581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0"/>
          <p:cNvSpPr/>
          <p:nvPr/>
        </p:nvSpPr>
        <p:spPr>
          <a:xfrm>
            <a:off x="403848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1"/>
          <p:cNvSpPr/>
          <p:nvPr/>
        </p:nvSpPr>
        <p:spPr>
          <a:xfrm>
            <a:off x="4343400" y="35812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janice</cp:lastModifiedBy>
  <dcterms:modified xsi:type="dcterms:W3CDTF">2009-04-20T23:50:55Z</dcterms:modified>
  <cp:revision>229</cp:revision>
  <dc:subject/>
  <dc:title>Slide 1</dc:title>
</cp:coreProperties>
</file>