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D6C-5C0F-4DE5-A53D-CB11E437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5AE-1E55-4AC0-AB1E-C974677E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42C-EB67-4F06-8E8A-AE239547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D4F-E46A-436D-9DF6-268F9ED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BD5-7344-46DD-9AEC-D9B794FB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908-2971-4108-8A7A-D9FA736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CE1-29E3-41CF-AC82-AAA0D0A1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D45D-EE3B-4AF4-91DF-B6E45517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891-7897-4A94-934F-7CF8DD92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A24-6427-4ED6-B1F1-AF6438C1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473-6BBC-467C-9D65-520A904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F22-392B-40B8-8D11-584A92C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0E3-EFA5-437A-8FA3-8F1D9789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22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29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oo/ oo, 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oo/oo, 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143000"/>
            <a:ext cx="87631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ndr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 in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edroo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peek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 hi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wind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balloon b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rooster fl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n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few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gs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pped by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oon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mo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e ou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b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oo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gr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gr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t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morr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elco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6365880" y="6458040"/>
            <a:ext cx="26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story details as a tool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y Details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685800"/>
            <a:ext cx="8991720" cy="65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Remember that details tell little bits of information about a story or selection. When finding out details in the story ask the questions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who, what, where, and when.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Ugly Vegetab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16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Shape the Seash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232000" cy="3372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143000"/>
            <a:ext cx="87631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en I work well with others, I am being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. Answer in one voice with “yes” or “no”, Is it important to be </a:t>
            </a:r>
            <a:r>
              <a:rPr b="1" i="1" lang="en-US" sz="2800" spc="-1" strike="noStrike">
                <a:solidFill>
                  <a:srgbClr val="0066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 during class activitie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how you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 can be </a:t>
            </a:r>
            <a:r>
              <a:rPr b="1" i="1" lang="en-US" sz="2800" spc="-1" strike="noStrike">
                <a:solidFill>
                  <a:srgbClr val="9933ff"/>
                </a:solidFill>
                <a:latin typeface="Arial"/>
              </a:rPr>
              <a:t>cooperative</a:t>
            </a: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 in class by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ould you make out of s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make __________ out of s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9144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I can use blocks to </a:t>
            </a:r>
            <a:r>
              <a:rPr b="1" i="1" lang="en-US" sz="3200" spc="-1" strike="noStrike">
                <a:solidFill>
                  <a:srgbClr val="cc3399"/>
                </a:solidFill>
                <a:latin typeface="Arial"/>
              </a:rPr>
              <a:t>construct</a:t>
            </a: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a tower.  Would you rather construct something alone or with oth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you would like to constr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I would like to construct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f I help someone carry a heavy box, I assist that person. Answer in one voice, could you assist your teacher by being quiet or being nosy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how you assist your family at h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assist my family by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371600"/>
            <a:ext cx="76201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The Vis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est ranger came to tell us about fire safety. We were asking her questions about Smokey the bear. She were telling us about smokey. He was found in a tree after a fire. He lost his mother. people were sad about Smokey. They wanted to  help prevent forest fi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was and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7621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Let’s fix the mistak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sitting on a be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________ qui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e _______ yelling loud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and Nate _________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_______ thinking about fish for din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was and were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0666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hat are some things you would like to learn how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spond to a poem through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nstantia"/>
              </a:rPr>
              <a:t>In th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s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castle gro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ramps and towers, turrets, bowers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ees and flow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for hou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ings and knights march through the l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between my to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008080" cy="23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62920" y="1219320"/>
            <a:ext cx="16761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228600"/>
            <a:ext cx="518148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22T01:55:25Z</dcterms:modified>
  <cp:revision>154</cp:revision>
  <dc:subject/>
  <dc:title>Slide 1</dc:title>
</cp:coreProperties>
</file>