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9125-0314-4D0D-A078-B9DC840B8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0744-4775-4181-99AD-72B4BC984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D369-2537-441B-8E5F-FA53C892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D604-79B9-424B-8E82-1C8A25FEB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8116-12F2-46F1-8EBB-2863FD25D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D0FE-B116-4F74-B7B7-99EAEE5C4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67B-BBEE-42C9-9E82-F27DEBFB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E06-B069-4054-BC65-2EF8A65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68E7-7FC4-4333-B339-1A217F98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027-F985-49A2-BF87-358788AD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3E2C-926C-4FC6-892B-4BFED0E5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4CB4-B273-4C67-A2F8-563B9B23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7F9E-22F7-4F67-BCAF-442FEE53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5714-C0A3-4D0B-B866-C29D8A46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AE60-E8C7-441D-A850-572655DC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E4A6-F31A-48D9-9FB6-0312557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183E-921C-497C-A2BE-78A3DB6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BED-A47F-4E55-B656-444E86A7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863E-D837-4D31-9559-8B7EC95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88FC-D8CE-49C6-B2A9-7FC18F3F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1305-070E-447E-8942-65D3F0BF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0676-C8BE-46AF-AD69-D9EEDC36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F28B-8B45-4FDA-8325-967955B8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21B5-4509-4688-9F40-AFE8EAA7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67507-DA01-409A-BD6B-67DADB59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8949-3C35-49E9-AD20-1E9216C3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6F383-B643-4D3C-9A8F-A70A02D0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D1D4-30E6-4190-A9CD-B5195D48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2F2-AB7B-4D1C-A2C3-9CDBA3F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D36ED-AA07-493A-81AD-7060627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67C96-BC81-46E0-86B5-310223D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0A5A-3B5B-4147-AEF4-C4D5CBC8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3B2F-4FEB-4993-AEB5-106702BD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DC18-74B2-4255-97ED-3DD63696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6DEE-6AE2-4316-A926-2BD3F0A9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1DC6-75F6-488D-AC8E-BC6E2BC7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2DEDC-AAD5-4F45-8CF2-20E227CD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73E6F-5758-4D62-A86B-5949169F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E5F0-5842-497E-A3D8-C4914F4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B06-4CA7-4CAF-AD2E-A4EE2BB2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E6ED-DE49-438B-BE7C-5628898D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F1B18-0693-40F6-BD9C-D01E6FF0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EAE94-7FFB-4E2E-A45D-3F80DB4E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F66A1-430C-4C5E-8BC1-D7A6A98A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09205-93D4-4116-8EAD-068475B0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F1B0-B26D-4803-9679-CE0A0339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D4D0B-ACCD-4575-A3ED-2F5144EA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6124-FF3B-4D49-B8F7-F09CAB6C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01F2C-B851-42E2-A654-D5EB09F2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6465D-5B34-4A3D-A6B6-A87D14FC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375-041A-4042-A17D-D2BCC4E7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A330D-57D1-4CB8-8021-D63EECA4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568CF-00CF-45B1-93DF-2B30C843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4319-1F36-4D44-A68B-14A5AD0D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3B8E5-5A07-4A2A-96BF-69E67241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CA5F8-BB2A-4B47-92B0-7F5C89A1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0884A-6B2D-43A5-8448-9AB0A602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37C1-A4DA-4950-B968-3988E4FC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DCCD2-0EC1-4A1D-B79A-187F5393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083BF-63A5-4B3E-A089-BFFE3DF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9574D-FD85-4F59-924C-BD77BA7E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653-6BCF-4E0F-AFF2-376EADEC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E8CF0-A629-4197-B012-CC02519D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BA6B-88CA-43F7-B5FA-67892D48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BD6B5-E275-4A88-AE0B-F2CA4FBF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B5C73-C49C-4C7C-980D-BAF48AA4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D42B5-C7A7-4330-BBAA-F95347D7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CFF54-A26F-474A-9650-5577D09D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F3FA3-764E-46C7-98F7-55BF88BE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E8908-13C0-4836-B8CA-FD309323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1EE7C-EA06-4854-9AE3-F670CC9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50C83-7E52-4BA9-89BE-5403593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F16-37A7-474C-BDD8-70793F6D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65726-DA61-4CA3-B274-C14B77F1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D91FC-70BB-4F67-8FB4-92055BE1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EDFBA-988B-45D1-935D-1B0FFED6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0E7-6AED-4228-A7F5-7860FEC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A065-0AC5-4C0E-8891-447E0C5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19B3-3C50-4181-9108-EC7A199EDA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4CF-F8E9-492D-AF74-183CA418916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D1E9-BA4D-4B4D-B5CE-74F4BA9F52B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F8B6-5C55-4987-984C-925D34481C0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E48-B01E-41B3-BF53-F3766566FE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37D4-D58C-49E7-960C-391075B9194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3" descr=""/>
          <p:cNvPicPr/>
          <p:nvPr/>
        </p:nvPicPr>
        <p:blipFill>
          <a:blip r:embed="rId1"/>
          <a:stretch/>
        </p:blipFill>
        <p:spPr>
          <a:xfrm>
            <a:off x="-585720" y="-324000"/>
            <a:ext cx="106441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228600" y="3808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discriminate between words with different patterns; to use common letter patterns to build and rea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-96840" y="774720"/>
            <a:ext cx="9333000" cy="49672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228600" y="60958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Remember phonograms are words that have the same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304920" y="457200"/>
          <a:ext cx="8534160" cy="594360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-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r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r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228600" y="1143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Drew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 likes to swim in the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pool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He has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new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 swim f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His dog likes to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fool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 with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The dog likes to swim,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too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The water is so </a:t>
            </a: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cool</a:t>
            </a:r>
            <a:r>
              <a:rPr b="1" lang="en-US" sz="4400" spc="-1" strike="noStrike">
                <a:solidFill>
                  <a:srgbClr val="0070c0"/>
                </a:solidFill>
                <a:latin typeface="Constanti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152280" y="6858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Read the words in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1" dur="2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228600" y="685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recognize and read contractions with   ‘d, ‘ve, ‘re, ‘s, n’t, ‘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152280" y="1219320"/>
            <a:ext cx="86868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70c0"/>
                </a:solidFill>
                <a:latin typeface="Constantia"/>
              </a:rPr>
              <a:t>Contraction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Remember a contraction is a shorter way of saying two words.  When you have a contraction you make two words become one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-228600" y="24300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 are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n the red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’re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on the red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e </a:t>
            </a: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did not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start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We </a:t>
            </a: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didn’t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start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 woul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like to w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’d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like to w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 have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got the 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We’ve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 got the 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 will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pass the ball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’ll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pass the ball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t is 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a go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It’s</a:t>
            </a: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 a go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50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50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3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1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851680" cy="10987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457200" y="1219320"/>
            <a:ext cx="815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t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h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nstantia"/>
              </a:rPr>
              <a:t>t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v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k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ar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al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3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3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3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3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3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alibri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2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4"/>
          <p:cNvSpPr/>
          <p:nvPr/>
        </p:nvSpPr>
        <p:spPr>
          <a:xfrm>
            <a:off x="3505320" y="914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4"/>
          <p:cNvSpPr/>
          <p:nvPr/>
        </p:nvSpPr>
        <p:spPr>
          <a:xfrm>
            <a:off x="30481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3505320" y="2590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9"/>
          <p:cNvSpPr/>
          <p:nvPr/>
        </p:nvSpPr>
        <p:spPr>
          <a:xfrm>
            <a:off x="434340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3"/>
          <p:cNvSpPr/>
          <p:nvPr/>
        </p:nvSpPr>
        <p:spPr>
          <a:xfrm>
            <a:off x="44197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4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5"/>
          <p:cNvSpPr/>
          <p:nvPr/>
        </p:nvSpPr>
        <p:spPr>
          <a:xfrm>
            <a:off x="35812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6"/>
          <p:cNvSpPr/>
          <p:nvPr/>
        </p:nvSpPr>
        <p:spPr>
          <a:xfrm>
            <a:off x="4419720" y="17524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7"/>
          <p:cNvSpPr/>
          <p:nvPr/>
        </p:nvSpPr>
        <p:spPr>
          <a:xfrm>
            <a:off x="3048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8"/>
          <p:cNvSpPr/>
          <p:nvPr/>
        </p:nvSpPr>
        <p:spPr>
          <a:xfrm>
            <a:off x="3505320" y="3429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0"/>
          <p:cNvSpPr/>
          <p:nvPr/>
        </p:nvSpPr>
        <p:spPr>
          <a:xfrm>
            <a:off x="4419720" y="3429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1"/>
          <p:cNvSpPr/>
          <p:nvPr/>
        </p:nvSpPr>
        <p:spPr>
          <a:xfrm>
            <a:off x="3048120" y="4191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2"/>
          <p:cNvSpPr/>
          <p:nvPr/>
        </p:nvSpPr>
        <p:spPr>
          <a:xfrm>
            <a:off x="350532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3"/>
          <p:cNvSpPr/>
          <p:nvPr/>
        </p:nvSpPr>
        <p:spPr>
          <a:xfrm>
            <a:off x="3886200" y="41911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8"/>
          <p:cNvSpPr/>
          <p:nvPr/>
        </p:nvSpPr>
        <p:spPr>
          <a:xfrm>
            <a:off x="29718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9"/>
          <p:cNvSpPr/>
          <p:nvPr/>
        </p:nvSpPr>
        <p:spPr>
          <a:xfrm>
            <a:off x="3429000" y="4876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10"/>
          <p:cNvSpPr/>
          <p:nvPr/>
        </p:nvSpPr>
        <p:spPr>
          <a:xfrm>
            <a:off x="3886200" y="4876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75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75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75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75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7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75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75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75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75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75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75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75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75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75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75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75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75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75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75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75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75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75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75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75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75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75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75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75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75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75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15228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nstantia"/>
              </a:rPr>
              <a:t>Objective: To listen attentively and respond appropriately to oral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46160" y="590400"/>
            <a:ext cx="87724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89548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352680" y="914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35812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97180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429000" y="1752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365760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3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4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5"/>
          <p:cNvSpPr/>
          <p:nvPr/>
        </p:nvSpPr>
        <p:spPr>
          <a:xfrm>
            <a:off x="457200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75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75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75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75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75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75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75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228600" y="152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read 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46160" y="407880"/>
            <a:ext cx="885168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304920" y="160020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clim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u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o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welc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7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4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4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0" y="457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identify details in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25360" y="817560"/>
            <a:ext cx="8388360" cy="1901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228600" y="3733920"/>
            <a:ext cx="861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Remember that details are little bits of information about a story.  Details can tell you who, what, when, and w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52280" y="152280"/>
          <a:ext cx="8839440" cy="65534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 Ugly Vege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and Cas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Here in 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girl and her 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b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lant vege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uild a sand cas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xplores different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su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su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ir ga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e b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a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operativ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onstruc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ssis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3564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A cooperative person works with others in a helpful way to do something.    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0f6fc6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operativ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3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w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ope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86" name="Content Placeholder 3" descr="CooperativeWork.jpg"/>
          <p:cNvPicPr/>
          <p:nvPr/>
        </p:nvPicPr>
        <p:blipFill>
          <a:blip r:embed="rId3"/>
          <a:stretch/>
        </p:blipFill>
        <p:spPr>
          <a:xfrm>
            <a:off x="304920" y="1905120"/>
            <a:ext cx="4647960" cy="370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1"/>
          <p:cNvSpPr/>
          <p:nvPr/>
        </p:nvSpPr>
        <p:spPr>
          <a:xfrm>
            <a:off x="228600" y="685800"/>
            <a:ext cx="8381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will name some things.  If I say something that tells of children being cooperative give a thumbs up.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two children argue over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two children work together to pick up art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one child colors while the other one grabs the cray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two children work together to carry som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2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2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3564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4617b"/>
                </a:solidFill>
                <a:latin typeface="Comic Sans MS"/>
              </a:rPr>
              <a:t>construct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I construct something, I build it or make i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used blocks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ru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Content Placeholder 3" descr="construct.jpg"/>
          <p:cNvPicPr/>
          <p:nvPr/>
        </p:nvPicPr>
        <p:blipFill>
          <a:blip r:embed="rId1"/>
          <a:stretch/>
        </p:blipFill>
        <p:spPr>
          <a:xfrm>
            <a:off x="1219320" y="1752480"/>
            <a:ext cx="339228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1"/>
          <p:cNvSpPr/>
          <p:nvPr/>
        </p:nvSpPr>
        <p:spPr>
          <a:xfrm>
            <a:off x="228600" y="0"/>
            <a:ext cx="8763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If I name something that people could construct you should say, “People can construct that.”  If not say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sand cas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dog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nstantia"/>
              </a:rPr>
              <a:t>air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77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77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3" dur="77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5" dur="77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900" fill="hold"/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3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I assist someone, I help them do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85dfd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sis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2"/>
          <p:cNvSpPr/>
          <p:nvPr/>
        </p:nvSpPr>
        <p:spPr>
          <a:xfrm>
            <a:off x="83808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ir mom by setting the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Content Placeholder 3" descr="assist.jpg"/>
          <p:cNvPicPr/>
          <p:nvPr/>
        </p:nvPicPr>
        <p:blipFill>
          <a:blip r:embed="rId1"/>
          <a:stretch/>
        </p:blipFill>
        <p:spPr>
          <a:xfrm>
            <a:off x="1143000" y="1676520"/>
            <a:ext cx="2949480" cy="4182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380880" y="45720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What would you like to do during a day at the bea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Constantia"/>
              </a:rPr>
              <a:t>On my signal,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onstantia"/>
              </a:rPr>
              <a:t>I would ____ at the beach because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52280" y="152280"/>
            <a:ext cx="87631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nstantia"/>
              </a:rPr>
              <a:t>If I describe a situation in which you could assist, you should say. “Let me assist you.”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Your mom is looking for her ke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Your brother or sister needs a ride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The family dog needs a b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The teacher is passing out pap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 pilot is flying an air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9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9" dur="10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152280" y="152280"/>
            <a:ext cx="8763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Answer in one voice with a yes or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f I touch something prickly, would it make me wriggle a 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nstantia"/>
              </a:rPr>
              <a:t>If I am interested in everyone cooperating during an activity, what might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nstantia"/>
              </a:rPr>
              <a:t>If you want to construct a doghouse, who could assis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compose sentences that include was and were; to use correct subject verb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65240" y="365040"/>
            <a:ext cx="9039240" cy="44989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3"/>
          <p:cNvSpPr/>
          <p:nvPr/>
        </p:nvSpPr>
        <p:spPr>
          <a:xfrm>
            <a:off x="380880" y="502920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Remember that the word was is used to tell about one person or thing.  The word were is used to tell about more than one person or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228600" y="228600"/>
            <a:ext cx="8458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onstantia"/>
              </a:rPr>
              <a:t>Let’s see if we can pick out the correct sentences with the words were and w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I were going to the p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My dogs was coming,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Jack and Jane were t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We were kicking a ball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Then we was swing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nstantia"/>
              </a:rPr>
              <a:t>We was having a lot of f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4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4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4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4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4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0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6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2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228600" y="609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Objective: to generate ideas before writing; to plan a story using a st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5800" y="1066680"/>
          <a:ext cx="8001000" cy="4648320"/>
        </p:xfrm>
        <a:graphic>
          <a:graphicData uri="http://schemas.openxmlformats.org/drawingml/2006/table">
            <a:tbl>
              <a:tblPr/>
              <a:tblGrid>
                <a:gridCol w="2800440"/>
                <a:gridCol w="2533680"/>
                <a:gridCol w="266688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harac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et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lo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lf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i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er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lltop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meone gets los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 mouse finds a new frien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2514600" y="1082520"/>
          <a:ext cx="1523880" cy="64008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029200" y="1054080"/>
          <a:ext cx="1523880" cy="63972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ll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2519280" y="2266920"/>
          <a:ext cx="4170600" cy="700200"/>
        </p:xfrm>
        <a:graphic>
          <a:graphicData uri="http://schemas.openxmlformats.org/drawingml/2006/table">
            <a:tbl>
              <a:tblPr/>
              <a:tblGrid>
                <a:gridCol w="417060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 wants a fri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2584440" y="3462480"/>
          <a:ext cx="4133880" cy="914400"/>
        </p:xfrm>
        <a:graphic>
          <a:graphicData uri="http://schemas.openxmlformats.org/drawingml/2006/table">
            <a:tbl>
              <a:tblPr/>
              <a:tblGrid>
                <a:gridCol w="413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d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 search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2603520" y="4702320"/>
          <a:ext cx="4133880" cy="793440"/>
        </p:xfrm>
        <a:graphic>
          <a:graphicData uri="http://schemas.openxmlformats.org/drawingml/2006/table">
            <a:tbl>
              <a:tblPr/>
              <a:tblGrid>
                <a:gridCol w="4133880"/>
              </a:tblGrid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d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use finds a fri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457200" y="533520"/>
            <a:ext cx="8458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What things might you see, hear, and touch at the b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onstantia"/>
              </a:rPr>
              <a:t>On my signal, turn and talk with your partner to complete the following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might see ____________at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might hear ______________at the b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I might touch _____________at the b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304920" y="9907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aaf2"/>
                </a:solidFill>
                <a:latin typeface="Constantia"/>
              </a:rPr>
              <a:t>Today we are going to read a poem called “Shore.”  When a poet writes a poem they want you to have a picture in your mind as you hear their poem. I will read the poem first and I want you to close your eyes and see what kind of picture you have in your mind.  After I read the poem once you will read it with me on the second time.  I will divide you into two groups to read different parts.  Remember to read the poem with rhyth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152280" y="3049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nstantia"/>
              </a:rPr>
              <a:t>Objective: To appreciate the rhythm of poetry; to do a choral reading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228600" y="838080"/>
            <a:ext cx="86868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Play on the sea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And gather up sh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Kneel in the damp s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Digging w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Run on the ro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Where the seaweed s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Watch the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And the beautiful 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228600" y="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onstantia"/>
              </a:rPr>
              <a:t>Objective: To read high frequenc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146160" y="171360"/>
            <a:ext cx="8851680" cy="5842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3"/>
          <p:cNvSpPr/>
          <p:nvPr/>
        </p:nvSpPr>
        <p:spPr>
          <a:xfrm>
            <a:off x="0" y="609480"/>
            <a:ext cx="876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alm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clim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g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h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to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t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elc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5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228600" y="12193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onstantia"/>
              </a:rPr>
              <a:t>Objective: To substitute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15920" y="1474920"/>
            <a:ext cx="8820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228600" y="10666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nstantia"/>
              </a:rPr>
              <a:t>Objective: To add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146160" y="1122480"/>
            <a:ext cx="88516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9:50:18Z</dcterms:created>
  <dc:creator>lara colleen mangham</dc:creator>
  <dc:description/>
  <dc:language>en-US</dc:language>
  <cp:lastModifiedBy> </cp:lastModifiedBy>
  <dcterms:modified xsi:type="dcterms:W3CDTF">2009-04-23T02:23:38Z</dcterms:modified>
  <cp:revision>17</cp:revision>
  <dc:subject/>
  <dc:title>Slide 1</dc:title>
</cp:coreProperties>
</file>