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DAD-6430-4F4A-9EA4-B26918DF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7BD-7788-4405-8975-B48F3B82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DCAA-9EC8-4943-BFE0-46477946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CB5-8EBE-4F98-9FCB-438AB084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7D0-18D1-4C68-B44D-F2B4E0C6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5F5-D245-457B-87DC-47484724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33E-4AFD-4BD5-92EC-A90CBD47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C39-9162-41B9-8C97-A1C47C72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E03-2E73-4DDD-B3F2-562C3FBD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6D5-1FB2-46E3-8C59-145FF792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B82-7249-47C4-913E-EA5E0C4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D24-C69E-4979-AA4B-5B222493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B780-724C-4878-B08A-881F72B3F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5228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Lesson 3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Day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624816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143000" y="533520"/>
            <a:ext cx="6934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DJ Basic"/>
              </a:rPr>
              <a:t>High-Frequency Word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DJ Basic"/>
              <a:ea typeface="DJ Basic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752480"/>
            <a:ext cx="2971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82880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We will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get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in the c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8195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Will you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hold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my h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After school, we go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home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That mountain is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so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7913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It will be lunchtime </a:t>
            </a:r>
            <a:r>
              <a:rPr b="0" i="1" lang="en-US" sz="4400" spc="-1" strike="noStrike">
                <a:solidFill>
                  <a:srgbClr val="ff0000"/>
                </a:solidFill>
                <a:latin typeface="DJ Basic"/>
              </a:rPr>
              <a:t>soon</a:t>
            </a:r>
            <a:r>
              <a:rPr b="0" lang="en-US" sz="44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special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029200" y="2209680"/>
            <a:ext cx="3886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something is especially important, it is very importa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91440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icture is especially important to the gi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especially.png"/>
          <p:cNvPicPr/>
          <p:nvPr/>
        </p:nvPicPr>
        <p:blipFill>
          <a:blip r:embed="rId1"/>
          <a:stretch/>
        </p:blipFill>
        <p:spPr>
          <a:xfrm>
            <a:off x="609480" y="1752480"/>
            <a:ext cx="3691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emor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4800600" y="1752480"/>
            <a:ext cx="4114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memorize a poem, you learn it so you can say it without loo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85800" y="5029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ildren had to memorize their part for the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emorize.jpg"/>
          <p:cNvPicPr/>
          <p:nvPr/>
        </p:nvPicPr>
        <p:blipFill>
          <a:blip r:embed="rId1"/>
          <a:stretch/>
        </p:blipFill>
        <p:spPr>
          <a:xfrm>
            <a:off x="685800" y="1676520"/>
            <a:ext cx="3827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en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724280" y="17524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sensed something, you had a feeling about it before you were even told about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685800" y="56386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ould sense a storm was co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sensed.jpg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93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Fix this senten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175248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will have mi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533520"/>
            <a:ext cx="7086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hop like a rabb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leap like a fr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swim like a fis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I can run like a d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457200"/>
            <a:ext cx="53316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1523880"/>
            <a:ext cx="53352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2666880"/>
            <a:ext cx="533520" cy="990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733920"/>
            <a:ext cx="533520" cy="990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2286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 am si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657600" y="304920"/>
            <a:ext cx="18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9528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like mil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05320" y="1371600"/>
            <a:ext cx="180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200400"/>
            <a:ext cx="65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 have a c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352680" y="3200400"/>
            <a:ext cx="18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DJ Basic"/>
              </a:rPr>
              <a:t>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457200"/>
            <a:ext cx="64767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DJ Basic"/>
              </a:rPr>
              <a:t>Circle the naming part of each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I sat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sat down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Bill will sit 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My dog sits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They like my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1828800"/>
            <a:ext cx="533520" cy="60948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590920"/>
            <a:ext cx="1067040" cy="685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3429000"/>
            <a:ext cx="1066680" cy="685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4267080"/>
            <a:ext cx="1600200" cy="76212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5181480"/>
            <a:ext cx="1143000" cy="60984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hunkM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hunkM"/>
              <a:ea typeface="DJ ChunkM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DJ ChunkM"/>
              </a:rPr>
              <a:t>What signs do you see every day?  What do they me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J ChunkM"/>
              </a:rPr>
              <a:t>A ____________ sign tells us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9"/>
          <p:cNvSpPr/>
          <p:nvPr/>
        </p:nvSpPr>
        <p:spPr>
          <a:xfrm>
            <a:off x="609480" y="1371600"/>
            <a:ext cx="2514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800600" y="1371600"/>
            <a:ext cx="251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DJ Basic"/>
              </a:rPr>
              <a:t>Word Wall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6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90920" y="251460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hy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ecog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Pro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DJ ChunkM"/>
              </a:rPr>
              <a:t>Word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62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447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86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86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00400" y="228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28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2286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286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066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1066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066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1905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905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19051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819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066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905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304920"/>
            <a:ext cx="86868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im had a pin in his h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pig likes to dig in the s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do not like that pi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did sit in the v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big cat sat on the ma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99072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9907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990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0574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20574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205740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50292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029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09588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61722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828800"/>
            <a:ext cx="79246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99072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143000" cy="982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886200" y="2133720"/>
            <a:ext cx="1238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486400" y="1905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858000" y="25146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219320" y="304920"/>
            <a:ext cx="7162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DJ Basic"/>
              </a:rPr>
              <a:t>Classify/Categor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DJ Basic"/>
              <a:ea typeface="DJ Basic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3809880"/>
            <a:ext cx="34290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09880"/>
            <a:ext cx="34290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480" y="6095880"/>
            <a:ext cx="2514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we we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10080" y="6095880"/>
            <a:ext cx="2514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we e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7 L -0.03333 0.31075 E">
                                      <p:cBhvr>
                                        <p:cTn id="35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7341E-006 L -0.12084 0.33919 E">
                                      <p:cBhvr>
                                        <p:cTn id="36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86127E-006 L -0.20833 0.44392 E">
                                      <p:cBhvr>
                                        <p:cTn id="36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2775 L 0.39584 0.17202 E">
                                      <p:cBhvr>
                                        <p:cTn id="38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4.50867E-006 L 0.05 0.37735 E">
                                      <p:cBhvr>
                                        <p:cTn id="38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994 L 0.00417 0.36069 E">
                                      <p:cBhvr>
                                        <p:cTn id="39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28600"/>
            <a:ext cx="81532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1523880" cy="1014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304920"/>
            <a:ext cx="97452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34340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486400" y="304920"/>
            <a:ext cx="1265400" cy="1011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08660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2438280"/>
            <a:ext cx="28954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905120"/>
            <a:ext cx="3276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to write wi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438280"/>
            <a:ext cx="28954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76920" y="1905120"/>
            <a:ext cx="3276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Things to write 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1.27168E-006 L 1.73472E-018 0.32185 E">
                                      <p:cBhvr>
                                        <p:cTn id="42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3.87283E-006 L -0.275 0.43283 E">
                                      <p:cBhvr>
                                        <p:cTn id="42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3526E-006 L -0.45834 0.72138 E">
                                      <p:cBhvr>
                                        <p:cTn id="42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0.05942 L 0.48334 0.38127 E">
                                      <p:cBhvr>
                                        <p:cTn id="43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0.0333 L 0.33004 0.56601 E">
                                      <p:cBhvr>
                                        <p:cTn id="4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6659 L -0.10833 0.75468 E">
                                      <p:cBhvr>
                                        <p:cTn id="44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5:24:35Z</dcterms:created>
  <dc:creator>Christina Ramsey</dc:creator>
  <dc:description/>
  <dc:language>en-US</dc:language>
  <cp:lastModifiedBy>Christina Ramsey</cp:lastModifiedBy>
  <dcterms:modified xsi:type="dcterms:W3CDTF">2009-09-02T19:02:10Z</dcterms:modified>
  <cp:revision>9</cp:revision>
  <dc:subject/>
  <dc:title>Slide 1</dc:title>
</cp:coreProperties>
</file>