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DC54-1D49-4CFD-85B5-AA0889D7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C404-C704-4697-9D3A-8633E95E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46B2-9B06-4CC9-B07C-4E7A2122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851D-40A8-41B8-A577-BAE48CC8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E394-8471-4D79-B27F-F6C18BBC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8DD3-A2AE-4ABE-8225-373003FF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5E7D-2AA6-4D55-9A12-E9E8B746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CA72-49BE-4B77-8218-35AF259B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225C-BFFF-4D96-98E2-8C26AFAB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52A2-4250-43AE-90F8-DF59436B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B1E8-3285-4EEC-924B-24270729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BA25-DDBC-4E24-94A9-7F725C61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C85B-6425-4A6F-BF9F-F8BAE5590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66680" y="152280"/>
            <a:ext cx="69343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Classic"/>
              </a:rPr>
              <a:t>Lesson 3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Classic"/>
              <a:ea typeface="DJ Class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Classic"/>
              </a:rPr>
              <a:t>Day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Classic"/>
              <a:ea typeface="DJ Classic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3076560"/>
            <a:ext cx="586728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676520" y="457200"/>
            <a:ext cx="5790960" cy="70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DJ Basic"/>
              </a:rPr>
              <a:t>My cat is six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DJ Basic"/>
              </a:rPr>
              <a:t>My cat is six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DJ Basic"/>
              </a:rPr>
              <a:t>My cat is six, to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DJ Basic"/>
              </a:rPr>
              <a:t>My cat is six, too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9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9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9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2714400" cy="3714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2162160" cy="3352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066680" y="304920"/>
            <a:ext cx="7162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DJ Basic"/>
              </a:rPr>
              <a:t>Classify/Categoriz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DJ Basic"/>
              <a:ea typeface="DJ Basic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334120" y="205740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905120" y="0"/>
            <a:ext cx="525780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apac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5029200" y="2209680"/>
            <a:ext cx="3886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capacity of something is the amount of space it has to hold thin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304920" y="55627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jelly bean jar has a capacity of 200 jelly be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05120" y="0"/>
            <a:ext cx="525780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au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5029200" y="2209680"/>
            <a:ext cx="3886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haul something, you use a lot of effort to move it from one place to ano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304920" y="55627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uck had to haul the r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69576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05120" y="0"/>
            <a:ext cx="525780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rou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5029200" y="2209680"/>
            <a:ext cx="3886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f you are proud you feel very good about something you did or who you 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304920" y="6019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 was proud to the big f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291456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219320" y="304920"/>
            <a:ext cx="6476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Basic"/>
              </a:rPr>
              <a:t>Fix this sentence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Basic"/>
              <a:ea typeface="DJ Basic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175248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his pal is ki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95280" y="380880"/>
            <a:ext cx="647712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________ was up at b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_________ sat in the s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_______ had some popcor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________ was f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6680" y="304920"/>
            <a:ext cx="685800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J Basic"/>
              </a:rPr>
              <a:t>Circle the naming part of each sentence.  Write the sentence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J Basic"/>
              </a:rPr>
              <a:t>1.  bill is at cam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J Basic"/>
              </a:rPr>
              <a:t>2.  kim is his p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J Basic"/>
              </a:rPr>
              <a:t>3.  she is at cam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J Basic"/>
              </a:rPr>
              <a:t>4.  they see s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J Basic"/>
              </a:rPr>
              <a:t>5.  the two pals d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1523880"/>
            <a:ext cx="38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J Basi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219320" y="380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J ChunkM"/>
              </a:rPr>
              <a:t>Question of the D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J ChunkM"/>
              <a:ea typeface="DJ ChunkM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447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DJ ChunkM"/>
              </a:rPr>
              <a:t>Traffic lights and traffic signs are important.  How do you use th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5720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J ChunkM"/>
              </a:rPr>
              <a:t>When I see ______, I 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9"/>
          <p:cNvSpPr/>
          <p:nvPr/>
        </p:nvSpPr>
        <p:spPr>
          <a:xfrm>
            <a:off x="609480" y="1371600"/>
            <a:ext cx="25146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e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800600" y="1371600"/>
            <a:ext cx="2514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t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05120" y="304920"/>
            <a:ext cx="5486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DJ Basic"/>
              </a:rPr>
              <a:t>Word Wall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DJ Basic"/>
              <a:ea typeface="DJ Bas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0166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590920" y="2514600"/>
            <a:ext cx="3886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J Basic"/>
              </a:rPr>
              <a:t>Rhym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J Basic"/>
              <a:ea typeface="DJ Bas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J Basic"/>
              </a:rPr>
              <a:t>Recogniti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J Basic"/>
              <a:ea typeface="DJ Bas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J Basic"/>
              </a:rPr>
              <a:t>an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J Basic"/>
              <a:ea typeface="DJ Bas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J Basic"/>
              </a:rPr>
              <a:t>Producti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J Basic"/>
              <a:ea typeface="DJ Bas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DJ ChunkM"/>
              </a:rPr>
              <a:t>Word Ble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7621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762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14479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1447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4479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20968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22096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22096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9718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2971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2971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38098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38098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38098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46483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46483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46483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54864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54864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54864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54864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7621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76920" y="14479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22096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2971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38080" y="533520"/>
            <a:ext cx="243864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li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fa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wi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b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1219320"/>
            <a:ext cx="38124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2286000"/>
            <a:ext cx="380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3429000"/>
            <a:ext cx="380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4572000"/>
            <a:ext cx="380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609480"/>
            <a:ext cx="24382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ki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pa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mit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J Basic"/>
              </a:rPr>
              <a:t>Mat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1295280"/>
            <a:ext cx="380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29400" y="2362320"/>
            <a:ext cx="380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3505320"/>
            <a:ext cx="380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4648320"/>
            <a:ext cx="380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981080" y="304920"/>
            <a:ext cx="51055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DJ Basic"/>
              </a:rPr>
              <a:t>Reading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DJ Basic"/>
              <a:ea typeface="DJ Basic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1295280"/>
            <a:ext cx="55627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Basic"/>
              </a:rPr>
              <a:t>Dad has a list in his h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Basic"/>
              </a:rPr>
              <a:t>Milk is on the l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Basic"/>
              </a:rPr>
              <a:t>Ham is on the l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Basic"/>
              </a:rPr>
              <a:t>Dad will go so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Basic"/>
              </a:rPr>
              <a:t>I will ask Dad if I can go, to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371600"/>
            <a:ext cx="914400" cy="53352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1447920"/>
            <a:ext cx="762120" cy="38088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1371600"/>
            <a:ext cx="685800" cy="45720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1295280"/>
            <a:ext cx="990720" cy="60984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1447920"/>
            <a:ext cx="761760" cy="38088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2133720"/>
            <a:ext cx="838080" cy="60948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2286000"/>
            <a:ext cx="380880" cy="38088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209680"/>
            <a:ext cx="838080" cy="45720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2971800"/>
            <a:ext cx="990720" cy="60948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124080"/>
            <a:ext cx="380880" cy="38124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2895480"/>
            <a:ext cx="761760" cy="68580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3809880"/>
            <a:ext cx="990720" cy="60984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3809880"/>
            <a:ext cx="685800" cy="60984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4648320"/>
            <a:ext cx="762120" cy="53316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4648320"/>
            <a:ext cx="685800" cy="53316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4648320"/>
            <a:ext cx="838440" cy="53316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4648320"/>
            <a:ext cx="533520" cy="53316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4648320"/>
            <a:ext cx="761760" cy="609480"/>
          </a:xfrm>
          <a:prstGeom prst="ellipse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95280" y="0"/>
            <a:ext cx="6477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071720"/>
            <a:ext cx="29718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1071720"/>
            <a:ext cx="29718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. h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 h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. h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 s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. t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160020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ig is bi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89548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 on the p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434340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dig in the sa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66680" y="1143000"/>
            <a:ext cx="655344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DJ Basic"/>
              </a:rPr>
              <a:t>hold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DJ Basic"/>
              <a:ea typeface="DJ Basic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680" y="1143000"/>
            <a:ext cx="655344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DJ Basic"/>
              </a:rPr>
              <a:t>home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DJ Basic"/>
              <a:ea typeface="DJ Basic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680" y="1143000"/>
            <a:ext cx="655344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DJ Basic"/>
              </a:rPr>
              <a:t>soon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DJ Basic"/>
              <a:ea typeface="DJ Basic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19320" y="1295280"/>
            <a:ext cx="65530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DJ Basic"/>
              </a:rPr>
              <a:t>get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DJ Basic"/>
              <a:ea typeface="DJ Bas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9:52:39Z</dcterms:created>
  <dc:creator>Christina Ramsey</dc:creator>
  <dc:description/>
  <dc:language>en-US</dc:language>
  <cp:lastModifiedBy>Christina Ramsey</cp:lastModifiedBy>
  <dcterms:modified xsi:type="dcterms:W3CDTF">2009-09-04T12:16:13Z</dcterms:modified>
  <cp:revision>3</cp:revision>
  <dc:subject/>
  <dc:title>Slide 1</dc:title>
</cp:coreProperties>
</file>