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A7AF-F27F-4AED-9162-023BE271F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2F79-63AE-4951-8E5C-762C742F2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5F2B-B893-4D32-9D79-28DC7C4B4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6524-78E7-4967-9262-9351CAEC1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0C8D-CA7B-4F29-80EB-335F0E44F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03AC-AC66-447F-95DB-34344ED3B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5A74-3621-4613-A069-01A483821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2833-AB50-4B17-AF1B-252935A8E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126D-129A-40E9-B78A-EDB084FEA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5FD6-BB40-4A9A-9763-B3571B10D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D875-C05E-4AE4-8851-FA5C2EAFF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2978-41E8-45A1-8AFD-6EFB6C094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37CF-B19F-4361-9406-F9C0BAFB0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1C9A-B5F5-4C16-A077-69F4989B6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C229-39D5-4679-A59E-36D068EBA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BAF3-44BD-465E-B790-299506F93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D0E7-8C44-45A1-8FD0-3BB015B7A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4983-F7BC-4046-9ECC-F64B1AB9A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7564-FDEE-46F8-8EFE-EE75F760D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FF5D-92AB-4949-9BF0-BD2514155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2714-8D44-4CC1-B348-0EF6DF981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A7C-A2C9-47CA-96EF-E78FA53F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D1A8-F9B7-4C3E-B63B-AA1C65CC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D193-8030-443D-9206-E883E11B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B224-8A7E-40AA-8631-51E5DD7F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1584-1673-4CE7-8464-3CE1DC1B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C3D-0919-4366-B9FB-DFFC9C4B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288F-238B-450F-B866-90B939BB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2ADE-00AC-42C6-A827-B84280C3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D019-0CDE-4ACD-88BE-C4B3FAA6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09D5-F952-489B-9104-D9E092BA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B126-D540-4F72-9F6D-F77188AE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BC8D-E70D-41E1-B63E-63792372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793C-E25A-4E18-A4D6-6F6249FC4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3372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3, Day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Frequenc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1752480" y="17524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1676520" y="198108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hol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1905120" y="205740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1905120" y="213372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s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1828800" y="213372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so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7848720" y="6248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228600" y="3886200"/>
            <a:ext cx="8915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My dad has a big rig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0" y="4038480"/>
            <a:ext cx="8915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Big rigs are so big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 / Categor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1219320" y="16002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 when you categorize things you groups them together with things that are alik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1143000" y="3048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en as I read “Go, Go, Go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of the sentences in the story begin with the word “I” and tell about the person in the photograp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ise your hand each time I read a sentence that also tells about 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1295280" y="17524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es our classroom have the capacity to hol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2895480" y="335268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n book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2743200" y="335268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e jet pla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666880" y="34290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x bik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2666880" y="34290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hou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2514600" y="34290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tab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2819520" y="34290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e big ri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0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2133720" y="190512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ld you haul this in your book ba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895480" y="33526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ay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2666880" y="34290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819520" y="34290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ci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2895480" y="35053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unch bo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2819520" y="35053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leph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2666880" y="34290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trac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2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3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6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7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1752480" y="15238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uld you be proud if you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676520" y="29718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arned to sw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600200" y="30481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e l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523880" y="31240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n a r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1752480" y="281952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ared with your sister or br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1600200" y="31240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got your 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1676520" y="28195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lped your best fri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5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7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8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9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0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DJ Sunny"/>
              </a:rPr>
              <a:t>Small Grou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304920" y="1523880"/>
            <a:ext cx="8534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Red gro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ading Group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 Seat Work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.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70c0"/>
                </a:solidFill>
                <a:uFillTx/>
                <a:latin typeface="Comic Sans MS"/>
              </a:rPr>
              <a:t>Blue Gro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1. Centers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Reading Group  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3. Sea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050"/>
                </a:solidFill>
                <a:uFillTx/>
                <a:latin typeface="Comic Sans MS"/>
              </a:rPr>
              <a:t>Green Gro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1. Seat Work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2.Centers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3. Read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7030a0"/>
                </a:solidFill>
                <a:latin typeface="DJ Sunny"/>
              </a:rPr>
              <a:t>Languag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685800" y="16765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wrong with these senten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77724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2362320" y="2819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lp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2362320" y="3809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my tea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152280" y="167652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does the naming part of a sentenc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304920" y="25146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tells who or what the sentence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Where have you traveled? How did you get t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urn and tell your part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went __________by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1676520" y="76212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le the naming part of the sentence and write these sentences correc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1371600" y="1371600"/>
            <a:ext cx="65530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ill has a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bill and dan sit in the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the van will not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t has no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his dad will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now they have gas and can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990720" y="61722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When you finish draw a picture to illustrate the senten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– To listen and respond to a po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5228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ad Alou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 I Was Going Along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7772400" y="6248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PR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838080" y="251460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we read this poem I want you think about the rhythm of the languag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o, imagine you are riding in a car, truck or pla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8"/>
          <p:cNvSpPr/>
          <p:nvPr/>
        </p:nvSpPr>
        <p:spPr>
          <a:xfrm>
            <a:off x="2133720" y="304920"/>
            <a:ext cx="53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d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7620120" y="60958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3352680" y="1447920"/>
            <a:ext cx="2743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5"/>
          <p:cNvSpPr/>
          <p:nvPr/>
        </p:nvSpPr>
        <p:spPr>
          <a:xfrm>
            <a:off x="1066680" y="76212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honological Awarenes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7848720" y="62485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ction ‘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1447920" y="182880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t’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 c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cat.jpg"/>
          <p:cNvPicPr/>
          <p:nvPr/>
        </p:nvPicPr>
        <p:blipFill>
          <a:blip r:embed="rId1"/>
          <a:stretch/>
        </p:blipFill>
        <p:spPr>
          <a:xfrm>
            <a:off x="6324480" y="1523880"/>
            <a:ext cx="2590920" cy="219420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762120" y="33526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the word in red.  This is called a contraction.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easier way to say the words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t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304920" y="50292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1600200" y="5029200"/>
            <a:ext cx="38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1828800" y="502920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1219320" y="5105520"/>
            <a:ext cx="38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4495680" y="480060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t is my cat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4648320" y="571500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It’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my cat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0139 L -0.0625 0.00139 E">
                                      <p:cBhvr>
                                        <p:cTn id="116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ction ‘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81532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1600200" y="182880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w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t’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a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1600200" y="312408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et’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lso a con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easier way to say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et u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2819520" y="4800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Le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5105520" y="48769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5638680" y="48769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4267080" y="472428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3333 0 E">
                                      <p:cBhvr>
                                        <p:cTn id="163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ction ‘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1828800" y="14479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’s read these sentences and find the contr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0" y="251460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p, T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’s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T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1752480" y="48769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the cont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45720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7621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4724280" y="2514600"/>
            <a:ext cx="426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’s in the ba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’s a w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’s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let’s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5105520" y="2743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556272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5410080" y="36576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7"/>
          <p:cNvSpPr/>
          <p:nvPr/>
        </p:nvSpPr>
        <p:spPr>
          <a:xfrm>
            <a:off x="6477120" y="4191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2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Vowel /i/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676520" y="1371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2057400" y="1371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4343400" y="1523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1676520" y="1371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4267080" y="2133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fr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1371600" y="1371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343400" y="2666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2057400" y="1371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4343400" y="32004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5"/>
          <p:cNvSpPr/>
          <p:nvPr/>
        </p:nvSpPr>
        <p:spPr>
          <a:xfrm>
            <a:off x="1371600" y="1371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4343400" y="3809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1371600" y="1371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4343400" y="4495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213372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4343400" y="5181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13716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6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4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kdrummond</cp:lastModifiedBy>
  <dcterms:modified xsi:type="dcterms:W3CDTF">2009-09-05T03:14:56Z</dcterms:modified>
  <cp:revision>114</cp:revision>
  <dc:subject/>
  <dc:title>Slide 1</dc:title>
</cp:coreProperties>
</file>