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58F-5FAF-428F-A279-72FC26A9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282-5100-4F44-9AE8-ABBAB7A5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59CC-937E-429F-9B2E-C8763F8AE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3B9-B127-4E96-99D6-6F45A9CAA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C9C5-BE52-4829-9C9D-F0ABED88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4CB6-15EF-4718-BAFF-CF56897B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9A78-0AA4-41D3-89A7-A22650A4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C631-6237-4911-BA44-5E8F97EB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B59-62F4-4A2B-B5FA-24116F9E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E53-BABC-4881-8CBA-37F7B5389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40E4-BF59-4B5A-BE4A-C6605E66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8398-B2AE-40E4-AA52-66BED192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AC51-E348-4990-892A-7E429E98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4CAA-9737-4E56-B986-34B94E6AC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BD2D-3243-45DF-9460-F0632AFA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5A75-5DC3-48C9-B563-F9F5F3C8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13AB-17D5-4887-868F-D4297C7F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126-3D32-471F-B40F-2F328BD8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E8A2-1833-495D-A7ED-ABDEF6992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8BD-55B7-44CF-92CE-8699B64B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732E-FB56-46A8-853D-BF492A2C5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5D3-D246-4A1D-B25E-FEAC09FE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6D9-7DE2-4F92-8499-FA643B2C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457-88D5-4E56-9295-BCB4BEF5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541-F612-474A-8F64-7278E6E3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745E-D8C6-4804-A3A2-279DB14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9F8-903D-4C48-BB85-EAF81869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849-1207-4615-B874-D3FC5152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666-54E6-454B-A5FB-456B663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DF4-7603-4312-A07A-A0733E06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485-CD7A-4DFF-82BB-74A2B00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E7C-F693-4681-A8E8-9DBEE81E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051-275D-4409-B0BC-A437619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8219-C379-4F61-AB61-88ACDB10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Pj04394500000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33720" y="685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3, Day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3"/>
          <p:cNvSpPr/>
          <p:nvPr/>
        </p:nvSpPr>
        <p:spPr>
          <a:xfrm>
            <a:off x="1905120" y="838080"/>
            <a:ext cx="601956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DJ Polka Dot"/>
              </a:rPr>
              <a:t>Spelling Tes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200400" y="1752480"/>
            <a:ext cx="3429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828800" y="1828800"/>
            <a:ext cx="5943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ol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981080" y="1905120"/>
            <a:ext cx="5943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ome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743200" y="1981080"/>
            <a:ext cx="4191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514600" y="190512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848720" y="6248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514600" y="198108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let’s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666880" y="1981080"/>
            <a:ext cx="46483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5909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soon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23623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2590920" y="1981080"/>
            <a:ext cx="4647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 / Categ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1371600"/>
          <a:ext cx="6477120" cy="47545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676520"/>
                <a:gridCol w="175248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an You Hear a Rainbow?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ig Rigs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o, Go, Go!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2" name="TextBox 6"/>
          <p:cNvSpPr/>
          <p:nvPr/>
        </p:nvSpPr>
        <p:spPr>
          <a:xfrm>
            <a:off x="266688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495680" y="2819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095880" y="2819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743200" y="3886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soc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in a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419720" y="39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up the 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the r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6095880" y="3886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666880" y="5105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cer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4419720" y="5105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095880" y="5029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bust 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eci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1295280" y="457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sens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little sister would you ignore the feeling or tell someone ab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219320" y="2971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foods do you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especial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219320" y="46483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feel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prou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yourself when you do something well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295280" y="457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Pret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143000" y="167652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r classroom is filled to capacity with 100 students. Act out how you would look after a long day of being in this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1371600" y="44197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hauling a large bag of toys across the room. How would you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838080" y="152388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night you were sleeping and sensed a fire.  Show us what you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just memorized a long poem. Show how you would act when the audience claps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7924680" y="624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50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J Sunny"/>
              </a:rPr>
              <a:t>Small Gro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304920" y="1523880"/>
            <a:ext cx="853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ed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ading Group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 Seat Work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Blue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1. Centers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Reading Group  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70c0"/>
                </a:solidFill>
                <a:latin typeface="Comic Sans MS"/>
              </a:rPr>
              <a:t>3. Sea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Comic Sans MS"/>
              </a:rPr>
              <a:t>Green Gro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1. Seat Work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2.Centers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b050"/>
                </a:solidFill>
                <a:latin typeface="Comic Sans MS"/>
              </a:rPr>
              <a:t>3. Read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030a0"/>
                </a:solidFill>
                <a:latin typeface="DJ Sunny"/>
              </a:rPr>
              <a:t>Langu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685800" y="1676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wrong with these senten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77724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23623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m and jan ran 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2362320" y="3809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and fred can sw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609480" y="16765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r is a sentence about something I d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304920" y="26668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tell me the naming part of this sent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609480" y="3962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________ likes the water, sand and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nk of a place you would want to visit.  Where would it be? How would you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urn and tell your part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ant to go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 will go there in a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676520" y="7621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 the naming part of the sentence and write these sentenc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2280" y="1600200"/>
            <a:ext cx="563904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will get in the 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we can float on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my dad is with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 do not get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liz and dad did get 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990720" y="617220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When you finish draw a picture to illustrate the sent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hildren rafting.jpg"/>
          <p:cNvPicPr/>
          <p:nvPr/>
        </p:nvPicPr>
        <p:blipFill>
          <a:blip r:embed="rId1"/>
          <a:stretch/>
        </p:blipFill>
        <p:spPr>
          <a:xfrm>
            <a:off x="5562720" y="2666880"/>
            <a:ext cx="3311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7480" y="228240"/>
            <a:ext cx="15242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 – To listen and respond to a po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22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ad Alou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 I Was Going Along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772400" y="6248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P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838080" y="251460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have fun saying thi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enjoyable about saying thi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you memorize it and say it over and over agai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8"/>
          <p:cNvSpPr/>
          <p:nvPr/>
        </p:nvSpPr>
        <p:spPr>
          <a:xfrm>
            <a:off x="2133720" y="30492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7620120" y="6095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362320" y="144792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029200" y="1600200"/>
            <a:ext cx="27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5"/>
          <p:cNvSpPr/>
          <p:nvPr/>
        </p:nvSpPr>
        <p:spPr>
          <a:xfrm>
            <a:off x="1066680" y="76212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honological Awarenes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7848720" y="6248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tion ‘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733920" y="18288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988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572000" y="18288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4724280" y="1828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419720" y="1828800"/>
            <a:ext cx="2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8006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0292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4648320" y="281952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2209680" y="3809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ry these cont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96252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3886200" y="4648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334 0 E">
                                      <p:cBhvr>
                                        <p:cTn id="11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0 E">
                                      <p:cBhvr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838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91440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144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914400" y="3886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838080" y="5486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914400" y="4648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590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have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my j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2514600" y="3276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t p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2743200" y="3962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phants ar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2438280" y="46483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dog likes to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y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2666880" y="54100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8153280" y="6248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Vowel /i/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838080" y="1600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ggs for break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914400" y="2286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2743200" y="23623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next to Sam on the b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99072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743200" y="3276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I can’t go to the mov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990720" y="3962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590920" y="3962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my favorite book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990720" y="480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666880" y="4800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der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990720" y="5638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2666880" y="56386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’t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ittle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ation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67652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ig is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676520" y="2819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t on the p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1600200" y="4114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dig in the s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 </cp:lastModifiedBy>
  <dcterms:modified xsi:type="dcterms:W3CDTF">2009-09-07T20:57:34Z</dcterms:modified>
  <cp:revision>126</cp:revision>
  <dc:subject/>
  <dc:title>Slide 1</dc:title>
</cp:coreProperties>
</file>