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18FE-10B4-4BFA-930D-B87310CBD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41EE-7E7A-416F-B945-7AC4D7F5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61E8-7BC3-4E15-9E1E-091D0B1CB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DB2F-98F9-4694-B787-3595D0E6E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7AA5-5A25-4F13-AA2A-4734FA7ED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0A62-E537-43DA-AAC1-9AA568FF2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4B9E-CC7E-4103-8C77-7589AFFA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B3F6-2656-4187-B42D-EDE1DCE19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6317-338B-4C05-A09B-BCD006FD7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2FA4-8FA5-4FAD-8014-A37659189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AFDA-462F-4C91-B90F-3232D132E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3381-F949-421F-B61A-572727D96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6F46-5736-4A07-9F43-C679DD27C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E134-BCAD-4D01-AE8C-B8BFDBB4C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6617-1F0C-4BBC-A61C-88396110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1AE9-80DF-4A61-8A89-82B120015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CD36-2EFC-4155-B46D-A430A13AC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59C9-E9FE-4577-9E28-F1839498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671C-03C8-465C-AC85-59B7160E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C28E-0748-415D-87ED-E84B8AB96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E551-B55C-42F2-956B-1B8DC0E56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E48A-BFF8-446D-838B-F5A92D0E5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141E-E7D6-4950-B363-243AAF1F1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8C55-7706-464E-AB1A-747E2627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E7DA-B3B5-475F-B6C0-5385DC6D8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2F47-19A5-4CF5-8234-2988998D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BE7-4277-4AF2-A6EC-0683B83B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C461-D247-4A64-B949-BBFCD739A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8C0C-DF13-4290-9594-AEFB61C87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D2A5-4007-4489-9BD5-AE2E0434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4882-FB80-48E8-AF6B-5A12ECF7D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129-D7E0-4175-A604-B767D0DD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79F-15DB-4251-9F76-48EF07C4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5D4-5F27-4AB1-ABD0-64DAA135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483-D892-4563-A87A-4A06459A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3F9-C4BC-414B-9CA4-D3B5E37D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857-85E4-417F-8577-41B72521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587-D20D-47AC-AE1C-481A33F5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EF4-D517-40B0-B049-584B4B92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B9B-9096-4DE7-AEE6-A6EAD3B2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6D7-1172-41BE-A7A3-D8C1A2EF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60B-E3E1-4994-9EE8-4E250D51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EF4-4E6E-4888-886A-DAB9DC2E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F2E9-1CC0-4313-AE3B-A61273E35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2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30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ractions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a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/or/er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er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r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Soon the new boy will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fin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our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Most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rooms in the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building 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are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col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Jake has a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mild 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rash on his ar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Do you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min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if I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fol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this pap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29680" y="3049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rea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tangChe"/>
                <a:ea typeface="BatangChe"/>
              </a:rPr>
              <a:t>Think Lo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I will wind the jack-in-the-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id you bind th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How many eggs did you fi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he kid was very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o not grind your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ink Long 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id the worm dirt have mold o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id you hold that worm in your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id you eat those yummy ro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as that ocean water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e waves fold over at the c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lphabet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152388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hel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boo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o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5195160" y="152280"/>
            <a:ext cx="38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sequence and arrange words in alphabetical or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lphabet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47560" y="152388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gupp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sn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23920" y="1523520"/>
            <a:ext cx="40388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176800" y="152280"/>
            <a:ext cx="383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sequence and arrange words in alphabetical or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not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rea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fro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2880" y="99072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Frog and Toad Togeth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4" descr="MCj03053010000[1]"/>
          <p:cNvPicPr/>
          <p:nvPr/>
        </p:nvPicPr>
        <p:blipFill>
          <a:blip r:embed="rId1"/>
          <a:stretch/>
        </p:blipFill>
        <p:spPr>
          <a:xfrm>
            <a:off x="914400" y="1676520"/>
            <a:ext cx="441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makes you ha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am happy when I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e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mend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bcBulletin"/>
              </a:rPr>
              <a:t>seized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iz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mething, you grabbed it in a sudden strong w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sports9"/>
          <p:cNvPicPr/>
          <p:nvPr/>
        </p:nvPicPr>
        <p:blipFill>
          <a:blip r:embed="rId1"/>
          <a:stretch/>
        </p:blipFill>
        <p:spPr>
          <a:xfrm>
            <a:off x="3429000" y="1066680"/>
            <a:ext cx="5553000" cy="4162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3505320" y="53341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e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were in a hurry to get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gg, what do you thing would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194520" y="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tiresome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something is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 tiresome,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t is bor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MPj04395240000[1]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273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371600" y="6095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dy is having a tiresom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tire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 me how your face looks after you have done something that i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reso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6256800" y="228600"/>
            <a:ext cx="2721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bcBulletin"/>
              </a:rPr>
              <a:t>tremendous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429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something i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remendous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very large and gr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Tremendous pain"/>
          <p:cNvPicPr/>
          <p:nvPr/>
        </p:nvPicPr>
        <p:blipFill>
          <a:blip r:embed="rId1"/>
          <a:stretch/>
        </p:blipFill>
        <p:spPr>
          <a:xfrm>
            <a:off x="3657600" y="773280"/>
            <a:ext cx="5000760" cy="47574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3657600" y="5562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 is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emend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tremend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240" y="17524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ame something </a:t>
            </a:r>
            <a:r>
              <a:rPr b="0" lang="en-US" sz="3400" spc="-1" strike="noStrike">
                <a:solidFill>
                  <a:srgbClr val="ff0000"/>
                </a:solidFill>
                <a:latin typeface="Comic Sans MS"/>
              </a:rPr>
              <a:t>tremendous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at you might see at Six Fla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f an animal made a </a:t>
            </a:r>
            <a:r>
              <a:rPr b="0" lang="en-US" sz="3400" spc="-1" strike="noStrike">
                <a:solidFill>
                  <a:srgbClr val="ff0000"/>
                </a:solidFill>
                <a:latin typeface="Comic Sans MS"/>
              </a:rPr>
              <a:t>tremendous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noise, would it be loud or sof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6180840" y="152280"/>
            <a:ext cx="2721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use of go and w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52280" y="609480"/>
            <a:ext cx="899172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“go” or “wen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ight, I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week, I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now, I _____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304920" y="152280"/>
            <a:ext cx="883908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spond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ontentment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8" descr="MPj04385400000[1]"/>
          <p:cNvPicPr/>
          <p:nvPr/>
        </p:nvPicPr>
        <p:blipFill>
          <a:blip r:embed="rId1"/>
          <a:stretch/>
        </p:blipFill>
        <p:spPr>
          <a:xfrm>
            <a:off x="1654200" y="1905120"/>
            <a:ext cx="5835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62120" y="914400"/>
          <a:ext cx="7848360" cy="57150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ve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6327000" y="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 - To read high frequency word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phone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3" descr="j0281904"/>
          <p:cNvPicPr/>
          <p:nvPr/>
        </p:nvPicPr>
        <p:blipFill>
          <a:blip r:embed="rId1"/>
          <a:stretch/>
        </p:blipFill>
        <p:spPr>
          <a:xfrm>
            <a:off x="4392720" y="1523880"/>
            <a:ext cx="4321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114800" y="1143000"/>
            <a:ext cx="533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2767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4800600" y="11430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038480" y="11430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4191120" y="198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4419720" y="19810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6"/>
          <p:cNvSpPr/>
          <p:nvPr/>
        </p:nvSpPr>
        <p:spPr>
          <a:xfrm>
            <a:off x="4876920" y="1981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36576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4038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1"/>
          <p:cNvSpPr/>
          <p:nvPr/>
        </p:nvSpPr>
        <p:spPr>
          <a:xfrm>
            <a:off x="4495680" y="28195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4"/>
          <p:cNvSpPr/>
          <p:nvPr/>
        </p:nvSpPr>
        <p:spPr>
          <a:xfrm>
            <a:off x="4724280" y="28195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5"/>
          <p:cNvSpPr/>
          <p:nvPr/>
        </p:nvSpPr>
        <p:spPr>
          <a:xfrm>
            <a:off x="36576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6"/>
          <p:cNvSpPr/>
          <p:nvPr/>
        </p:nvSpPr>
        <p:spPr>
          <a:xfrm>
            <a:off x="41148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7"/>
          <p:cNvSpPr/>
          <p:nvPr/>
        </p:nvSpPr>
        <p:spPr>
          <a:xfrm>
            <a:off x="45720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48006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657600" y="1295280"/>
            <a:ext cx="762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267080" y="1295280"/>
            <a:ext cx="1295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0384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5181480" y="1371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8862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32767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114800" y="21337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49568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276720" y="3048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33526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388620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4038480" y="3048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426708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41148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43434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327672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35812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40384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42670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3200400" y="5486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38862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3434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48006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f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m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mi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f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891320" y="1905120"/>
            <a:ext cx="227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m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so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n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bo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buil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</cp:lastModifiedBy>
  <dcterms:modified xsi:type="dcterms:W3CDTF">2009-04-29T01:26:28Z</dcterms:modified>
  <cp:revision>240</cp:revision>
  <dc:subject/>
  <dc:title>Slide 1</dc:title>
</cp:coreProperties>
</file>