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23D-D446-47A2-A07F-AB75F705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E50-CAC2-4916-B739-1C8F413E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882-9798-4D85-81EB-F0AFCB9E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5F6-CF04-4E47-B15C-F8289BDC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B20-F8CB-47A9-8A1E-DB2BDBA0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BDDE-F6F7-4F96-9F75-3A30C080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784-B722-4839-A13D-EC0D4FE3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C12-FA6C-46C1-A880-AA398FF4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9A1-2996-4B5E-8C5F-F0133E74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D95-7943-4DC5-ABF0-7621A383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197-F987-41C4-AFEF-8304401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575-AB38-40B6-A678-12CA8190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E275-0E28-4D24-B4AB-9DF0863D5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30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30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ne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e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n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e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w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ords with /i/ i, /o/ 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i/ i, /o/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143000"/>
            <a:ext cx="876312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en is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ld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 big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lik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t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of all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e took her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m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wil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wi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pulls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near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pol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en does not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i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 She pulls on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lin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day to fly a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n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b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r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a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6"/>
          <p:cNvSpPr/>
          <p:nvPr/>
        </p:nvSpPr>
        <p:spPr>
          <a:xfrm>
            <a:off x="5944680" y="64771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arrange words in alphabetical ord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522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betize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85800"/>
            <a:ext cx="899172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Listing words in alphabetical order makes it easier to find specific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*In a glossary, where would you look for the word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table?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With words beginning with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or words beginning with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048120"/>
            <a:ext cx="3353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k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5909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 in alphabetical ord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429000"/>
            <a:ext cx="38862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28600"/>
            <a:ext cx="701028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August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here shall we g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hat shall we pl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hat shall we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n a hot summer d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e’ll sit in a sw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Go low. Go hig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nd drink lemon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Till the glass is d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ne straw for yo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ne straw for m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In the cool green sh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f the walnut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905120"/>
            <a:ext cx="27432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hat do the people in the poem want to do on the August aftern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hat rhyming words do you he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2844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au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ag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exhausted, you are so tired you can hardly mo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haus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ttle boy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hau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1143000"/>
            <a:ext cx="87631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nswer in one voice.. Which would make you feel more exhausted:  writing a long story or climbing a rock wa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what you would do if you felt exhaus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*If I was exhausted, I would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two words would you use to describe yourself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am special because I 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utrage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outrageous, it is different in a shocking wa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rageou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the purple flower had one red and yellow pe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26096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Do you think it would be outrageous to dress your dog up in your cloth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something outrageous you might s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omething outrageous I might see is 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patient, you put up with things without complain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ti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562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n was ver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t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waiting to catch a fi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990720"/>
            <a:ext cx="876312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33cc33"/>
                </a:solidFill>
                <a:latin typeface="Arial"/>
              </a:rPr>
              <a:t>Is it harder for you to be patient to open a birthday present or go to a special place with your family?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Turn and talk with your partner about a time when you had to be patient at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I had to be patient when _________.</a:t>
            </a: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go and went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371600"/>
            <a:ext cx="7620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, we ______ to 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, we _______ to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lass ______to art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can ________ to the nurse tod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go and w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Using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go</a:t>
            </a: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week, Ben _____ to the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my dog will _____ for a long w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 _____ to the vet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we all ____ to the play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ly and Kim will ____ to the beach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 ______ to the seashore last summ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go and went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52280"/>
            <a:ext cx="88390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0968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657600"/>
            <a:ext cx="761976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25780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1905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943600" y="1905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2362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334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3049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066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Write sentences to describe a room in your home. Use words that describe size, color, and direc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a poem through movement; to identify rhyming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981080" y="-152280"/>
            <a:ext cx="525780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onstantia"/>
              </a:rPr>
              <a:t>Conten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53452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would like to be wise,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point to he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would like to be strong,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flex muscl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would like to be right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nod he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d never be wrong.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shake he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t since none of th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 likely to b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’m really quite happy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point to smi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o be only me.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point to self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33720" y="228600"/>
            <a:ext cx="5181480" cy="77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r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lco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ending phonemes from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143000"/>
            <a:ext cx="77724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onemic Awarenes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3200400"/>
            <a:ext cx="63248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honeme Dele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914400"/>
            <a:ext cx="30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7524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1752480"/>
            <a:ext cx="30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4290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42900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34290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752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i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o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bb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ho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30T03:04:22Z</dcterms:modified>
  <cp:revision>155</cp:revision>
  <dc:subject/>
  <dc:title>Slide 1</dc:title>
</cp:coreProperties>
</file>