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1DF1-87C4-40C9-99E3-A6A63DBD4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8E62-D314-4FCD-8AF5-2418AF9F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7B76-41E2-45DC-8608-1DC0B8B7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53A-EE86-4E17-B826-477BF14AC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3589-F5FB-4D3A-9828-2269DC51E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23EB-A7A0-46BE-8599-95E3DFB55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F29-0E97-4B91-A62B-A4F185E7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BB5-28D5-49F8-99DC-E905D56E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601-4216-4C14-93E5-4488AF75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81A-BF77-4D57-B7C6-F9E0A3CE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679D-74EF-4226-BB32-EC293391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4758-79CF-45C8-8B25-E23BAE38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744A-FE65-4078-9D0D-A390063C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0F56-C157-42FB-B6FE-A4CBF594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2520-295F-4A9A-81DE-4AE9F9C9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62CB-BC6D-4446-B9C5-24FB3158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A418-3E36-4847-B3D8-4345B582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194-2420-46F2-93E5-A9A06710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A982-CAFD-4872-BCD2-7B0C85D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46BD-C933-4E34-84C0-41778053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F611-F664-4CC4-9547-7F2F925D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7C19-832F-449F-A6CC-8C248EDE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AFB2-A48F-4855-BA76-37830BE5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8A3C6-1DA2-4267-92F3-420DE7C8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092B-C139-4863-83A0-9D6D4301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26CD4-CC1A-456C-88D2-C441BEF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F6F5-4768-4E33-BCFA-122A0671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8ED9-B8C4-42CC-8F62-B40D8693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383-1DB5-49FA-906E-0678D06C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99AA-85E9-4D22-AD0C-1DE340C0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66A6-AB62-478D-8F95-D128CEB3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BB3E-7A40-432D-B2DB-8AB85E8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5862-E088-4810-918B-633537F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E396-7C86-4187-92F7-80006C77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10C9-DC9F-4849-B8EA-77CFC9C8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E81B-0ED5-4602-AE64-055F749D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C2D-3318-452E-B74D-280C366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0E2-E49C-4391-B2D8-495F97E5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21E-ACA1-4489-A04E-99EB2132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002-E3CD-40FC-AE1D-929D1824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439-A288-40A6-B2AC-3768F8D2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577-5207-4E7B-936E-52D1475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80D5-47DC-4B81-93BA-C4B8F8895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F377-A134-4646-B1B6-AF9AB019A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0D9-1A55-478A-8720-4384C4BEA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3" descr=""/>
          <p:cNvPicPr/>
          <p:nvPr/>
        </p:nvPicPr>
        <p:blipFill>
          <a:blip r:embed="rId1"/>
          <a:stretch/>
        </p:blipFill>
        <p:spPr>
          <a:xfrm>
            <a:off x="146160" y="-201600"/>
            <a:ext cx="88516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fli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ro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rubb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sho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l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ra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fai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ne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pee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trai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t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n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la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te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coo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w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3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3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3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alibri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4"/>
          <p:cNvSpPr/>
          <p:nvPr/>
        </p:nvSpPr>
        <p:spPr>
          <a:xfrm>
            <a:off x="3733920" y="914400"/>
            <a:ext cx="30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4"/>
          <p:cNvSpPr/>
          <p:nvPr/>
        </p:nvSpPr>
        <p:spPr>
          <a:xfrm>
            <a:off x="289548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6"/>
          <p:cNvSpPr/>
          <p:nvPr/>
        </p:nvSpPr>
        <p:spPr>
          <a:xfrm>
            <a:off x="35053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9"/>
          <p:cNvSpPr/>
          <p:nvPr/>
        </p:nvSpPr>
        <p:spPr>
          <a:xfrm>
            <a:off x="40384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3"/>
          <p:cNvSpPr/>
          <p:nvPr/>
        </p:nvSpPr>
        <p:spPr>
          <a:xfrm>
            <a:off x="40384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4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5"/>
          <p:cNvSpPr/>
          <p:nvPr/>
        </p:nvSpPr>
        <p:spPr>
          <a:xfrm>
            <a:off x="3657600" y="17524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6"/>
          <p:cNvSpPr/>
          <p:nvPr/>
        </p:nvSpPr>
        <p:spPr>
          <a:xfrm>
            <a:off x="3886200" y="1752480"/>
            <a:ext cx="30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7"/>
          <p:cNvSpPr/>
          <p:nvPr/>
        </p:nvSpPr>
        <p:spPr>
          <a:xfrm>
            <a:off x="2666880" y="3429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8"/>
          <p:cNvSpPr/>
          <p:nvPr/>
        </p:nvSpPr>
        <p:spPr>
          <a:xfrm>
            <a:off x="32767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0"/>
          <p:cNvSpPr/>
          <p:nvPr/>
        </p:nvSpPr>
        <p:spPr>
          <a:xfrm>
            <a:off x="3733920" y="342900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4"/>
          <p:cNvSpPr/>
          <p:nvPr/>
        </p:nvSpPr>
        <p:spPr>
          <a:xfrm>
            <a:off x="45720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5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6"/>
          <p:cNvSpPr/>
          <p:nvPr/>
        </p:nvSpPr>
        <p:spPr>
          <a:xfrm>
            <a:off x="434340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7"/>
          <p:cNvSpPr/>
          <p:nvPr/>
        </p:nvSpPr>
        <p:spPr>
          <a:xfrm>
            <a:off x="4038480" y="34290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8195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3526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5812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19520" y="1752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2767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38098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403848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434340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38862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384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75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75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1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8520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add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304920" y="6094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t’s add some sounds to make new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s/ to park and the new word is s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b/ to red and the new word is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s/ to top and the new word is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g/ to rip and the new word is g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d/ to the end of car and the new word is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/t/ to the end of bus and the new word is 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ch/ to the end of bee and the new word is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p/ to the end of lamb and the new word is l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p/ to lay and the new word is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hw/ to eat and the new word is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s/ to mile and the new word is s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c/ to lap and the new word is c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0" dur="500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1" descr=""/>
          <p:cNvPicPr/>
          <p:nvPr/>
        </p:nvPicPr>
        <p:blipFill>
          <a:blip r:embed="rId1"/>
          <a:stretch/>
        </p:blipFill>
        <p:spPr>
          <a:xfrm>
            <a:off x="146160" y="146160"/>
            <a:ext cx="8851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Objective: To substitute sounds in the initial position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228600" y="68580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Let’s change some letters to make new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c/ in care to a /b/ and the new word is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b/ in boat to a /k/ and the new word is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oon to a /t/ and the new word is t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s/ in sink to a /p/ and the new word is p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b/ in boy to a /t/ and the new word is t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y/ in yawn to a /l/ and the new word is l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l/ in lake to a /m/ and the new word is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ight to a /l/ and the new word i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r/ in rock to a /n/ and the new word is kn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an to a /p/ and the new word is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ouse to a /h/ and the new word is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c/ in clock to a /f/ and the new word is f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8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4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4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0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228600" y="22860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bjective: To discriminate  between words with different patterns; to use common letter patterns to read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228600" y="1371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f0"/>
                </a:solidFill>
                <a:latin typeface="Arial"/>
              </a:rPr>
              <a:t>Phonogram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04920" y="365760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member that a phonogram is a word that has the same ending as another word.  Today we are going to work on words ending with  -ind, –ild, and -old. Phonograms are also rhyming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52280" y="228600"/>
          <a:ext cx="8686800" cy="658332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ette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nd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9004320" cy="6456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52280" y="228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listen attentively and respond appropriately to oral communication; to read aloud with fluency in a manner that sounds like normal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304920"/>
          <a:ext cx="9144000" cy="6553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lette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end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f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228600" y="5335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Where is the clock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k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chil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will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i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Do you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m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if I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The bird in the clock is going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il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Tick, tock! Tick, to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152280" y="304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76320" y="2286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146160" y="438120"/>
            <a:ext cx="8851680" cy="1098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152280" y="1523880"/>
            <a:ext cx="8839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2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Rectangle 3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9156960" cy="1098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0" y="11430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clim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hu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pret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so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5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5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9" dur="2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228600" y="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To place words from a story in alphabetical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0" y="380880"/>
            <a:ext cx="8991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et’s see if we can put these words in alphabet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w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380880" y="403848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b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w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1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9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3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2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70c0"/>
                </a:solidFill>
                <a:uFillTx/>
                <a:latin typeface="Calibr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hau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outrage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pat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77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77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2" dur="77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4" dur="77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exhausted, you are so tired you can hardly mov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4f81bd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haus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ttle boy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hau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I will name some activities.  If the activity would make someone exhausted  I want you to close your eyes like you are sleeping.  If the activity would not make you exhausted, then open your eyes very wide like your aw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ning a mara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wimming l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mbing st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tching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gging deep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8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8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2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utrageou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outrageous, it is different in a shocking wa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utrag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the purple flower had one red and yellow pe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26096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I will name some things that might look outrageous.  If I name something that looks outrageous I want you to say “WOW!”  If not say nothing at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lowns at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zebras in a shoe 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a queen at a post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dogs at a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hildren at a restau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bunnies in a pet 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7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2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0" y="457200"/>
            <a:ext cx="899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How can you tell when it is a windy 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alibri"/>
              </a:rPr>
              <a:t>On my signal, turn and talk with your partner to complete the following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The wind blows ____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patient, you put up with things without complai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80008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ti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762120" y="5562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ver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le waiting to catch a fi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7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I will name some places.  Why do you think a person would have to be patient at each one of these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swimming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grocery s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clothing s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play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soccer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1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5" dur="4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4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4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4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Answer in one vo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f you had to stand in line for two hours to get a free ice cream cone, would you be patient or exha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hat would be an outrageous name for a tremendous superhero that you might create and dr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Name something that would be tiresome if your job was to seize it over and over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feel a tremendous shaking coming from the ground.  Show how you might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5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0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5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4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52280" y="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use go and went correctly in sentences to describe actions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0" y="7621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Use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r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Did Frog and Toad _____________ near the 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, Frog and Toad _____________near the co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w, we ___________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Last night, Dan ___________ to the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__________to the pa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__________ to the art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8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3" dur="8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8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0" y="152280"/>
            <a:ext cx="88390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character and a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beginning, middle, and 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pl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28600" y="38088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What does the wind sound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my signal, turn and talk with your partner to complete the following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The wind sounds like _________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Objective: To identify similarities between texts; to participate in a choral reading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52280" y="1447920"/>
            <a:ext cx="8991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oday we are going to read a poem called  “Wind.”  As I read the poem I want you to listen and see if you hear any words that describe the wind.  On the second time I would like for you and I to read the poem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The wind has lots of no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snif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puf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wh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rumbles like 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through junipers and pi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whispers in the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how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hu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tells you VERY PLAI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every time it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28600" y="3808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hat words did you hear that described the wi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sni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u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w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rum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whis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how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h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52280" y="152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3" descr=""/>
          <p:cNvPicPr/>
          <p:nvPr/>
        </p:nvPicPr>
        <p:blipFill>
          <a:blip r:embed="rId1"/>
          <a:stretch/>
        </p:blipFill>
        <p:spPr>
          <a:xfrm>
            <a:off x="73080" y="420840"/>
            <a:ext cx="9077400" cy="774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6320" y="1143000"/>
            <a:ext cx="8991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re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al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no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1:27:45Z</dcterms:created>
  <dc:creator>lara colleen mangham</dc:creator>
  <dc:description/>
  <dc:language>en-US</dc:language>
  <cp:lastModifiedBy>lara colleen mangham</cp:lastModifiedBy>
  <dcterms:modified xsi:type="dcterms:W3CDTF">2009-05-01T02:25:28Z</dcterms:modified>
  <cp:revision>14</cp:revision>
  <dc:subject/>
  <dc:title>Slide 1</dc:title>
</cp:coreProperties>
</file>