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472-DDA0-41C4-AFA9-5EA76FFD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CA9-831B-4F51-A0E0-04B312D1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B77-9CFE-4A24-8D45-2770150B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1CA-0FEC-455B-8BA3-D729D338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A6DB-D989-4D64-9293-9579F979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5B5D-7EE2-442B-A782-E541831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85FA-9C85-4496-A0E6-B17DDB70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957F-83DE-4089-92A3-3E0E0DF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BD30-2D0E-4E13-950F-F325596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8F3-A4AF-4922-9A15-A7AF0F93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9CA-77A3-44B9-AC33-A4B45A85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E58-A886-4BBF-BF65-839C25F1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2127-5AA3-4355-83B0-5E0E7DF0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CDCB-A472-4494-865E-CD262E7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40BC-CF66-4944-8753-D3A7E716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5E3E-0CFA-4C52-916A-7047BD5E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7275-D013-4EE7-A16C-9E1416F1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49A-BFA5-4ADD-B2BD-72BCBBE0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60B-D62B-4F80-A893-978A5A11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784-C7D4-4A5C-B03A-551F29A5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FB2-48DF-4C3C-8628-2060765C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9C6-0964-4694-94B6-EDB6CDBE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E7A-3760-4530-AED6-BE057C16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F3C-F594-4B73-9604-E3155A2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28E9-3922-4462-BA8B-64DCB88305A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B129-2658-4479-9B09-F584979324B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 1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sson 4, Day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870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Jack has a sa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ack will pick a sa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585324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2880" y="114300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ck a Sack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383364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8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612792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219320"/>
            <a:ext cx="80773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603576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nderstand characteristics of fanta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ook! Book! Book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03840" cy="47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Content Placeholder 3" descr="ambled.bmp"/>
          <p:cNvPicPr/>
          <p:nvPr/>
        </p:nvPicPr>
        <p:blipFill>
          <a:blip r:embed="rId1"/>
          <a:stretch/>
        </p:blipFill>
        <p:spPr>
          <a:xfrm>
            <a:off x="4344840" y="8175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mbl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 walked in a slow and relaxed man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41520" y="1952640"/>
            <a:ext cx="598464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owly the pi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o the libra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might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when you take a walk or when you are in a rac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litely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ct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show that you have good manners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Content Placeholder 3" descr="manners-1.gif"/>
          <p:cNvPicPr/>
          <p:nvPr/>
        </p:nvPicPr>
        <p:blipFill>
          <a:blip r:embed="rId1"/>
          <a:stretch/>
        </p:blipFill>
        <p:spPr>
          <a:xfrm>
            <a:off x="1066680" y="3200400"/>
            <a:ext cx="70866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might you see on a farm?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You might see ______ on a fa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541520" y="2013120"/>
            <a:ext cx="5984640" cy="30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of the animals used good manner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ked the librarian for something to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want or need something, how do you ask for i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uted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29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, you showed you were not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appy by making a face. 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Content Placeholder 5" descr="childPOUTING.gif"/>
          <p:cNvPicPr/>
          <p:nvPr/>
        </p:nvPicPr>
        <p:blipFill>
          <a:blip r:embed="rId1"/>
          <a:stretch/>
        </p:blipFill>
        <p:spPr>
          <a:xfrm>
            <a:off x="2209680" y="2514600"/>
            <a:ext cx="4692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541520" y="1952640"/>
            <a:ext cx="598464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i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cause she had nothing to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ight cause a young child to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getting a new toy or having to take a n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91520" y="5867280"/>
            <a:ext cx="228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entify tell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ts of senten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0"/>
            <a:ext cx="8991720" cy="90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rarian could not understand the animal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rarian scratch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r hea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91520" y="5867280"/>
            <a:ext cx="228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entify telli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ts of sentenc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0"/>
            <a:ext cx="8991720" cy="69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ill likes music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Bill is in a ba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59040" y="0"/>
            <a:ext cx="542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467480" y="586728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understand that sentences are used as ca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68656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listen to a story read alou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891540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here’s A Billy Goat in the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81080" y="2246400"/>
            <a:ext cx="5029200" cy="46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: To identify initial sounds in word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91520" y="603576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at 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k together stand for on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iagraph /k/ ck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1143000"/>
            <a:ext cx="28191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say a word that ends with /k/, give me a thumbs up. When I say a word that does not have a /k/ at the end, put your hands in your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30272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591516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k/ ck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114300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1143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19810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8195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581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58672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k/ 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12952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1295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1371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0481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38862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3434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4724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5486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54864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91516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8-21T02:58:28Z</dcterms:modified>
  <cp:revision>202</cp:revision>
  <dc:subject/>
  <dc:title>Slide 1</dc:title>
</cp:coreProperties>
</file>