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7A5B-2545-4597-9173-E852D2599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017D-86AA-4BEC-92EF-58AE25293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DE30-87EB-46DB-99BB-C3CFF4D8D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02D9-7447-4099-89FC-150FE754C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E679-7906-40ED-A685-6740B5AC6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3A38-482E-49B9-B0D0-57A25F3CA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EB01-E870-48B9-966C-310E27122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1271-77FD-4A80-A08A-76826F07A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EC16-49BF-4C01-B8AA-52D92A734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ECC9-DC41-4609-A4B3-AE4956513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EC06-8BD7-4217-8DD9-0DC5D3C00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B0AA-B955-426A-9BCE-148E247E1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AAF-17ED-4AB0-9B3C-68337441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0F5-7435-4EEB-908E-39F91288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D71-5875-4F0A-B5F0-CDCC09F3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71A-9DE3-4B39-8949-06005F77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60E1-2667-423F-9FA0-4B51AA86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AF85-5903-4479-8400-7F0AD365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7B2B-2195-4072-A0CB-BE5A1F77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B9B3-0317-4ED2-B92A-D117674B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13E9-66BE-4D5F-8AA6-2701DA3C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53A0-DF48-448E-8794-7EE4C928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C02A-CB21-4530-BEDB-DCD0DEEB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F54-63E8-4AF7-AE7C-4E8363AD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3B09-868F-4A4F-B0F0-5362D796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A91A-3DB0-4DFD-B745-10DEF0D6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76D8-FD86-449C-B176-39A3F945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ED5F-C5F1-4D9D-A992-15197E15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EA19-643A-450C-8C07-523BA7AD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67C-045C-474C-B4F7-A27A7A3A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409-CBD3-4C29-AD03-642FD710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C1A-25F3-4870-821C-1C0EE007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8CE-7E73-4DFC-8642-4F04A28F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886-95AC-48E7-9136-AA64E493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7E0-89E9-4CC3-9347-802E2FE4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33B-5AFA-4E83-9B02-4230AA99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5859-8624-4BFF-B6C2-E66BE8B4B26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C5D7-5D1C-4CA4-B57C-9CAFBF71034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Pj04394500000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uesd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ptember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sson 4, Day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Oh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, no!  It is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at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 he sick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ill he get up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Yes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, he will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et Up Rick!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1"/>
          <a:srcRect l="1022" t="16870" r="24874" b="28868"/>
          <a:stretch/>
        </p:blipFill>
        <p:spPr>
          <a:xfrm>
            <a:off x="0" y="2128680"/>
            <a:ext cx="86104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outed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2900" spc="-1" strike="noStrike">
                <a:solidFill>
                  <a:srgbClr val="ff0000"/>
                </a:solidFill>
                <a:latin typeface="Comic Sans MS"/>
              </a:rPr>
              <a:t>pouted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, you showed you were not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appy by making a face.  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Content Placeholder 5" descr="childPOUTING.gif"/>
          <p:cNvPicPr/>
          <p:nvPr/>
        </p:nvPicPr>
        <p:blipFill>
          <a:blip r:embed="rId1"/>
          <a:stretch/>
        </p:blipFill>
        <p:spPr>
          <a:xfrm>
            <a:off x="2209680" y="2514600"/>
            <a:ext cx="46926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541520" y="2260080"/>
            <a:ext cx="598464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a time when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bout something.  Why did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How did other people react to you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an activity that would turn you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u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ace into a smiling f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Content Placeholder 3" descr="ambled.bmp"/>
          <p:cNvPicPr/>
          <p:nvPr/>
        </p:nvPicPr>
        <p:blipFill>
          <a:blip r:embed="rId1"/>
          <a:stretch/>
        </p:blipFill>
        <p:spPr>
          <a:xfrm>
            <a:off x="4344840" y="81756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mbl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  walked in a slow and relaxed man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541520" y="1952640"/>
            <a:ext cx="59846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someone told you that you won a contest, would you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m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p to the stage to receive your priz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some places where you woul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m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ead of walk fast or ru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politely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ct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you show that you have good manners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Content Placeholder 3" descr="manners-1.gif"/>
          <p:cNvPicPr/>
          <p:nvPr/>
        </p:nvPicPr>
        <p:blipFill>
          <a:blip r:embed="rId1"/>
          <a:stretch/>
        </p:blipFill>
        <p:spPr>
          <a:xfrm>
            <a:off x="1066680" y="3200400"/>
            <a:ext cx="70866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o or what wakes you up in the morning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 wake up when _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is it a good idea to speak and ac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an example of a time when you acte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What did you do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you feel if someone does not ac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te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ward you?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0" y="63244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compose sentences with telling par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152280" y="609480"/>
            <a:ext cx="899172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pigs _______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cows _______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horses ________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e goat ________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60195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appreciate the rhythm and rhyme of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at Kisses”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7242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621792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–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et’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identify final sounds in word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42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162920" y="603576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k/ck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657600" y="1295280"/>
            <a:ext cx="762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09880" y="1295280"/>
            <a:ext cx="1524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5181480" y="13716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73392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2767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419112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276720" y="3048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2767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3657600" y="3048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4038480" y="3048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3733920" y="3886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41148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327672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365760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4191120" y="47242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3200400" y="5486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8"/>
          <p:cNvSpPr/>
          <p:nvPr/>
        </p:nvSpPr>
        <p:spPr>
          <a:xfrm>
            <a:off x="365760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9"/>
          <p:cNvSpPr/>
          <p:nvPr/>
        </p:nvSpPr>
        <p:spPr>
          <a:xfrm>
            <a:off x="3886200" y="54864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8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not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up th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n will com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om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m ca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gifts in th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ac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d will get th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i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839480" y="1905120"/>
            <a:ext cx="14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8-21T03:04:01Z</dcterms:modified>
  <cp:revision>244</cp:revision>
  <dc:subject/>
  <dc:title>Slide 1</dc:title>
</cp:coreProperties>
</file>