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055A-698D-4CC9-88B9-949405DC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65FD-2512-45FE-8AED-0CDF8894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069-2F25-4129-B07B-B9021D18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B3B-931F-45C0-8366-314CA8E8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9592-0091-4D96-89F7-B726DBE18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5B1-1BDB-432A-B2F2-73BE0A94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7088-A1B4-4A09-817B-B389DE98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E45-86A4-434E-B0D2-4F323B38B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D75C-82A7-47E0-A23E-E8805670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BD7-9B57-42A1-B30B-8AC72E2D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32CE-8517-407F-B406-3D5439A9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8011-47E9-4C32-B2ED-782B4259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763-DCC0-4F41-9819-9E36283E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A49-7C8C-475A-89B4-8FD9170B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C64-34BE-4856-ABE1-3B720766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954-761C-4A6C-8042-8FB9C53A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FAC2-DD9D-48AA-A9DE-5E72F66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5DDF-68BA-4387-9FE8-0313225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4767-4E0B-483A-B889-FA66D47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8C85-5237-47D3-9189-9F6915D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073B-ED09-4036-8CB8-4B36793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F72-C1AC-4C0A-A83D-AB90483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D08F-63E9-4268-A56D-777701A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133-1DF8-40E6-B4D2-383FE2C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ED77-A7F1-431B-9BDF-996D6A6C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9466-706B-44B8-8033-CAE6563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2F3F-493C-48B9-89F5-426C3D4D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3212-42C6-4F5D-A59F-F93FF576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6B68-AAB0-4545-8B9B-A8496836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2CB-3644-49B5-8339-AC0C4840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211-656A-4C87-A225-60E2572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2E4-D48A-4797-A639-25D27CB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D18-2F58-4674-BD7E-E86F141E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ED8-0F87-4069-A61A-1AFF10B8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EB-C6B0-4A91-9654-B5A04EDC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4B1-366A-4D1F-B663-C779A18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B5DD-E715-41DE-8BA2-1C821C29E6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7C0-94B7-442F-A5D2-DF3238E45A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dne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Rick when they give him a clo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others, I do nice things for them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you bee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someone lately?  What did you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ollow the sam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days I come to school.  What kind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 you follow on school day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41520" y="2075040"/>
            <a:ext cx="598464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ould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me to sleep late.  Would that b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you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are some words you would use to describe ca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are _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ats like to 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-380880" y="0"/>
            <a:ext cx="89913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 u="sng">
                <a:solidFill>
                  <a:srgbClr val="000000"/>
                </a:solidFill>
                <a:uFillTx/>
                <a:latin typeface="Arial"/>
              </a:rPr>
              <a:t>On Our Way to Schoo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Shared Writing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understand the characteristics of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at Kisses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724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038480" y="21337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657600" y="213372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19112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581280" y="2971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44197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9625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4191120" y="29718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3352680" y="38098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3962520" y="3809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41148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43434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2767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581280" y="4648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962520" y="46483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7162920" y="603576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/k/ck and other known letter-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733920" y="129528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733920" y="12952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373392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4572000" y="12952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1480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4495680" y="21337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191120" y="2971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32767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380988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4572000" y="29718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3124080" y="3733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73392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41148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449568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go to camp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J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help him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com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ad will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pick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m up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07T04:49:51Z</dcterms:modified>
  <cp:revision>252</cp:revision>
  <dc:subject/>
  <dc:title>Slide 1</dc:title>
</cp:coreProperties>
</file>