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F87D-6395-49E0-A53D-607377213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CF3-A038-44A5-BC65-86799430F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681D-8DD7-414F-99C8-3203F5986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1ED-FD28-4333-AB76-952AB1F7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DCB8-F34F-403E-A2C6-33C97197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EA97-69C1-4754-8F35-794CF920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BA1E-F0C5-475F-AB69-7FC2E516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04E9-A9D8-4D59-9D6F-E237E69A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61C0-05C6-471B-A5F7-13FC83E0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BCE-FF6E-4264-9CDB-A9F7C4E2C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120-C1E3-46C8-AE71-EC0FF42A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3EDF-8861-4979-9839-EDABF240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DF4D-EB99-462B-90D5-17DF9D9E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57A-5129-4EEC-ADC1-19DC9E9E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F6F-4383-4D89-A9EE-1FF508B3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35D-C22A-4CA1-9901-86E07BAC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2C92-DB4C-4AA9-93BB-13841698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89C-5F64-4513-B43B-FC588F51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D930-3D20-47B8-9485-ED3401BD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78BD-76CB-4798-A19D-700DDC4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E16D-6C2E-4341-8E15-394C4B9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6996-F52C-4D1C-B3C8-BD6AF25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CB0D-3B91-4A05-B4A2-EECA4F4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B01-BF5B-4A06-B60D-709600AA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995-4A56-417E-8E5D-66178B06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A391-CBEB-45B1-A5D3-618DA67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AC13-BA71-425B-86A4-4F8E3C6E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3205-9822-4A78-B477-F248F864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910E-E1CF-4008-B032-26246CE3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4C28-2C42-476D-936D-2F7CFCF7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21C-1A80-41C5-914E-D40C2BE6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992-CE4D-4421-BF31-AD8F23E3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29C-9DDB-4F53-81DA-3FA499AE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7C7-F1F1-4E07-95FB-DCE3AB73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B21-B7A9-490B-90FC-204A0C31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898-C2FA-4296-9E8B-80CB8CE3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E54-2073-4D33-B6C9-502F231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BD8F-9DDD-4108-97D9-1D25BAC1F0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6423-D4AF-496B-8891-A2147D904A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ursda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eptember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sson 4, Day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5338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Fluenc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3733920"/>
            <a:ext cx="4952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, no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 is R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Rick sic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 Rick is fast asle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up, Rick!  It is lat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06668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I read, I pay attention to capital letters so I know where a sentence begins.  I also pay attention to commas and end marks.  When I see a comma, I pause.  When I see an exclamation point, I make my voice sound excited.  When I see a question mark, I sound as if I am asking a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rot="21016200">
            <a:off x="228240" y="304920"/>
            <a:ext cx="304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200"/>
                </a:solidFill>
                <a:latin typeface="Comic Sans MS"/>
              </a:rPr>
              <a:t>Let’s fill in the chart on the story </a:t>
            </a:r>
            <a:r>
              <a:rPr b="0" i="1" lang="en-US" sz="1600" spc="-1" strike="noStrike">
                <a:solidFill>
                  <a:srgbClr val="00b200"/>
                </a:solidFill>
                <a:latin typeface="Comic Sans MS"/>
              </a:rPr>
              <a:t>There’s a Billy Goat in the Ga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Bulletin"/>
              </a:rPr>
              <a:t>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Content Placeholder 3" descr="considerate.jpg"/>
          <p:cNvPicPr/>
          <p:nvPr/>
        </p:nvPicPr>
        <p:blipFill>
          <a:blip r:embed="rId1"/>
          <a:stretch/>
        </p:blipFill>
        <p:spPr>
          <a:xfrm>
            <a:off x="4267080" y="1143000"/>
            <a:ext cx="4110120" cy="5029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erson thinks about the feelings of others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30492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nimal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Rick when th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him a clo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e means – to think about the feelings of 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am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others, I do nice things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sider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consider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“That’s considerate!!”  If it isn’t s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ay 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ive a 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ke 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rab a 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hare a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ke lots of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rout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Content Placeholder 3" descr="skincare-routine.jpg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304920" y="1219320"/>
            <a:ext cx="86868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arm animals have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ry morning.  They expect Rick to crow and wake them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e means – to do the same thing every 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follow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you do the same things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ut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part of your routine at night say “Good night!!”  If it isn’t say 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Brush te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 a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Finger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Eat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un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Change clot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if roosters could talk?  What might a rooster say instead of “cock-a-doodle-doo”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rooster might say, “ __________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expected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someth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ppens, it will be a surpri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Content Placeholder 5" descr="surprise_kitten_attack.jpg"/>
          <p:cNvPicPr/>
          <p:nvPr/>
        </p:nvPicPr>
        <p:blipFill>
          <a:blip r:embed="rId1"/>
          <a:stretch/>
        </p:blipFill>
        <p:spPr>
          <a:xfrm>
            <a:off x="1905120" y="2438280"/>
            <a:ext cx="5286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04920" y="1219320"/>
            <a:ext cx="868680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morning, Rick does not crow.  Everyone is late.  The animals are surprised because this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xpected means – that you were surprised when something hap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exp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say something that is surpr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“That’s unexpected!!”  If it isn’t s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666880"/>
            <a:ext cx="853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 snow in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Go t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See a rabbit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Find ten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Eat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ar a pet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0" y="228600"/>
            <a:ext cx="8991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have a naming         part and a telling pa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r what is this sentence about?  Something is missing! 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My sister</a:t>
            </a:r>
            <a:r>
              <a:rPr b="0" lang="en-US" sz="2400" spc="-1" strike="noStrike">
                <a:solidFill>
                  <a:srgbClr val="00b2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44080" cy="3368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62120" y="457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Match the naming part to the telling part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recognize a poet’s purp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hanticleer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identify beginning and ending sounds in word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42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Phonograms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762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ick   -   p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k   -   r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19929000">
            <a:off x="152280" y="22824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nderline the rime in each sen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2057400"/>
          <a:ext cx="6629400" cy="376704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e wants to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elp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 k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ick lick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 wink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ic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Comic Sans MS"/>
              </a:rPr>
              <a:t>Build Words</a:t>
            </a:r>
            <a:endParaRPr b="0" lang="en-US" sz="5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12952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5909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2767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88620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4495680"/>
            <a:ext cx="4267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c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839480" y="1905120"/>
            <a:ext cx="1458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b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h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Comic Sans MS"/>
              </a:rPr>
              <a:t>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17T01:53:29Z</dcterms:modified>
  <cp:revision>260</cp:revision>
  <dc:subject/>
  <dc:title>Slide 1</dc:title>
</cp:coreProperties>
</file>