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574D-ED86-4349-BB8F-EE29FD0F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39B7-1923-43BC-B935-BE67E889D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325-F8CD-4DB6-B1AF-A4A92486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0E11-3A92-49C0-837A-5D75757ED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38A0-B944-4AD0-8535-F90153812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F02D-1FC0-4C20-BC82-092B091DB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21E7-D4D3-48F5-9551-895BFEFD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86EF-F904-484E-B1DC-F3F847BD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092-A17A-4E90-9E6F-6235FDD5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104-E04E-428C-83DB-DCF4A17B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3EF-DE8A-42C6-9091-23CD77F5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2A5-5AD4-4FFE-A406-FAECF253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C325-B976-4395-ACE5-7A27A9DC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B61E-CA40-48D0-8D1C-7469FE74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2291-A965-4731-88BB-E76A98C6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6210-4AD6-424C-BF1F-030103C9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9309-9EF9-413C-A9DA-233D0CC9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CC43-2322-4579-8475-F6FEF045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39A3-9528-4634-8571-B080A489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422-1C16-442E-BDE1-75D3DE58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CEDD-4680-4511-B8CF-177BDA45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ABB8-FCBF-4AA2-80A8-5D96C15C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B12D-4A16-449A-AED8-BBA4EE1C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A789-9A74-4A41-B9B0-AD8AE88B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D04F-0D16-43A4-8731-04711FBB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B23-FDE4-4164-B87A-2AC3071C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FA6-5EE4-41F5-B212-F56D4703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DB0-94B8-46B5-B90B-F97FE689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3F3-5A49-4191-A41A-E9D4F3B6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9E9-8281-4430-9CF0-9888D517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BEF-F5AC-43AA-A17C-EE6FAF95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AAA-96E8-4D42-8B8D-83BE835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FAD3-A09A-4EA5-A047-8B545BB241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1CBA-55D9-4CC2-A218-2153984A0B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MPj04394500000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362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ri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ptember 18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esson 4, Day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0" y="5989680"/>
            <a:ext cx="22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l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lite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de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ut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09120" y="151920"/>
            <a:ext cx="7696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someone was considerate enough 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y you a present, how would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ond politely?  Expl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amily member has made a list 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e chores for you to do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urday morning. What chore wou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you pou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just received an unexpected visit from your favorite TV star.  Would this cause you to amble about or jump up and dow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uld this make you pout or smile?  If it would make you pout show me a pouting face, if not, smi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roken t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iting in a long 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ing to the p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ing good-by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new to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iends not sha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name some places.  If you think that you would amble there then walk slowly in place.  If not, stand still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etty pa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block from the bus stop where the bus is leav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ish line of a 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treet with many window displ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0" y="63244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compose sentences with telling par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0" y="228600"/>
            <a:ext cx="8991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s have a naming         part and a telling pa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r what is this sentence about?  Something is missing! 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</a:rPr>
              <a:t>Ri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is your favorite farm anima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farm animal is 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like ______ because 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86240" y="6019560"/>
            <a:ext cx="2057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ective: To recognize a poet’s purp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hanticleer”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79132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621792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 –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read high 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0"/>
            <a:ext cx="8305560" cy="69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: To identify medial sounds in word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609840" y="9140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omic Sans MS"/>
              </a:rPr>
              <a:t>Phonograms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8280" y="7621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  -   pi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t  -   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 rot="19929000">
            <a:off x="216360" y="2124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Write the initial sound in each 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52640" y="1962000"/>
          <a:ext cx="6372000" cy="3679920"/>
        </p:xfrm>
        <a:graphic>
          <a:graphicData uri="http://schemas.openxmlformats.org/drawingml/2006/table">
            <a:tbl>
              <a:tblPr/>
              <a:tblGrid>
                <a:gridCol w="3186000"/>
                <a:gridCol w="318600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elling Test Ti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Name_____________Date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1.___________9.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2.___________10.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3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4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5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6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7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nmanship Print"/>
              </a:rPr>
              <a:t>8._________________________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 u="sng">
                <a:solidFill>
                  <a:srgbClr val="000000"/>
                </a:solidFill>
                <a:uFillTx/>
                <a:latin typeface="Comic Sans MS"/>
              </a:rPr>
              <a:t>Words to Know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la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609480" y="380880"/>
          <a:ext cx="7696440" cy="5581800"/>
        </p:xfrm>
        <a:graphic>
          <a:graphicData uri="http://schemas.openxmlformats.org/drawingml/2006/table">
            <a:tbl>
              <a:tblPr/>
              <a:tblGrid>
                <a:gridCol w="1828800"/>
                <a:gridCol w="2019600"/>
                <a:gridCol w="1923840"/>
                <a:gridCol w="1924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k! Book! Book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 Up, Rick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’s A Billy Goat in the G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d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 </cp:lastModifiedBy>
  <dcterms:modified xsi:type="dcterms:W3CDTF">2009-09-17T02:35:42Z</dcterms:modified>
  <cp:revision>264</cp:revision>
  <dc:subject/>
  <dc:title>Slide 1</dc:title>
</cp:coreProperties>
</file>