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wmf" ContentType="image/x-wmf"/>
  <Override PartName="/ppt/media/image3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0CF1-3F2C-4442-A316-015FA607C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0149-CA50-4CE8-8618-67A22F5C5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28FC-2E45-4BEC-B66D-CA1898230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0DA0-3AF7-4A62-AB4B-61F3E3BF4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8909-F6F1-4766-8892-ED3379B23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9A16-C079-480C-9350-7EE8FA9A6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EB4F-CD84-4B11-819E-F2CBB5A81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6D07-5EAF-4A5A-959A-D21179AB5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D486-BC07-4BBE-8094-766D97F44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B509-47FF-4CAA-B022-01FD5CF3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D8CA-A2EE-4B3D-82A5-1311D710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0AAB-43C8-44EB-9BDB-0EE47E5F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E0492-A3CA-4071-B05C-C2696974B8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n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ptember 21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5, Day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81320" y="-360"/>
            <a:ext cx="21337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identify characters in a sto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94240" y="1332000"/>
            <a:ext cx="3521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143000"/>
            <a:ext cx="91440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Mom and Dad have job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Roz wants a job, to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933960" y="228240"/>
            <a:ext cx="2057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-360"/>
            <a:ext cx="82296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Words to Kno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el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05360" y="274320"/>
            <a:ext cx="19810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practice retelling a stor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28600" y="1295280"/>
          <a:ext cx="8686440" cy="4724280"/>
        </p:xfrm>
        <a:graphic>
          <a:graphicData uri="http://schemas.openxmlformats.org/drawingml/2006/table">
            <a:tbl>
              <a:tblPr/>
              <a:tblGrid>
                <a:gridCol w="2895480"/>
                <a:gridCol w="2895480"/>
                <a:gridCol w="2895480"/>
              </a:tblGrid>
              <a:tr h="10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ginning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ddl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ing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67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Yoshi’s Fea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ktales are very old stories that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told over and over again.  Folkt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e from all over the worl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520" y="2971800"/>
            <a:ext cx="80010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bcBulletin"/>
              </a:rPr>
              <a:t>horrible</a:t>
            </a:r>
            <a:br>
              <a:rPr sz="4000"/>
            </a:br>
            <a:br>
              <a:rPr sz="40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omething </a:t>
            </a:r>
            <a:r>
              <a:rPr b="0" lang="en-US" sz="2900" spc="-1" strike="noStrike">
                <a:solidFill>
                  <a:srgbClr val="ff0000"/>
                </a:solidFill>
                <a:latin typeface="Arial"/>
              </a:rPr>
              <a:t>horrible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is really bad and awful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Arial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rcRect l="4688" t="40625" r="43528" b="22938"/>
          <a:stretch/>
        </p:blipFill>
        <p:spPr>
          <a:xfrm>
            <a:off x="990720" y="2743200"/>
            <a:ext cx="7086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horri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1828440"/>
            <a:ext cx="6400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k cooked the “stinky” fish.  The fish smelled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orri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don’t like potato chips.  I think they tast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orri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aste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orri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38098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bcBulletin"/>
              </a:rPr>
              <a:t>invigora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Content Placeholder 3" descr="invigorated.jpg"/>
          <p:cNvPicPr/>
          <p:nvPr/>
        </p:nvPicPr>
        <p:blipFill>
          <a:blip r:embed="rId1"/>
          <a:stretch/>
        </p:blipFill>
        <p:spPr>
          <a:xfrm>
            <a:off x="4797360" y="1341360"/>
            <a:ext cx="3355920" cy="46753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ar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vigora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you are full of energ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invigora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1676520"/>
            <a:ext cx="64008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licious smells of breakfas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vigora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child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a hot day, going swimming makes me feel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vigora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vigora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ou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presented</a:t>
            </a:r>
            <a:br>
              <a:rPr sz="4400"/>
            </a:br>
            <a:br>
              <a:rPr sz="44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If you </a:t>
            </a:r>
            <a:r>
              <a:rPr b="0" lang="en-US" sz="2900" spc="-1" strike="noStrike">
                <a:solidFill>
                  <a:srgbClr val="ff0000"/>
                </a:solidFill>
                <a:latin typeface="Arial"/>
              </a:rPr>
              <a:t>presented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something to a friend, 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you gave it to her or him.</a:t>
            </a:r>
            <a:br>
              <a:rPr sz="40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Content Placeholder 5" descr="presented.jpg"/>
          <p:cNvPicPr/>
          <p:nvPr/>
        </p:nvPicPr>
        <p:blipFill>
          <a:blip r:embed="rId1"/>
          <a:srcRect l="0" t="0" r="-224" b="16911"/>
          <a:stretch/>
        </p:blipFill>
        <p:spPr>
          <a:xfrm>
            <a:off x="1828800" y="2590920"/>
            <a:ext cx="5473800" cy="36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presen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resen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is friend with a gift on his birth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win a contest, would you b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resen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a priz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this sentence:  I’d like to b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resen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a 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Think about gardens you have se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What might you see in a gard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 might see a ___________ in the gar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lling Sent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bu and Yoshi live near each 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bu cooks on his hibach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shi likes the smell of broiled ee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lling Sent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n jo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s like to na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66880" y="0"/>
            <a:ext cx="5610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8629560" cy="36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068560" y="0"/>
            <a:ext cx="5006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listen to a story read alo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8915400" cy="47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Read Aloud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There’s A Billy Goat in the Gar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981080" y="2246400"/>
            <a:ext cx="5029200" cy="461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67480" y="228240"/>
            <a:ext cx="15242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elp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i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a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2982960"/>
            <a:ext cx="89154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0"/>
            <a:ext cx="739152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ic Awareness -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neme Categor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09680" y="1752480"/>
            <a:ext cx="51055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391520" y="6035760"/>
            <a:ext cx="175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nderstand the short vowel /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0"/>
            <a:ext cx="7391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Short Vowel /o/ o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34120" y="1143000"/>
            <a:ext cx="35049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I say a word that begins with /o/, make an o in sign language. When I say a word that does not have a /o/ at the beginning, put your hands in your lap.  Let’s do the same with the middle sou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62120" y="2438280"/>
            <a:ext cx="3582720" cy="188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580920" y="1143000"/>
            <a:ext cx="838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162920" y="591516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o/ o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191120" y="1143000"/>
            <a:ext cx="685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76720" y="1981080"/>
            <a:ext cx="1371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419720" y="1143000"/>
            <a:ext cx="1066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267080" y="36576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038480" y="19810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1981080"/>
            <a:ext cx="1904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657600" y="28195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86200" y="2819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819520"/>
            <a:ext cx="1524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81280" y="35812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2520" y="35812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19720" y="358128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33920" y="449568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62520" y="44956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19720" y="44956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Word Build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419720" y="121932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48320" y="1219320"/>
            <a:ext cx="60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029200" y="1219320"/>
            <a:ext cx="60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243828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nge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h.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word did you mak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19720" y="228600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o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342900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nge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.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word did you mak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419720" y="312408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o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441972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nge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.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word did you mak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19720" y="411480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518148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nge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.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word did you mak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43400" y="495288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o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609588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nge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.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word did you mak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95680" y="5791320"/>
            <a:ext cx="12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o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95720" y="228240"/>
            <a:ext cx="12193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blend sounds into wo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eading Wor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m got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ack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t six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d will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ick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me up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y cat can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ho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lo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tap 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ho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po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o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box has a big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do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on 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 </cp:lastModifiedBy>
  <dcterms:modified xsi:type="dcterms:W3CDTF">2009-09-21T03:15:33Z</dcterms:modified>
  <cp:revision>14</cp:revision>
  <dc:subject/>
  <dc:title>Slide 1</dc:title>
</cp:coreProperties>
</file>