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5330-FED1-40E4-832C-697F7D65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914-0BAA-422C-A553-7C781C6A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53AC-9E64-4AA5-9555-C956F285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02F7-7CE1-4E78-920B-3B364D43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399-95AB-4781-B3F0-7C9EF2FA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E80-B66D-4334-9DF0-4FEA451A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0FF-572E-46DC-B84E-9465F183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684-7F92-4511-8945-C96202F4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CBB-2595-4EC0-A5F8-EF54386B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A46-1BDA-4B4A-BE53-9AABF407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65-FE20-4C76-B1B1-683F8966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FE3-C42B-4B2E-9347-878A9E3A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494-92F7-48F4-BF8A-9D42913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E7C-4393-4B50-8B10-9A0DD9A4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0E1-4D3D-468B-9AA5-BA885064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A4D-1E63-4E91-9A6A-19808EA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8721-3319-4043-B499-FBBAA6BD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209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no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d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lo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533520"/>
            <a:ext cx="2210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pick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83059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people and animals in stories are called characters.  The story “Yoshi’s Feast” is about two people – Yoshi and Sabu.  Yoshi and Sabu are both characters in the sto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56865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28600" y="1143000"/>
            <a:ext cx="868680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me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the little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 means – to help some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 needed help moving  a big chair, I asked my friend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might you need someone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28600" y="1143000"/>
            <a:ext cx="8686800" cy="50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oys we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 means – you keep trying and never giv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persistent at riding a bike.  What is something you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you think people have pe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ople like pets 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924680" y="6019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04920" y="12193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irl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 means- it is very hot and uncomfor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y the wor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e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i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any people like to go swimm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else could you do to cool off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es ‘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elt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84" dur="2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1520" y="5867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write about something that has happened in class recent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95680" y="21337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Do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f to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21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a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5791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35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578200">
            <a:off x="228600" y="380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Highlight short i and short 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3T02:20:39Z</dcterms:modified>
  <cp:revision>17</cp:revision>
  <dc:subject/>
  <dc:title>Slide 1</dc:title>
</cp:coreProperties>
</file>