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E62-928A-4FC5-984C-2CE500F5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FB5D-E956-4CD8-A7D5-D5A1D4BB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3E1-BEEE-42CD-A365-CFD96EFD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2CE-D982-4E42-9271-E35DA21B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7F6-8117-4EC7-A714-C4028D1C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AE2-2CF7-4C27-A819-12C7B4E3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A7B-B2CD-4F00-866A-1DE1A8FE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E15-0F59-4D29-A438-A793784B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72E-C5C4-4428-8E11-F87C18AE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1EAB-C66F-42C5-818A-770D7B3C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36A-366E-41FB-ADAD-699F7C22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D03-6852-40C6-B200-56E02E22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0ABE-FB74-40FE-874A-6DB50225D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rsjonesroom.com/songs/vowelshor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24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5, Day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 Vowel /o/ and Sp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7619760" y="-360"/>
            <a:ext cx="15238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sound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95720" y="228240"/>
            <a:ext cx="1219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spelling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2666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808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1828800"/>
            <a:ext cx="26672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33960" y="228240"/>
            <a:ext cx="2057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ight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d Bob dig too 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n you ________ the d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_____ you, Bob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1520" y="152280"/>
            <a:ext cx="175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tinguish fiction from nonfi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4240" y="1332000"/>
            <a:ext cx="352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0"/>
            <a:ext cx="451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62120"/>
            <a:ext cx="9448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read remember to read the words carefully and do not skip over any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the words as they are printed and do not add any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445932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a story read a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2280"/>
            <a:ext cx="731520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There’s A Billy Goat in the Ga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962160" cy="3633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91120" y="1523880"/>
            <a:ext cx="49528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haracter yip-yaps to get the goat to come out of the ga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attern do you see in this s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haracter gets the billy goat to come out of the ga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es the goat run aw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Content Placeholder 8" descr="aid 3.jpg"/>
          <p:cNvPicPr/>
          <p:nvPr/>
        </p:nvPicPr>
        <p:blipFill>
          <a:blip r:embed="rId1"/>
          <a:stretch/>
        </p:blipFill>
        <p:spPr>
          <a:xfrm>
            <a:off x="4921200" y="1370160"/>
            <a:ext cx="3308400" cy="5000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one, you help him or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18284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some ways that you coul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younger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members of your famil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7339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ontent Placeholder 5" descr="persistent 2.jpg"/>
          <p:cNvPicPr/>
          <p:nvPr/>
        </p:nvPicPr>
        <p:blipFill>
          <a:blip r:embed="rId1"/>
          <a:stretch/>
        </p:blipFill>
        <p:spPr>
          <a:xfrm>
            <a:off x="3809880" y="1371600"/>
            <a:ext cx="4821480" cy="4789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keep trying and never give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about different kinds of gard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f you had a garden, what would you pl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f I had a garden, I would plant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er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it is a good thing to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you want to learn something? 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think of something that it might not be a good idea to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  Explain why you think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ontent Placeholder 3" descr="excessive-sweating.jpg"/>
          <p:cNvPicPr/>
          <p:nvPr/>
        </p:nvPicPr>
        <p:blipFill>
          <a:blip r:embed="rId1"/>
          <a:stretch/>
        </p:blipFill>
        <p:spPr>
          <a:xfrm>
            <a:off x="4648320" y="838080"/>
            <a:ext cx="3657600" cy="5491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temperatur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welt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is very hot and un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we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nd that the room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welt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What could you do to cool the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clothing would you be wearing if you lived in a place that ha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welt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mpera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write complete telling sent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fix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og n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s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ox is 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d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67480" y="152280"/>
            <a:ext cx="1447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write complete telling sent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words to these groups of words to make complete sentences.  They need to begin with capital letters and end with peri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 up the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ig 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led the 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62920" y="152280"/>
            <a:ext cx="1752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telling sentences.  To understand that telling sentences tell about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your writing journal, tell about something that you have done with a family member recent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24280" y="23623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I Dig, Dig, Di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honemic Awarenes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Final Sound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748520"/>
            <a:ext cx="89154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short o? Where is short o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I am. Here I am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in a hot pot, rocky top, and stop clock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- o - o    o - o - 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762120"/>
            <a:ext cx="12380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ections –ed, -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k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k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0"/>
            <a:ext cx="16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root wor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ections –ed, 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0"/>
            <a:ext cx="16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root wor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295280"/>
          <a:ext cx="8610480" cy="52466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Root 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Add -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Add -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e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ke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e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e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k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3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61920"/>
            <a:ext cx="75438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9-24T02:45:53Z</dcterms:modified>
  <cp:revision>24</cp:revision>
  <dc:subject/>
  <dc:title>Slide 1</dc:title>
</cp:coreProperties>
</file>