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4E3-35CC-4A62-A6AD-17E2878D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EB9-0728-4FA4-91F0-51F993DB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D56-DC47-4C09-B320-BC87DBB6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7CF-2242-4E10-A929-04438EDC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F52-E843-478F-BE84-0B6FB7AF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231-50CD-47B9-AA72-02DCF8E0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014-D913-4624-8676-0DCBEB92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B1E-DCF3-4EE5-9DAE-8ADAEFF2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8D1E-4F40-4348-A7D2-81A4D308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F4F-9382-4FE8-BD05-781E06A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EED-DE44-43A1-9150-22B96FA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237-98B3-44CB-9D0E-8667A1F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5172-6E3C-40A5-B4E4-A9CED3C8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rsjonesroom.com/songs/vowelshor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6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igor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l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write complet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30492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bout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names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tells about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ds in the sentence describe th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journal, draw a place that you like to visit.  Write three sentences about that pla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your favorite poem or rhy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do you lik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poem i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rhyme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2133720"/>
            <a:ext cx="38102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mic Awareness – Middle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k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0"/>
            <a:ext cx="165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root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295280"/>
          <a:ext cx="8610480" cy="518148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Add -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spelling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152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time for our spelling tes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etly get your paper rea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k at the example that I will put under the document came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80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3:22Z</dcterms:modified>
  <cp:revision>23</cp:revision>
  <dc:subject/>
  <dc:title>Slide 1</dc:title>
</cp:coreProperties>
</file>