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8F0-9990-42B5-A0ED-0C34BDBC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E3B-BF94-4933-89C7-6183E2D6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EC4-FED0-4177-8060-3DA5F953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245-6A57-4326-83A3-51852997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65B-ED08-4005-8735-90CF1A4D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B73-9924-4523-B195-D023B3D9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3A3-AD69-4C37-8D0F-5EF22E64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0B3-19B5-4084-9E42-25F44C6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4D4-0E41-4636-BB91-3F527E61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AF5-6CEF-42CB-8193-C9560493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B5A-914F-4D53-9FE0-8058CE4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416-20EC-46A1-A32F-66BDD0D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811-B746-47E5-A7C7-ABE4C16B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8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92468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am finds a wall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It is a tall wall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315200" y="0"/>
            <a:ext cx="165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practice retelling a story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8610480" cy="51818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Wh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ktales are very old stories that people have told over and over again.  Folktales come form all over the world.  At first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each other the stories.  Later, the stories are written dow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rea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:\Documents and Settings\mworsham\Local Settings\Temporary Internet Files\Content.IE5\6FVLLJ06\MPj04327190000[1].jpg"/>
          <p:cNvPicPr/>
          <p:nvPr/>
        </p:nvPicPr>
        <p:blipFill>
          <a:blip r:embed="rId1"/>
          <a:stretch/>
        </p:blipFill>
        <p:spPr>
          <a:xfrm>
            <a:off x="5791320" y="1752480"/>
            <a:ext cx="3087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ommotion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happens when a lot of people are running around making a lot of noi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3" descr="noisy.gif"/>
          <p:cNvPicPr/>
          <p:nvPr/>
        </p:nvPicPr>
        <p:blipFill>
          <a:blip r:embed="rId1"/>
          <a:stretch/>
        </p:blipFill>
        <p:spPr>
          <a:xfrm>
            <a:off x="1143000" y="2362320"/>
            <a:ext cx="68054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ughter of the townspeople caused a lo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uldn’t caus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ing pot and pans together or waving to a friend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3" descr="muffle1.jpg"/>
          <p:cNvPicPr/>
          <p:nvPr/>
        </p:nvPicPr>
        <p:blipFill>
          <a:blip r:embed="rId1"/>
          <a:stretch/>
        </p:blipFill>
        <p:spPr>
          <a:xfrm>
            <a:off x="4114800" y="990720"/>
            <a:ext cx="3990960" cy="472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ound, you cover it up so it is not so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man was abl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 laughter by stuffing her scarf in her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ound would you try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ff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eautiful music or a noisy lawn mower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Content Placeholder 3" descr="overflowing_bathroom.jpg"/>
          <p:cNvPicPr/>
          <p:nvPr/>
        </p:nvPicPr>
        <p:blipFill>
          <a:blip r:embed="rId1"/>
          <a:stretch/>
        </p:blipFill>
        <p:spPr>
          <a:xfrm>
            <a:off x="3962520" y="1600200"/>
            <a:ext cx="4572000" cy="456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pouring out of its usua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your favorite part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room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crowd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cause a pon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oo much sun or too much rain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id the boy put under the st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the story funny or s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467480" y="152280"/>
            <a:ext cx="1447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– LA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picture of a place that is special to you. If you can think of more than one place draw it in your jour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Do You                 Do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s with –ed, -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609480" y="914400"/>
            <a:ext cx="28195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360" y="228600"/>
            <a:ext cx="67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ariant Vowel /o/ a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I say a word that ends with all put your thumb up.  If the word does not have all, but your thumb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mworsham\Local Settings\Temporary Internet Files\Content.IE5\K10BJNTG\MPj04331560000[1].jpg"/>
          <p:cNvPicPr/>
          <p:nvPr/>
        </p:nvPicPr>
        <p:blipFill>
          <a:blip r:embed="rId1"/>
          <a:stretch/>
        </p:blipFill>
        <p:spPr>
          <a:xfrm>
            <a:off x="3048120" y="1219320"/>
            <a:ext cx="5829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00040" y="1447560"/>
            <a:ext cx="2438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0400" y="228600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200400" y="22860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819520" y="28954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276720" y="2895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74320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76720" y="3505320"/>
            <a:ext cx="243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7432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200400" y="411480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419720" y="1219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the beginning of al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419720" y="2286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0" y="34290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f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19720" y="31240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0" y="44197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419720" y="41148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0" y="51814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343400" y="4952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60958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495680" y="579132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09-28T04:41:07Z</dcterms:modified>
  <cp:revision>34</cp:revision>
  <dc:subject/>
  <dc:title>Slide 1</dc:title>
</cp:coreProperties>
</file>