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633-B73E-41EA-BDE9-F43F7D58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C0E-A56D-4201-8FAA-C57465D7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812-DA8A-44F0-AFC6-40804334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7D9-DCAC-4313-8161-0797B432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73B-03AB-414B-88CF-B1DFE7B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1EC-A9EA-4283-9591-C28B5F2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FCA-873F-431E-99F6-CC0730B4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14E-A8E9-4F8D-B2C0-E790FA06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76A-DB43-4C70-BEBB-9835B75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C56-D0F1-4E52-85D5-561B4F0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4EC-221A-4323-9896-CD729AA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DE5-44F2-4BB4-A2C8-C3C1808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E9CC-B514-4BFD-991A-3845BDD5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30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67040" y="1066680"/>
            <a:ext cx="352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8229600" cy="4038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characteristics of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7913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retelling after small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adjust reading rate as a strategy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apply word knowledge to the reading of a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ff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fl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 shook his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 he held up his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one did not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you waiting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do 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lives 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________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yard has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generate complete, coherent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some ways people say “hello” to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y “hello” by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ll the People on our Str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dle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3000" y="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read words with the spelling pattern 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762120"/>
            <a:ext cx="8077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Spell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it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n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al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logs on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3000" y="0"/>
            <a:ext cx="152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nics Skill</a:t>
            </a:r>
            <a:br>
              <a:rPr sz="5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. 1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39720"/>
            <a:ext cx="54864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are these things alike?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ategorize words, actions, and object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5:33Z</dcterms:modified>
  <cp:revision>32</cp:revision>
  <dc:subject/>
  <dc:title>Slide 1</dc:title>
</cp:coreProperties>
</file>