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914-C944-441F-8F15-F9028C41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126-E4D9-4EE7-B33B-C7221567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7B2-735E-41E1-9D38-4EDEF04C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6CE-7690-4CEE-8AB6-5815B6F1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0B9-9AD6-49F7-8191-0A1E9D52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279-1AC1-4516-B9C8-4587D850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E4F-C12F-46AF-951D-00F5CB1E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E4C-842F-488B-995C-691D626C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FEE-DBD5-4811-8F06-C98D3379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D76-BF74-44A9-B1FA-2FB01C1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D99-7391-44BC-BC0F-3F7483BC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A15-078A-4095-97E1-0D29E840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2CAB-C321-4447-ACC0-D3AF68C3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48720" y="0"/>
            <a:ext cx="1295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ategorize words, actions, and object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nics Ski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204920"/>
            <a:ext cx="54864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o is a person you would like to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lik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et _________ 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is a big t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wn has lots of l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pl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ll the People on our Stree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solation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3000" y="0"/>
            <a:ext cx="152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read words with the spelling pattern 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0"/>
            <a:ext cx="80773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153280" y="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676520"/>
            <a:ext cx="3657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44197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called go to your seat.  Write the spelling words three times each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e spelling sound –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0"/>
            <a:ext cx="441936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1T04:45:48Z</dcterms:modified>
  <cp:revision>32</cp:revision>
  <dc:subject/>
  <dc:title>Slide 1</dc:title>
</cp:coreProperties>
</file>