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1BB9-A3BB-40FF-A8F1-B065A9376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DDB3-3553-4D9D-8AD5-7F0A0BA31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6E3A-199E-4783-B1AB-8B1812515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28C5-FC8F-4C01-BAF0-AECA01044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20F4-1BA6-4BB3-A3D7-9F03CC36C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B8D1-52FB-4033-B010-14164739C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4F6-82B4-4B34-9D0A-ADCD4771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64D-6507-4E86-98AD-2322E565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C02-77D8-46CF-AB70-BACAD955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FE0-9F25-4AE7-AEA1-ECC496B7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16B-3DB1-4E76-A045-B6D52674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DAE-08A2-4A16-B84B-1EC1DE3D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64D-D441-4D6B-9719-81CD68CC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61B-F3A8-46CD-887C-5B2022BC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479-9652-49ED-B1F0-BC2842B2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914-39A5-4FC8-8C27-B75FF2B8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7A62-1D83-4F72-A0DF-919A44B3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DB6-A892-49A2-B06C-86534CC8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4186-EFC8-44C5-8868-430C5FECD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6, Day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did not call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d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all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143000" y="34290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d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d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23623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25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26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s no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en 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s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een 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371600" y="34290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s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s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28600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h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29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30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457200" y="106668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ve no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oked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ve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looked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219320" y="34290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ve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ve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1752480" y="4800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34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355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838080" y="27432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066680" y="20574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66680" y="1447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838080" y="34290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838080" y="41148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838080" y="4724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762120" y="54100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724280" y="1600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4724280" y="2286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4724280" y="3429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4724280" y="41911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29200" y="167652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ontent Placeholder 2"/>
          <p:cNvSpPr/>
          <p:nvPr/>
        </p:nvSpPr>
        <p:spPr>
          <a:xfrm>
            <a:off x="380880" y="1600200"/>
            <a:ext cx="3200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gh-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loca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try t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oc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omething, you try to find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Content Placeholder 3" descr="look for.jpg"/>
          <p:cNvPicPr/>
          <p:nvPr/>
        </p:nvPicPr>
        <p:blipFill>
          <a:blip r:embed="rId1"/>
          <a:stretch/>
        </p:blipFill>
        <p:spPr>
          <a:xfrm>
            <a:off x="1676520" y="2362320"/>
            <a:ext cx="5715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lo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 places you would like to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locat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a globe.  Why would you like to find out where these places a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oc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mething in the classroom that is round.  Give directions that tell how classmates ca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oc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search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search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for something, you look for it.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ontent Placeholder 3" descr="search1.jpg"/>
          <p:cNvPicPr/>
          <p:nvPr/>
        </p:nvPicPr>
        <p:blipFill>
          <a:blip r:embed="rId1"/>
          <a:stretch/>
        </p:blipFill>
        <p:spPr>
          <a:xfrm>
            <a:off x="1752480" y="2057400"/>
            <a:ext cx="5613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about things that make you happy.  What are some things you enjo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n my signal, turn and talk with your partner using the following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enjoy 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nd you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arc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 hidden treasure.  Where are you and what are you look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store would you visit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your favorite g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use a computer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symbol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You can use a mark or a picture called a 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to stand for a word or an objec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ontent Placeholder 3" descr="Math_Symbol_Clipart.jpg"/>
          <p:cNvPicPr/>
          <p:nvPr/>
        </p:nvPicPr>
        <p:blipFill>
          <a:blip r:embed="rId1"/>
          <a:stretch/>
        </p:blipFill>
        <p:spPr>
          <a:xfrm>
            <a:off x="1828800" y="2133720"/>
            <a:ext cx="544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see at school.  What does it stand fo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up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at  stands for you.  Describe what it would look like and explain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d Sam throw the ba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m threw the b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057400" y="380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6858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riting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C:\Documents and Settings\mworsham\Local Settings\Temporary Internet Files\Content.IE5\K10BJNTG\MPj04327000000[1].jpg"/>
          <p:cNvPicPr/>
          <p:nvPr/>
        </p:nvPicPr>
        <p:blipFill>
          <a:blip r:embed="rId1"/>
          <a:stretch/>
        </p:blipFill>
        <p:spPr>
          <a:xfrm>
            <a:off x="533520" y="838080"/>
            <a:ext cx="2997000" cy="224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Documents and Settings\mworsham\Local Settings\Temporary Internet Files\Content.IE5\6FVLLJ06\MCBS01882_0000[1].wmf"/>
          <p:cNvPicPr/>
          <p:nvPr/>
        </p:nvPicPr>
        <p:blipFill>
          <a:blip r:embed="rId2"/>
          <a:stretch/>
        </p:blipFill>
        <p:spPr>
          <a:xfrm>
            <a:off x="6019920" y="914400"/>
            <a:ext cx="2438280" cy="2435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:\Documents and Settings\mworsham\Local Settings\Temporary Internet Files\Content.IE5\K10BJNTG\MPj04309600000[1].jpg"/>
          <p:cNvPicPr/>
          <p:nvPr/>
        </p:nvPicPr>
        <p:blipFill>
          <a:blip r:embed="rId3"/>
          <a:stretch/>
        </p:blipFill>
        <p:spPr>
          <a:xfrm>
            <a:off x="2743200" y="3214800"/>
            <a:ext cx="3898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Sentences About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a list of criteria for effective sentences abou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As I Was Going Alo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Documents and Settings\mworsham\Local Settings\Temporary Internet Files\Content.IE5\6FVLLJ06\MCj01542200000[1].wmf"/>
          <p:cNvPicPr/>
          <p:nvPr/>
        </p:nvPicPr>
        <p:blipFill>
          <a:blip r:embed="rId1"/>
          <a:stretch/>
        </p:blipFill>
        <p:spPr>
          <a:xfrm>
            <a:off x="457200" y="1066680"/>
            <a:ext cx="4272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28240"/>
            <a:ext cx="8381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view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1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‘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isolate the initial sound in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e Ident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s no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c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at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s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my c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600200" y="34290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28195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15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17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838080" y="106668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are not 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aren’t 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1143000" y="34290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21337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20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217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09-10-01T02:12:22Z</dcterms:modified>
  <cp:revision>48</cp:revision>
  <dc:subject/>
  <dc:title>Slide 1</dc:title>
</cp:coreProperties>
</file>