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5A0D-3009-41A8-B126-12B44B5E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5857-9F00-43E4-BC87-8AAF78CE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619-69C2-4B71-980F-E4367748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D845-64F0-4E47-81B8-F5D0CBD5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EA1-D829-4408-8EE7-B14B30B1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921F-5A43-406E-A139-124DE199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0976-67E9-4285-9683-DDDF50210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75B-FC94-4EA8-989A-2489536A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629-0870-4480-B504-7471C10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5833-D15D-4B3D-A827-88233CB8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9B6-C04E-42DE-8BBD-37B03ED2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99D-C94A-4063-B25C-4D6A08FB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EAAD-3C61-41BA-BA1F-48976B25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777-E6F7-4A4B-A908-B62D92E8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767-C756-4ED8-83BA-1ED3C2DD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34E-C66E-435E-A118-8BFFFE65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B90-DA69-4FDD-8AFE-9C9E3E5D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386-2626-422F-83F5-0DA18DFF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664-A377-48D7-86CF-13AE358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49E4-7BD0-47A9-97B9-3AFCF160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6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did not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d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all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143000" y="342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23623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8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9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no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n’t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r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21337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32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4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838080" y="1066680"/>
            <a:ext cx="762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 no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an’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oing to pl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143000" y="3429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n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27432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38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‘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838080" y="27432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066680" y="2057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066680" y="1447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83808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838080" y="4114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838080" y="47242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2120" y="54100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4724280" y="16002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4724280" y="2286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24280" y="34290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24280" y="4191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29200" y="167652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380880" y="160020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-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/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352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rial of the Ston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on the Ma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o You Do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9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29040" y="59896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magine a desk that is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overflowing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with all kinds of papers.  How would you go about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 locating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ne particular spelling p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Imagine that you want to take a nap.  You hear many birds causing a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outside.  What are some ways you could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muffle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00b050"/>
                </a:solidFill>
                <a:latin typeface="Arial"/>
              </a:rPr>
              <a:t>com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magine you want to cross a busy street.  You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earch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for a traffic light.  When you find the traffic light, what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symbol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ells you that it is safe to cross the stre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d Sam throw the 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am threw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57400" y="380880"/>
            <a:ext cx="49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etend you are visiting the town in “All on the Map.”   What would you do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n my signal, turn and talk with your partner using the following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_______ because 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ing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, say and writ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C:\Documents and Settings\mworsham\Local Settings\Temporary Internet Files\Content.IE5\K10BJNTG\MPj04327000000[1].jpg"/>
          <p:cNvPicPr/>
          <p:nvPr/>
        </p:nvPicPr>
        <p:blipFill>
          <a:blip r:embed="rId1"/>
          <a:stretch/>
        </p:blipFill>
        <p:spPr>
          <a:xfrm>
            <a:off x="533520" y="838080"/>
            <a:ext cx="2997000" cy="224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Documents and Settings\mworsham\Local Settings\Temporary Internet Files\Content.IE5\6FVLLJ06\MCBS01882_0000[1].wmf"/>
          <p:cNvPicPr/>
          <p:nvPr/>
        </p:nvPicPr>
        <p:blipFill>
          <a:blip r:embed="rId2"/>
          <a:stretch/>
        </p:blipFill>
        <p:spPr>
          <a:xfrm>
            <a:off x="6019920" y="914400"/>
            <a:ext cx="2438280" cy="2435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Documents and Settings\mworsham\Local Settings\Temporary Internet Files\Content.IE5\K10BJNTG\MPj04309600000[1].jpg"/>
          <p:cNvPicPr/>
          <p:nvPr/>
        </p:nvPicPr>
        <p:blipFill>
          <a:blip r:embed="rId3"/>
          <a:stretch/>
        </p:blipFill>
        <p:spPr>
          <a:xfrm>
            <a:off x="2743200" y="3214800"/>
            <a:ext cx="3898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Sentences About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a list of criteria for effective sentences about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s I Was Going Alo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:\Documents and Settings\mworsham\Local Settings\Temporary Internet Files\Content.IE5\6FVLLJ06\MCj01542200000[1].wmf"/>
          <p:cNvPicPr/>
          <p:nvPr/>
        </p:nvPicPr>
        <p:blipFill>
          <a:blip r:embed="rId1"/>
          <a:stretch/>
        </p:blipFill>
        <p:spPr>
          <a:xfrm>
            <a:off x="457200" y="1066680"/>
            <a:ext cx="4272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view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isolate the initial sound in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neme Id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28600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4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15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371600" y="34290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481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4191120" y="4724280"/>
            <a:ext cx="3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19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0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tractio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0666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 n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ve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219320" y="34290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n’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52480" y="4800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ha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105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63868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248520" y="48006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15416 0.00139 E">
                                      <p:cBhvr>
                                        <p:cTn id="23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4043E-006 L -0.2125 0.00139 E">
                                      <p:cBhvr>
                                        <p:cTn id="24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09-10-01T02:33:01Z</dcterms:modified>
  <cp:revision>50</cp:revision>
  <dc:subject/>
  <dc:title>Slide 1</dc:title>
</cp:coreProperties>
</file>