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73C-DC71-4E94-A5C1-6DCB92A8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437-9757-4C3B-9AE5-1BF8DFF1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0C0-B802-4975-8694-BFB4DB24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BB3-008C-426A-920B-704B351A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FAA-6C58-4880-A11B-A290810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E14-A763-4563-9E5C-EC915B64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743-5E55-461E-98C1-52AC082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94E-5EBF-45A1-A62C-2F69E21C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FEF-6BB4-420B-A9FA-84EE1132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B48-CC5A-4BA4-87BD-7BEE57E3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893-48B6-4EA3-8EDC-8E6CE1EE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838-F3CF-4444-9E6B-925DF765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B8F-40A4-4F05-80D7-C46F45126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066680"/>
            <a:ext cx="655308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590920"/>
            <a:ext cx="65530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11480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638680"/>
            <a:ext cx="655344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28600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809880"/>
            <a:ext cx="0" cy="3049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334120"/>
            <a:ext cx="0" cy="3045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1371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2895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419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5867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ttle Red Hen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barked the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I!” squeaked the m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 loud chorus they all said, “I will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lp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see ten red hen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9000" y="0"/>
            <a:ext cx="578196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01840" y="0"/>
            <a:ext cx="48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your favorite animal.  What is it?    Why do you like that animal be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like ___________ becaus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3000" y="0"/>
            <a:ext cx="1521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short sound of e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71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e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       begins with /e/ hold up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has /e/ in the middle hol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up the 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I say a word tha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ends with /e/ hold up the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gn languag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3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7:49Z</dcterms:modified>
  <cp:revision>42</cp:revision>
  <dc:subject/>
  <dc:title>Slide 1</dc:title>
</cp:coreProperties>
</file>