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CABC-008B-4814-873F-81DA34FD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15E9-5A1E-4E4B-A550-D395B03D2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1E11-51F7-496C-8675-B522B67F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1763-336A-4FA8-91AE-CE10CB927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BA3C-3575-4186-A7E4-B58E988AE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D312-40B8-4588-8CEF-37049CD2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E26A-5299-4BC6-9B36-19E84E0F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B27F-7BB0-4FF0-94E0-A878E6A8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9CDC-BBC4-46DA-A8BB-0E183278F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A063-72C3-4C64-8CF7-285D7EE08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74E4-7A73-447B-A76F-104B01DC4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8980-1BED-46C2-B2DB-1F6C52DD4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FCFE-C66D-4332-B609-70AC18416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FA0C-5088-467E-B796-E75F1341C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8BCC-C343-4CC8-B919-906ED6467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9953-7E66-4C1A-B9FF-6E1F49C1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DD8E-9493-4959-B4A4-B1E22072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01A7-D45B-4A09-BF8C-C0D29A793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5B4-F4DF-4CA8-AFFD-D54D8772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4670-567E-4308-969E-9F1E70EFF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F497-B1CF-49CE-BF81-2F99AE4F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6E14-D7E4-48D3-9D62-FBA6FAA8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AE4-3807-414B-8736-B257DB67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347-BD56-44B1-9237-E4A88C17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FE5D-A978-47C9-942A-D6268734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B1F-C45C-4B17-80F2-AD8E8775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A18-D629-426A-BF34-920501CE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A9E-DA32-4708-9D11-BD9461FF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80B-5848-414D-95CD-1CC02E5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FB1-97C1-47F9-B1ED-031D761C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69A-466C-427A-89C2-94668173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888-7CE5-4101-91D5-8E399F3A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909-7D94-4D32-9F70-C45B5C2F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6B3-47DD-43D6-80C1-37D1FD64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D613-81F3-4332-BB9A-DF593163D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4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7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70c0"/>
                </a:solidFill>
                <a:uFillTx/>
                <a:latin typeface="Arial"/>
              </a:rPr>
              <a:t>Phonics Sk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practice  decoding of words containing /e/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do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75248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b6bcf"/>
                </a:solidFill>
                <a:latin typeface="Comic Sans MS"/>
              </a:rPr>
              <a:t>Compare and Contrast </a:t>
            </a:r>
            <a:br>
              <a:rPr sz="4400"/>
            </a:br>
            <a:r>
              <a:rPr b="0" lang="en-US" sz="2800" spc="-1" strike="noStrike" u="sng">
                <a:solidFill>
                  <a:srgbClr val="6b6bcf"/>
                </a:solidFill>
                <a:uFillTx/>
                <a:latin typeface="Comic Sans MS"/>
              </a:rPr>
              <a:t>the characters in “The Little Red H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How the Ani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Comic Sans MS"/>
              </a:rPr>
              <a:t>Are A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w the Ani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7772400" y="0"/>
            <a:ext cx="1371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improve comprehension using a compare/contrast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6858000" y="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hot day,” said 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’s eat,” said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 add some of this,” said F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it is time to add this,” said P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fast!” said 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Writers add dialogue to show what characters say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477120" y="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nderstand how writers use dialogue to show which character is spe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ittle Red Hen Gets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What Little Red Hen 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What the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Say and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Janice\AppData\Local\Microsoft\Windows\Temporary Internet Files\Content.IE5\CVW5V2AD\MCj03493310000[1].wmf"/>
          <p:cNvPicPr/>
          <p:nvPr/>
        </p:nvPicPr>
        <p:blipFill>
          <a:blip r:embed="rId1"/>
          <a:stretch/>
        </p:blipFill>
        <p:spPr>
          <a:xfrm>
            <a:off x="533520" y="228600"/>
            <a:ext cx="1825560" cy="1509840"/>
          </a:xfrm>
          <a:prstGeom prst="rect">
            <a:avLst/>
          </a:prstGeom>
          <a:ln w="0">
            <a:noFill/>
          </a:ln>
        </p:spPr>
      </p:pic>
      <p:pic>
        <p:nvPicPr>
          <p:cNvPr id="105" name="MSj03884440000[1].wav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57200" y="2209680"/>
            <a:ext cx="4114800" cy="3934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5334120" y="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learn to ask questions to improve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1328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-360"/>
            <a:ext cx="7467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ttle Red Hen Gets Help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ext Box 4" descr=""/>
          <p:cNvPicPr/>
          <p:nvPr/>
        </p:nvPicPr>
        <p:blipFill>
          <a:blip r:embed="rId1"/>
          <a:stretch/>
        </p:blipFill>
        <p:spPr>
          <a:xfrm>
            <a:off x="1517760" y="-30240"/>
            <a:ext cx="634032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MPj04394930000[1]"/>
          <p:cNvPicPr/>
          <p:nvPr/>
        </p:nvPicPr>
        <p:blipFill>
          <a:blip r:embed="rId2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so bi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 is just my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 at that ____!  It is so ______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133720" y="3049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ntences Abou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ntence tell about things I have d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have words such a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sentence begins with a capital letter and ends with an end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things do you like to e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 like to eat _____ because 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Sentence About a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omic Sans MS"/>
              </a:rPr>
              <a:t>What is the best or most fun thing that happened to you this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did you do on your favorite va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Turn and talk about one of these with your partn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Write a Sentence About </a:t>
            </a:r>
            <a:br>
              <a:rPr sz="4400"/>
            </a:b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Your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raw a picture of the event you told your partner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Write a sentence about you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00800" y="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Objective: To understand that telling sentences can tell about events in one’s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Aloud –             “What Am I Baking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o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2331180000[1]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23000" y="0"/>
            <a:ext cx="15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t’s Clap 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10" descr="clapping.jpg"/>
          <p:cNvPicPr/>
          <p:nvPr/>
        </p:nvPicPr>
        <p:blipFill>
          <a:blip r:embed="rId1"/>
          <a:stretch/>
        </p:blipFill>
        <p:spPr>
          <a:xfrm>
            <a:off x="685800" y="121932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685800" y="33526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 to me say a word.  Then you say the word after me as you clap for each sound in the word.  Then slap your knees as you say the blended word.  Let’s try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cher’s turn:  “p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Your 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ap each sound as you say “p”  “e”  “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Your tu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ap your knees as you blend those sounds into the word “pe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e/ 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e/e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1"/>
          <p:cNvSpPr/>
          <p:nvPr/>
        </p:nvSpPr>
        <p:spPr>
          <a:xfrm>
            <a:off x="1905120" y="11430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e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bags on the b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e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kids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e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him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a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his m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best gift to h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m will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ge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467480" y="0"/>
            <a:ext cx="167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our spelling words in context with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1-14T03:36:38Z</dcterms:modified>
  <cp:revision>73</cp:revision>
  <dc:subject/>
  <dc:title>Slide 1</dc:title>
</cp:coreProperties>
</file>